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926-DBFD-4B66-99EE-6E972B74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B4C-8CCE-450F-89B0-A976465E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F92-4A2E-4A75-BE5B-8CDDD3B1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766-C7FF-4BB1-8C45-2659EED0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5FD-6E6F-410A-A236-C86B54C5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C2D-5477-46F3-B5CD-CD397CC4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42E-CF96-475A-9E65-5C1A4AA6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66A-3E26-4D17-8578-3CD0D85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815-F48E-4DCB-9CEE-CCC58CF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A8A-82F8-4372-8BC6-3256776C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44C-FC77-4A5B-8416-A6BEC00D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0EE-5E65-48B7-9847-789DA53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F836-F83A-4AD6-9643-4915BA34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7848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ould you write the following expressions in a simpler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x + 8 + 3x + 6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 7(4x - 7) + 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080" y="4308480"/>
            <a:ext cx="1886040" cy="388800"/>
          </a:xfrm>
          <a:custGeom>
            <a:avLst/>
            <a:gdLst/>
            <a:ahLst/>
            <a:rect l="l" t="t" r="r" b="b"/>
            <a:pathLst>
              <a:path w="5240" h="1080">
                <a:moveTo>
                  <a:pt x="6763" y="12192"/>
                </a:moveTo>
                <a:cubicBezTo>
                  <a:pt x="6833" y="12178"/>
                  <a:pt x="6876" y="12167"/>
                  <a:pt x="6953" y="12160"/>
                </a:cubicBezTo>
                <a:cubicBezTo>
                  <a:pt x="7053" y="12327"/>
                  <a:pt x="7000" y="12453"/>
                  <a:pt x="6794" y="12541"/>
                </a:cubicBezTo>
                <a:cubicBezTo>
                  <a:pt x="6693" y="12584"/>
                  <a:pt x="6583" y="12573"/>
                  <a:pt x="6477" y="12573"/>
                </a:cubicBezTo>
                <a:cubicBezTo>
                  <a:pt x="6579" y="12488"/>
                  <a:pt x="6715" y="12404"/>
                  <a:pt x="6858" y="12446"/>
                </a:cubicBezTo>
                <a:cubicBezTo>
                  <a:pt x="6934" y="12497"/>
                  <a:pt x="6949" y="12502"/>
                  <a:pt x="6985" y="12541"/>
                </a:cubicBezTo>
              </a:path>
              <a:path w="5240" h="1080">
                <a:moveTo>
                  <a:pt x="7302" y="12128"/>
                </a:moveTo>
                <a:cubicBezTo>
                  <a:pt x="7349" y="12067"/>
                  <a:pt x="7459" y="12029"/>
                  <a:pt x="7525" y="12128"/>
                </a:cubicBezTo>
                <a:cubicBezTo>
                  <a:pt x="7557" y="12176"/>
                  <a:pt x="7446" y="12215"/>
                  <a:pt x="7430" y="12224"/>
                </a:cubicBezTo>
                <a:cubicBezTo>
                  <a:pt x="7430" y="12235"/>
                  <a:pt x="7430" y="12245"/>
                  <a:pt x="7430" y="12256"/>
                </a:cubicBezTo>
                <a:cubicBezTo>
                  <a:pt x="7487" y="12256"/>
                  <a:pt x="7648" y="12283"/>
                  <a:pt x="7620" y="12382"/>
                </a:cubicBezTo>
                <a:cubicBezTo>
                  <a:pt x="7596" y="12467"/>
                  <a:pt x="7408" y="12549"/>
                  <a:pt x="7334" y="12510"/>
                </a:cubicBezTo>
                <a:cubicBezTo>
                  <a:pt x="7323" y="12489"/>
                  <a:pt x="7313" y="12467"/>
                  <a:pt x="7302" y="12446"/>
                </a:cubicBezTo>
              </a:path>
              <a:path w="5240" h="1080">
                <a:moveTo>
                  <a:pt x="7842" y="12224"/>
                </a:moveTo>
                <a:cubicBezTo>
                  <a:pt x="7903" y="12254"/>
                  <a:pt x="7973" y="12354"/>
                  <a:pt x="8033" y="12414"/>
                </a:cubicBezTo>
                <a:cubicBezTo>
                  <a:pt x="8101" y="12482"/>
                  <a:pt x="8104" y="12378"/>
                  <a:pt x="8128" y="12319"/>
                </a:cubicBezTo>
              </a:path>
              <a:path w="5240" h="1080">
                <a:moveTo>
                  <a:pt x="8128" y="12160"/>
                </a:moveTo>
                <a:cubicBezTo>
                  <a:pt x="8064" y="12257"/>
                  <a:pt x="7928" y="12374"/>
                  <a:pt x="7842" y="12478"/>
                </a:cubicBezTo>
                <a:cubicBezTo>
                  <a:pt x="7813" y="12507"/>
                  <a:pt x="7803" y="12513"/>
                  <a:pt x="7810" y="12541"/>
                </a:cubicBezTo>
              </a:path>
              <a:path w="5240" h="1080">
                <a:moveTo>
                  <a:pt x="8541" y="12287"/>
                </a:moveTo>
                <a:cubicBezTo>
                  <a:pt x="8541" y="12222"/>
                  <a:pt x="8565" y="12350"/>
                  <a:pt x="8572" y="12414"/>
                </a:cubicBezTo>
                <a:cubicBezTo>
                  <a:pt x="8578" y="12463"/>
                  <a:pt x="8572" y="12522"/>
                  <a:pt x="8572" y="12573"/>
                </a:cubicBezTo>
              </a:path>
              <a:path w="5240" h="1080">
                <a:moveTo>
                  <a:pt x="8446" y="12414"/>
                </a:moveTo>
                <a:cubicBezTo>
                  <a:pt x="8562" y="12414"/>
                  <a:pt x="8666" y="12409"/>
                  <a:pt x="8763" y="12382"/>
                </a:cubicBezTo>
                <a:cubicBezTo>
                  <a:pt x="8795" y="12382"/>
                  <a:pt x="8805" y="12382"/>
                  <a:pt x="8826" y="12382"/>
                </a:cubicBezTo>
              </a:path>
              <a:path w="5240" h="1080">
                <a:moveTo>
                  <a:pt x="9239" y="12097"/>
                </a:moveTo>
                <a:cubicBezTo>
                  <a:pt x="9239" y="12015"/>
                  <a:pt x="9145" y="12348"/>
                  <a:pt x="9144" y="12351"/>
                </a:cubicBezTo>
                <a:cubicBezTo>
                  <a:pt x="9110" y="12457"/>
                  <a:pt x="9045" y="12727"/>
                  <a:pt x="9208" y="12764"/>
                </a:cubicBezTo>
                <a:cubicBezTo>
                  <a:pt x="9364" y="12799"/>
                  <a:pt x="9556" y="12723"/>
                  <a:pt x="9620" y="12573"/>
                </a:cubicBezTo>
                <a:cubicBezTo>
                  <a:pt x="9620" y="12552"/>
                  <a:pt x="9620" y="12531"/>
                  <a:pt x="9620" y="12510"/>
                </a:cubicBezTo>
                <a:cubicBezTo>
                  <a:pt x="9476" y="12510"/>
                  <a:pt x="9412" y="12533"/>
                  <a:pt x="9334" y="12668"/>
                </a:cubicBezTo>
                <a:cubicBezTo>
                  <a:pt x="9299" y="12728"/>
                  <a:pt x="9424" y="12711"/>
                  <a:pt x="9493" y="12700"/>
                </a:cubicBezTo>
              </a:path>
              <a:path w="5240" h="1080">
                <a:moveTo>
                  <a:pt x="9842" y="12319"/>
                </a:moveTo>
                <a:cubicBezTo>
                  <a:pt x="9814" y="12405"/>
                  <a:pt x="9768" y="12547"/>
                  <a:pt x="9906" y="12573"/>
                </a:cubicBezTo>
                <a:cubicBezTo>
                  <a:pt x="10062" y="12602"/>
                  <a:pt x="10118" y="12516"/>
                  <a:pt x="10128" y="12382"/>
                </a:cubicBezTo>
                <a:cubicBezTo>
                  <a:pt x="10128" y="12351"/>
                  <a:pt x="10128" y="12341"/>
                  <a:pt x="10128" y="12382"/>
                </a:cubicBezTo>
                <a:cubicBezTo>
                  <a:pt x="10183" y="12518"/>
                  <a:pt x="10261" y="12709"/>
                  <a:pt x="10224" y="12859"/>
                </a:cubicBezTo>
                <a:cubicBezTo>
                  <a:pt x="10181" y="13034"/>
                  <a:pt x="9998" y="13113"/>
                  <a:pt x="9842" y="13018"/>
                </a:cubicBezTo>
                <a:cubicBezTo>
                  <a:pt x="9842" y="12975"/>
                  <a:pt x="9842" y="12954"/>
                  <a:pt x="9842" y="12922"/>
                </a:cubicBezTo>
              </a:path>
              <a:path w="5240" h="1080">
                <a:moveTo>
                  <a:pt x="10668" y="12192"/>
                </a:moveTo>
                <a:cubicBezTo>
                  <a:pt x="10679" y="12181"/>
                  <a:pt x="10689" y="12171"/>
                  <a:pt x="10700" y="12160"/>
                </a:cubicBezTo>
                <a:cubicBezTo>
                  <a:pt x="10718" y="12269"/>
                  <a:pt x="10770" y="12370"/>
                  <a:pt x="10795" y="12478"/>
                </a:cubicBezTo>
                <a:cubicBezTo>
                  <a:pt x="10795" y="12514"/>
                  <a:pt x="10792" y="12528"/>
                  <a:pt x="10763" y="12541"/>
                </a:cubicBezTo>
              </a:path>
              <a:path w="5240" h="1080">
                <a:moveTo>
                  <a:pt x="10509" y="12287"/>
                </a:moveTo>
                <a:cubicBezTo>
                  <a:pt x="10669" y="12280"/>
                  <a:pt x="10826" y="12265"/>
                  <a:pt x="10986" y="12256"/>
                </a:cubicBezTo>
              </a:path>
              <a:path w="5240" h="1080">
                <a:moveTo>
                  <a:pt x="11620" y="12033"/>
                </a:moveTo>
                <a:cubicBezTo>
                  <a:pt x="11474" y="11990"/>
                  <a:pt x="11383" y="12008"/>
                  <a:pt x="11240" y="12065"/>
                </a:cubicBezTo>
                <a:cubicBezTo>
                  <a:pt x="11356" y="12123"/>
                  <a:pt x="11646" y="12151"/>
                  <a:pt x="11716" y="12287"/>
                </a:cubicBezTo>
                <a:cubicBezTo>
                  <a:pt x="11716" y="12329"/>
                  <a:pt x="11716" y="12372"/>
                  <a:pt x="11716" y="12414"/>
                </a:cubicBezTo>
                <a:cubicBezTo>
                  <a:pt x="11623" y="12476"/>
                  <a:pt x="11431" y="12542"/>
                  <a:pt x="11494" y="12319"/>
                </a:cubicBezTo>
                <a:cubicBezTo>
                  <a:pt x="11527" y="12203"/>
                  <a:pt x="11627" y="12094"/>
                  <a:pt x="11652" y="11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54320" y="5475240"/>
            <a:ext cx="298440" cy="217440"/>
          </a:xfrm>
          <a:custGeom>
            <a:avLst/>
            <a:gdLst/>
            <a:ahLst/>
            <a:rect l="l" t="t" r="r" b="b"/>
            <a:pathLst>
              <a:path w="826" h="605">
                <a:moveTo>
                  <a:pt x="8826" y="15304"/>
                </a:moveTo>
                <a:cubicBezTo>
                  <a:pt x="8816" y="15395"/>
                  <a:pt x="8792" y="15470"/>
                  <a:pt x="8763" y="15558"/>
                </a:cubicBezTo>
                <a:cubicBezTo>
                  <a:pt x="8884" y="15580"/>
                  <a:pt x="8941" y="15603"/>
                  <a:pt x="9049" y="15558"/>
                </a:cubicBezTo>
              </a:path>
              <a:path w="826" h="605">
                <a:moveTo>
                  <a:pt x="8985" y="15208"/>
                </a:moveTo>
                <a:cubicBezTo>
                  <a:pt x="8957" y="15409"/>
                  <a:pt x="8937" y="15610"/>
                  <a:pt x="8922" y="15812"/>
                </a:cubicBezTo>
              </a:path>
              <a:path w="826" h="605">
                <a:moveTo>
                  <a:pt x="9557" y="15494"/>
                </a:moveTo>
                <a:cubicBezTo>
                  <a:pt x="9568" y="15430"/>
                  <a:pt x="9598" y="15240"/>
                  <a:pt x="9462" y="15240"/>
                </a:cubicBezTo>
                <a:cubicBezTo>
                  <a:pt x="9305" y="15240"/>
                  <a:pt x="9236" y="15365"/>
                  <a:pt x="9271" y="15494"/>
                </a:cubicBezTo>
                <a:cubicBezTo>
                  <a:pt x="9325" y="15692"/>
                  <a:pt x="9506" y="15461"/>
                  <a:pt x="9557" y="15399"/>
                </a:cubicBezTo>
                <a:cubicBezTo>
                  <a:pt x="9585" y="15370"/>
                  <a:pt x="9595" y="15364"/>
                  <a:pt x="9588" y="15335"/>
                </a:cubicBezTo>
                <a:cubicBezTo>
                  <a:pt x="9567" y="15486"/>
                  <a:pt x="9557" y="15626"/>
                  <a:pt x="9557" y="15780"/>
                </a:cubicBezTo>
                <a:cubicBezTo>
                  <a:pt x="9557" y="15791"/>
                  <a:pt x="9557" y="15801"/>
                  <a:pt x="9557" y="15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11520" y="5440320"/>
            <a:ext cx="628560" cy="228600"/>
          </a:xfrm>
          <a:custGeom>
            <a:avLst/>
            <a:gdLst/>
            <a:ahLst/>
            <a:rect l="l" t="t" r="r" b="b"/>
            <a:pathLst>
              <a:path w="1747" h="636">
                <a:moveTo>
                  <a:pt x="10160" y="15240"/>
                </a:moveTo>
                <a:cubicBezTo>
                  <a:pt x="10218" y="15413"/>
                  <a:pt x="10224" y="15566"/>
                  <a:pt x="10224" y="15748"/>
                </a:cubicBezTo>
              </a:path>
              <a:path w="1747" h="636">
                <a:moveTo>
                  <a:pt x="10033" y="15589"/>
                </a:moveTo>
                <a:cubicBezTo>
                  <a:pt x="10183" y="15578"/>
                  <a:pt x="10328" y="15540"/>
                  <a:pt x="10478" y="15526"/>
                </a:cubicBezTo>
              </a:path>
              <a:path w="1747" h="636">
                <a:moveTo>
                  <a:pt x="11144" y="15113"/>
                </a:moveTo>
                <a:cubicBezTo>
                  <a:pt x="11036" y="15129"/>
                  <a:pt x="10988" y="15133"/>
                  <a:pt x="10890" y="15113"/>
                </a:cubicBezTo>
                <a:cubicBezTo>
                  <a:pt x="10876" y="15210"/>
                  <a:pt x="10842" y="15304"/>
                  <a:pt x="10827" y="15399"/>
                </a:cubicBezTo>
                <a:cubicBezTo>
                  <a:pt x="10923" y="15399"/>
                  <a:pt x="10973" y="15354"/>
                  <a:pt x="11081" y="15367"/>
                </a:cubicBezTo>
                <a:cubicBezTo>
                  <a:pt x="11254" y="15387"/>
                  <a:pt x="11347" y="15509"/>
                  <a:pt x="11208" y="15653"/>
                </a:cubicBezTo>
                <a:cubicBezTo>
                  <a:pt x="11113" y="15751"/>
                  <a:pt x="11035" y="15733"/>
                  <a:pt x="10954" y="15653"/>
                </a:cubicBezTo>
              </a:path>
              <a:path w="1747" h="636">
                <a:moveTo>
                  <a:pt x="11494" y="15367"/>
                </a:moveTo>
                <a:cubicBezTo>
                  <a:pt x="11592" y="15426"/>
                  <a:pt x="11655" y="15573"/>
                  <a:pt x="11748" y="15653"/>
                </a:cubicBezTo>
                <a:cubicBezTo>
                  <a:pt x="11789" y="15688"/>
                  <a:pt x="11763" y="15699"/>
                  <a:pt x="11748" y="15653"/>
                </a:cubicBezTo>
              </a:path>
              <a:path w="1747" h="636">
                <a:moveTo>
                  <a:pt x="11748" y="15272"/>
                </a:moveTo>
                <a:cubicBezTo>
                  <a:pt x="11615" y="15387"/>
                  <a:pt x="11613" y="15529"/>
                  <a:pt x="11525" y="15684"/>
                </a:cubicBezTo>
                <a:cubicBezTo>
                  <a:pt x="11497" y="15713"/>
                  <a:pt x="11487" y="15719"/>
                  <a:pt x="11494" y="15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6000840"/>
            <a:ext cx="606600" cy="285840"/>
          </a:xfrm>
          <a:custGeom>
            <a:avLst/>
            <a:gdLst/>
            <a:ahLst/>
            <a:rect l="l" t="t" r="r" b="b"/>
            <a:pathLst>
              <a:path w="1684" h="794">
                <a:moveTo>
                  <a:pt x="6604" y="16764"/>
                </a:moveTo>
                <a:cubicBezTo>
                  <a:pt x="6559" y="16697"/>
                  <a:pt x="6705" y="16657"/>
                  <a:pt x="6794" y="16669"/>
                </a:cubicBezTo>
                <a:cubicBezTo>
                  <a:pt x="6815" y="16679"/>
                  <a:pt x="6837" y="16690"/>
                  <a:pt x="6858" y="16700"/>
                </a:cubicBezTo>
                <a:cubicBezTo>
                  <a:pt x="6882" y="16806"/>
                  <a:pt x="6873" y="16866"/>
                  <a:pt x="6794" y="16954"/>
                </a:cubicBezTo>
                <a:cubicBezTo>
                  <a:pt x="6764" y="16987"/>
                  <a:pt x="6729" y="17014"/>
                  <a:pt x="6699" y="17018"/>
                </a:cubicBezTo>
                <a:cubicBezTo>
                  <a:pt x="6689" y="17018"/>
                  <a:pt x="6678" y="17018"/>
                  <a:pt x="6668" y="17018"/>
                </a:cubicBezTo>
                <a:cubicBezTo>
                  <a:pt x="6695" y="16977"/>
                  <a:pt x="6799" y="16960"/>
                  <a:pt x="6858" y="17018"/>
                </a:cubicBezTo>
                <a:cubicBezTo>
                  <a:pt x="6948" y="17107"/>
                  <a:pt x="6960" y="17281"/>
                  <a:pt x="6858" y="17367"/>
                </a:cubicBezTo>
                <a:cubicBezTo>
                  <a:pt x="6749" y="17459"/>
                  <a:pt x="6674" y="17449"/>
                  <a:pt x="6572" y="17367"/>
                </a:cubicBezTo>
              </a:path>
              <a:path w="1684" h="794">
                <a:moveTo>
                  <a:pt x="7112" y="16764"/>
                </a:moveTo>
                <a:cubicBezTo>
                  <a:pt x="7185" y="16740"/>
                  <a:pt x="7202" y="16780"/>
                  <a:pt x="7334" y="16764"/>
                </a:cubicBezTo>
                <a:cubicBezTo>
                  <a:pt x="7429" y="16753"/>
                  <a:pt x="7512" y="16719"/>
                  <a:pt x="7588" y="16669"/>
                </a:cubicBezTo>
                <a:cubicBezTo>
                  <a:pt x="7588" y="16849"/>
                  <a:pt x="7563" y="16972"/>
                  <a:pt x="7525" y="17145"/>
                </a:cubicBezTo>
                <a:cubicBezTo>
                  <a:pt x="7502" y="17248"/>
                  <a:pt x="7476" y="17358"/>
                  <a:pt x="7461" y="17462"/>
                </a:cubicBezTo>
              </a:path>
              <a:path w="1684" h="794">
                <a:moveTo>
                  <a:pt x="7874" y="16986"/>
                </a:moveTo>
                <a:cubicBezTo>
                  <a:pt x="8000" y="17067"/>
                  <a:pt x="8076" y="17187"/>
                  <a:pt x="8192" y="17304"/>
                </a:cubicBezTo>
                <a:cubicBezTo>
                  <a:pt x="8262" y="17375"/>
                  <a:pt x="8239" y="17431"/>
                  <a:pt x="8255" y="17240"/>
                </a:cubicBezTo>
              </a:path>
              <a:path w="1684" h="794">
                <a:moveTo>
                  <a:pt x="8255" y="16764"/>
                </a:moveTo>
                <a:cubicBezTo>
                  <a:pt x="8186" y="16956"/>
                  <a:pt x="8132" y="17147"/>
                  <a:pt x="8064" y="17336"/>
                </a:cubicBezTo>
                <a:cubicBezTo>
                  <a:pt x="8054" y="17368"/>
                  <a:pt x="8043" y="17399"/>
                  <a:pt x="8033" y="174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5886360"/>
            <a:ext cx="582840" cy="343080"/>
          </a:xfrm>
          <a:custGeom>
            <a:avLst/>
            <a:gdLst/>
            <a:ahLst/>
            <a:rect l="l" t="t" r="r" b="b"/>
            <a:pathLst>
              <a:path w="1620" h="954">
                <a:moveTo>
                  <a:pt x="8700" y="17050"/>
                </a:moveTo>
                <a:cubicBezTo>
                  <a:pt x="8777" y="17050"/>
                  <a:pt x="8846" y="17026"/>
                  <a:pt x="8922" y="17018"/>
                </a:cubicBezTo>
              </a:path>
              <a:path w="1620" h="954">
                <a:moveTo>
                  <a:pt x="9271" y="16605"/>
                </a:moveTo>
                <a:cubicBezTo>
                  <a:pt x="9256" y="16694"/>
                  <a:pt x="9239" y="16766"/>
                  <a:pt x="9239" y="16859"/>
                </a:cubicBezTo>
                <a:cubicBezTo>
                  <a:pt x="9393" y="16925"/>
                  <a:pt x="9547" y="16850"/>
                  <a:pt x="9716" y="16828"/>
                </a:cubicBezTo>
                <a:cubicBezTo>
                  <a:pt x="9737" y="16828"/>
                  <a:pt x="9758" y="16828"/>
                  <a:pt x="9779" y="16828"/>
                </a:cubicBezTo>
              </a:path>
              <a:path w="1620" h="954">
                <a:moveTo>
                  <a:pt x="9716" y="16351"/>
                </a:moveTo>
                <a:cubicBezTo>
                  <a:pt x="9738" y="16535"/>
                  <a:pt x="9747" y="16704"/>
                  <a:pt x="9747" y="16891"/>
                </a:cubicBezTo>
                <a:cubicBezTo>
                  <a:pt x="9747" y="16986"/>
                  <a:pt x="9747" y="17208"/>
                  <a:pt x="9747" y="17113"/>
                </a:cubicBezTo>
              </a:path>
              <a:path w="1620" h="954">
                <a:moveTo>
                  <a:pt x="10287" y="16700"/>
                </a:moveTo>
                <a:cubicBezTo>
                  <a:pt x="10346" y="16623"/>
                  <a:pt x="10321" y="16538"/>
                  <a:pt x="10287" y="16446"/>
                </a:cubicBezTo>
                <a:cubicBezTo>
                  <a:pt x="10238" y="16311"/>
                  <a:pt x="10060" y="16314"/>
                  <a:pt x="9970" y="16415"/>
                </a:cubicBezTo>
                <a:cubicBezTo>
                  <a:pt x="9848" y="16552"/>
                  <a:pt x="9889" y="16660"/>
                  <a:pt x="9938" y="16796"/>
                </a:cubicBezTo>
                <a:cubicBezTo>
                  <a:pt x="10135" y="16811"/>
                  <a:pt x="10218" y="16747"/>
                  <a:pt x="10287" y="16542"/>
                </a:cubicBezTo>
                <a:cubicBezTo>
                  <a:pt x="10287" y="16510"/>
                  <a:pt x="10287" y="16499"/>
                  <a:pt x="10287" y="16478"/>
                </a:cubicBezTo>
                <a:cubicBezTo>
                  <a:pt x="10287" y="16753"/>
                  <a:pt x="10287" y="17029"/>
                  <a:pt x="10287" y="17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4920" y="4079880"/>
            <a:ext cx="639720" cy="46080"/>
          </a:xfrm>
          <a:custGeom>
            <a:avLst/>
            <a:gdLst/>
            <a:ahLst/>
            <a:rect l="l" t="t" r="r" b="b"/>
            <a:pathLst>
              <a:path w="1779" h="128">
                <a:moveTo>
                  <a:pt x="4096" y="11462"/>
                </a:moveTo>
                <a:cubicBezTo>
                  <a:pt x="4284" y="11462"/>
                  <a:pt x="4501" y="11486"/>
                  <a:pt x="4667" y="11430"/>
                </a:cubicBezTo>
                <a:cubicBezTo>
                  <a:pt x="4800" y="11385"/>
                  <a:pt x="5012" y="11427"/>
                  <a:pt x="5144" y="11398"/>
                </a:cubicBezTo>
                <a:cubicBezTo>
                  <a:pt x="5390" y="11345"/>
                  <a:pt x="5651" y="11467"/>
                  <a:pt x="5874" y="113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25680" y="4125960"/>
            <a:ext cx="366840" cy="12600"/>
          </a:xfrm>
          <a:custGeom>
            <a:avLst/>
            <a:gdLst/>
            <a:ahLst/>
            <a:rect l="l" t="t" r="r" b="b"/>
            <a:pathLst>
              <a:path w="1017" h="33">
                <a:moveTo>
                  <a:pt x="9239" y="11462"/>
                </a:moveTo>
                <a:cubicBezTo>
                  <a:pt x="9317" y="11462"/>
                  <a:pt x="9384" y="11488"/>
                  <a:pt x="9462" y="11494"/>
                </a:cubicBezTo>
                <a:cubicBezTo>
                  <a:pt x="9723" y="11513"/>
                  <a:pt x="9993" y="11494"/>
                  <a:pt x="10255" y="11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03520" y="4206960"/>
            <a:ext cx="217440" cy="228600"/>
          </a:xfrm>
          <a:custGeom>
            <a:avLst/>
            <a:gdLst/>
            <a:ahLst/>
            <a:rect l="l" t="t" r="r" b="b"/>
            <a:pathLst>
              <a:path w="604" h="636">
                <a:moveTo>
                  <a:pt x="4731" y="11716"/>
                </a:moveTo>
                <a:cubicBezTo>
                  <a:pt x="4731" y="11578"/>
                  <a:pt x="4731" y="11927"/>
                  <a:pt x="4731" y="12065"/>
                </a:cubicBezTo>
                <a:cubicBezTo>
                  <a:pt x="4731" y="12181"/>
                  <a:pt x="4731" y="12213"/>
                  <a:pt x="4731" y="12287"/>
                </a:cubicBezTo>
                <a:cubicBezTo>
                  <a:pt x="4926" y="12307"/>
                  <a:pt x="5076" y="12266"/>
                  <a:pt x="5270" y="12256"/>
                </a:cubicBezTo>
                <a:cubicBezTo>
                  <a:pt x="5302" y="12256"/>
                  <a:pt x="5313" y="12256"/>
                  <a:pt x="5334" y="12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9960" y="4321080"/>
            <a:ext cx="138240" cy="160560"/>
          </a:xfrm>
          <a:custGeom>
            <a:avLst/>
            <a:gdLst/>
            <a:ahLst/>
            <a:rect l="l" t="t" r="r" b="b"/>
            <a:pathLst>
              <a:path w="382" h="445">
                <a:moveTo>
                  <a:pt x="5112" y="12002"/>
                </a:moveTo>
                <a:cubicBezTo>
                  <a:pt x="5243" y="12023"/>
                  <a:pt x="5367" y="12083"/>
                  <a:pt x="5493" y="12128"/>
                </a:cubicBezTo>
                <a:cubicBezTo>
                  <a:pt x="5468" y="12251"/>
                  <a:pt x="5371" y="12369"/>
                  <a:pt x="5270" y="12446"/>
                </a:cubicBezTo>
                <a:cubicBezTo>
                  <a:pt x="5260" y="12446"/>
                  <a:pt x="5249" y="12446"/>
                  <a:pt x="5239" y="12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0000" y="5407200"/>
            <a:ext cx="126720" cy="136440"/>
          </a:xfrm>
          <a:custGeom>
            <a:avLst/>
            <a:gdLst/>
            <a:ahLst/>
            <a:rect l="l" t="t" r="r" b="b"/>
            <a:pathLst>
              <a:path w="351" h="382">
                <a:moveTo>
                  <a:pt x="4064" y="15018"/>
                </a:moveTo>
                <a:cubicBezTo>
                  <a:pt x="4097" y="15133"/>
                  <a:pt x="4040" y="15270"/>
                  <a:pt x="4000" y="15399"/>
                </a:cubicBezTo>
                <a:cubicBezTo>
                  <a:pt x="4116" y="15399"/>
                  <a:pt x="4254" y="15424"/>
                  <a:pt x="4350" y="15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2960" y="5429160"/>
            <a:ext cx="34920" cy="252360"/>
          </a:xfrm>
          <a:custGeom>
            <a:avLst/>
            <a:gdLst/>
            <a:ahLst/>
            <a:rect l="l" t="t" r="r" b="b"/>
            <a:pathLst>
              <a:path w="97" h="700">
                <a:moveTo>
                  <a:pt x="4318" y="15081"/>
                </a:moveTo>
                <a:cubicBezTo>
                  <a:pt x="4278" y="15304"/>
                  <a:pt x="4296" y="15492"/>
                  <a:pt x="4318" y="15716"/>
                </a:cubicBezTo>
                <a:cubicBezTo>
                  <a:pt x="4327" y="15806"/>
                  <a:pt x="4311" y="15735"/>
                  <a:pt x="4382" y="15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57440" y="5565600"/>
            <a:ext cx="92160" cy="9216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4604" y="15462"/>
                </a:moveTo>
                <a:cubicBezTo>
                  <a:pt x="4647" y="15488"/>
                  <a:pt x="4762" y="15591"/>
                  <a:pt x="4794" y="15653"/>
                </a:cubicBezTo>
                <a:cubicBezTo>
                  <a:pt x="4813" y="15691"/>
                  <a:pt x="4814" y="15701"/>
                  <a:pt x="4858" y="15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9400" y="5532480"/>
            <a:ext cx="70200" cy="149040"/>
          </a:xfrm>
          <a:custGeom>
            <a:avLst/>
            <a:gdLst/>
            <a:ahLst/>
            <a:rect l="l" t="t" r="r" b="b"/>
            <a:pathLst>
              <a:path w="192" h="414">
                <a:moveTo>
                  <a:pt x="4858" y="15367"/>
                </a:moveTo>
                <a:cubicBezTo>
                  <a:pt x="4807" y="15494"/>
                  <a:pt x="4769" y="15630"/>
                  <a:pt x="4699" y="15748"/>
                </a:cubicBezTo>
                <a:cubicBezTo>
                  <a:pt x="4688" y="15759"/>
                  <a:pt x="4678" y="15769"/>
                  <a:pt x="4667" y="157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22480" y="5521320"/>
            <a:ext cx="12600" cy="125280"/>
          </a:xfrm>
          <a:custGeom>
            <a:avLst/>
            <a:gdLst/>
            <a:ahLst/>
            <a:rect l="l" t="t" r="r" b="b"/>
            <a:pathLst>
              <a:path w="33" h="350">
                <a:moveTo>
                  <a:pt x="5620" y="15335"/>
                </a:moveTo>
                <a:cubicBezTo>
                  <a:pt x="5620" y="15462"/>
                  <a:pt x="5766" y="15629"/>
                  <a:pt x="5652" y="15684"/>
                </a:cubicBezTo>
                <a:cubicBezTo>
                  <a:pt x="5641" y="15684"/>
                  <a:pt x="5631" y="15684"/>
                  <a:pt x="5620" y="15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5589720"/>
            <a:ext cx="127080" cy="219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5461" y="15589"/>
                </a:moveTo>
                <a:cubicBezTo>
                  <a:pt x="5583" y="15589"/>
                  <a:pt x="5662" y="15553"/>
                  <a:pt x="5778" y="15526"/>
                </a:cubicBezTo>
                <a:cubicBezTo>
                  <a:pt x="5789" y="15526"/>
                  <a:pt x="5799" y="15526"/>
                  <a:pt x="5810" y="15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3440" y="4754520"/>
            <a:ext cx="354240" cy="149400"/>
          </a:xfrm>
          <a:custGeom>
            <a:avLst/>
            <a:gdLst/>
            <a:ahLst/>
            <a:rect l="l" t="t" r="r" b="b"/>
            <a:pathLst>
              <a:path w="986" h="414">
                <a:moveTo>
                  <a:pt x="6953" y="13589"/>
                </a:moveTo>
                <a:cubicBezTo>
                  <a:pt x="6968" y="13545"/>
                  <a:pt x="6998" y="13551"/>
                  <a:pt x="7017" y="13494"/>
                </a:cubicBezTo>
                <a:cubicBezTo>
                  <a:pt x="7031" y="13453"/>
                  <a:pt x="7063" y="13388"/>
                  <a:pt x="7112" y="13367"/>
                </a:cubicBezTo>
                <a:cubicBezTo>
                  <a:pt x="7148" y="13351"/>
                  <a:pt x="7192" y="13314"/>
                  <a:pt x="7239" y="13272"/>
                </a:cubicBezTo>
                <a:cubicBezTo>
                  <a:pt x="7283" y="13233"/>
                  <a:pt x="7369" y="13214"/>
                  <a:pt x="7430" y="13208"/>
                </a:cubicBezTo>
                <a:cubicBezTo>
                  <a:pt x="7519" y="13199"/>
                  <a:pt x="7682" y="13182"/>
                  <a:pt x="7747" y="13240"/>
                </a:cubicBezTo>
                <a:cubicBezTo>
                  <a:pt x="7802" y="13289"/>
                  <a:pt x="7839" y="13315"/>
                  <a:pt x="7874" y="13367"/>
                </a:cubicBezTo>
                <a:cubicBezTo>
                  <a:pt x="7905" y="13412"/>
                  <a:pt x="7932" y="13472"/>
                  <a:pt x="7938" y="13526"/>
                </a:cubicBezTo>
                <a:cubicBezTo>
                  <a:pt x="7941" y="13557"/>
                  <a:pt x="7938" y="13590"/>
                  <a:pt x="7938" y="136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8120" y="4800600"/>
            <a:ext cx="114480" cy="92160"/>
          </a:xfrm>
          <a:custGeom>
            <a:avLst/>
            <a:gdLst/>
            <a:ahLst/>
            <a:rect l="l" t="t" r="r" b="b"/>
            <a:pathLst>
              <a:path w="319" h="255">
                <a:moveTo>
                  <a:pt x="8001" y="13335"/>
                </a:moveTo>
                <a:cubicBezTo>
                  <a:pt x="8014" y="13412"/>
                  <a:pt x="8033" y="13477"/>
                  <a:pt x="8033" y="13557"/>
                </a:cubicBezTo>
                <a:cubicBezTo>
                  <a:pt x="8033" y="13568"/>
                  <a:pt x="8033" y="13578"/>
                  <a:pt x="8033" y="13589"/>
                </a:cubicBezTo>
                <a:cubicBezTo>
                  <a:pt x="7954" y="13589"/>
                  <a:pt x="7906" y="13576"/>
                  <a:pt x="7842" y="13557"/>
                </a:cubicBezTo>
                <a:cubicBezTo>
                  <a:pt x="7805" y="13546"/>
                  <a:pt x="7754" y="13557"/>
                  <a:pt x="7715" y="135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6800" y="5451480"/>
            <a:ext cx="171360" cy="230040"/>
          </a:xfrm>
          <a:custGeom>
            <a:avLst/>
            <a:gdLst/>
            <a:ahLst/>
            <a:rect l="l" t="t" r="r" b="b"/>
            <a:pathLst>
              <a:path w="477" h="636">
                <a:moveTo>
                  <a:pt x="6286" y="15176"/>
                </a:moveTo>
                <a:cubicBezTo>
                  <a:pt x="6320" y="15077"/>
                  <a:pt x="6289" y="15222"/>
                  <a:pt x="6350" y="15208"/>
                </a:cubicBezTo>
                <a:cubicBezTo>
                  <a:pt x="6550" y="15161"/>
                  <a:pt x="6656" y="15200"/>
                  <a:pt x="6604" y="15462"/>
                </a:cubicBezTo>
                <a:cubicBezTo>
                  <a:pt x="6557" y="15702"/>
                  <a:pt x="6326" y="15753"/>
                  <a:pt x="6128" y="15780"/>
                </a:cubicBezTo>
                <a:cubicBezTo>
                  <a:pt x="6199" y="15652"/>
                  <a:pt x="6268" y="15495"/>
                  <a:pt x="6445" y="15589"/>
                </a:cubicBezTo>
                <a:cubicBezTo>
                  <a:pt x="6532" y="15676"/>
                  <a:pt x="6560" y="15697"/>
                  <a:pt x="6572" y="157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5400" y="5497560"/>
            <a:ext cx="90360" cy="171360"/>
          </a:xfrm>
          <a:custGeom>
            <a:avLst/>
            <a:gdLst/>
            <a:ahLst/>
            <a:rect l="l" t="t" r="r" b="b"/>
            <a:pathLst>
              <a:path w="255" h="477">
                <a:moveTo>
                  <a:pt x="7017" y="15304"/>
                </a:moveTo>
                <a:cubicBezTo>
                  <a:pt x="6961" y="15220"/>
                  <a:pt x="6843" y="15320"/>
                  <a:pt x="6763" y="15367"/>
                </a:cubicBezTo>
                <a:cubicBezTo>
                  <a:pt x="6813" y="15499"/>
                  <a:pt x="7002" y="15498"/>
                  <a:pt x="7017" y="15653"/>
                </a:cubicBezTo>
                <a:cubicBezTo>
                  <a:pt x="7006" y="15674"/>
                  <a:pt x="6996" y="15695"/>
                  <a:pt x="6985" y="15716"/>
                </a:cubicBezTo>
                <a:cubicBezTo>
                  <a:pt x="6908" y="15755"/>
                  <a:pt x="6863" y="15651"/>
                  <a:pt x="6890" y="15558"/>
                </a:cubicBezTo>
                <a:cubicBezTo>
                  <a:pt x="6919" y="15456"/>
                  <a:pt x="6985" y="15408"/>
                  <a:pt x="6985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49520" y="5532480"/>
            <a:ext cx="136440" cy="125280"/>
          </a:xfrm>
          <a:custGeom>
            <a:avLst/>
            <a:gdLst/>
            <a:ahLst/>
            <a:rect l="l" t="t" r="r" b="b"/>
            <a:pathLst>
              <a:path w="382" h="350">
                <a:moveTo>
                  <a:pt x="7080" y="15399"/>
                </a:moveTo>
                <a:cubicBezTo>
                  <a:pt x="7150" y="15375"/>
                  <a:pt x="7281" y="15536"/>
                  <a:pt x="7366" y="15621"/>
                </a:cubicBezTo>
                <a:cubicBezTo>
                  <a:pt x="7399" y="15654"/>
                  <a:pt x="7451" y="15767"/>
                  <a:pt x="7461" y="15684"/>
                </a:cubicBezTo>
                <a:cubicBezTo>
                  <a:pt x="7461" y="15674"/>
                  <a:pt x="7461" y="15663"/>
                  <a:pt x="7461" y="15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3800" y="5510160"/>
            <a:ext cx="92160" cy="147600"/>
          </a:xfrm>
          <a:custGeom>
            <a:avLst/>
            <a:gdLst/>
            <a:ahLst/>
            <a:rect l="l" t="t" r="r" b="b"/>
            <a:pathLst>
              <a:path w="255" h="413">
                <a:moveTo>
                  <a:pt x="7461" y="15304"/>
                </a:moveTo>
                <a:cubicBezTo>
                  <a:pt x="7338" y="15395"/>
                  <a:pt x="7264" y="15536"/>
                  <a:pt x="7207" y="15684"/>
                </a:cubicBezTo>
                <a:cubicBezTo>
                  <a:pt x="7207" y="15695"/>
                  <a:pt x="7207" y="15705"/>
                  <a:pt x="7207" y="15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57680" y="5589720"/>
            <a:ext cx="149040" cy="11160"/>
          </a:xfrm>
          <a:custGeom>
            <a:avLst/>
            <a:gdLst/>
            <a:ahLst/>
            <a:rect l="l" t="t" r="r" b="b"/>
            <a:pathLst>
              <a:path w="413" h="33">
                <a:moveTo>
                  <a:pt x="7938" y="15558"/>
                </a:moveTo>
                <a:cubicBezTo>
                  <a:pt x="8039" y="15558"/>
                  <a:pt x="8124" y="15536"/>
                  <a:pt x="8223" y="15526"/>
                </a:cubicBezTo>
                <a:cubicBezTo>
                  <a:pt x="8297" y="15526"/>
                  <a:pt x="8308" y="15526"/>
                  <a:pt x="8350" y="15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018040"/>
            <a:ext cx="252360" cy="263520"/>
          </a:xfrm>
          <a:custGeom>
            <a:avLst/>
            <a:gdLst/>
            <a:ahLst/>
            <a:rect l="l" t="t" r="r" b="b"/>
            <a:pathLst>
              <a:path w="699" h="731">
                <a:moveTo>
                  <a:pt x="8954" y="14637"/>
                </a:moveTo>
                <a:cubicBezTo>
                  <a:pt x="9077" y="14682"/>
                  <a:pt x="9172" y="14672"/>
                  <a:pt x="9303" y="14637"/>
                </a:cubicBezTo>
                <a:cubicBezTo>
                  <a:pt x="9441" y="14600"/>
                  <a:pt x="9509" y="14510"/>
                  <a:pt x="9557" y="14383"/>
                </a:cubicBezTo>
                <a:cubicBezTo>
                  <a:pt x="9608" y="14250"/>
                  <a:pt x="9585" y="14208"/>
                  <a:pt x="9525" y="14097"/>
                </a:cubicBezTo>
                <a:cubicBezTo>
                  <a:pt x="9471" y="13997"/>
                  <a:pt x="9351" y="13959"/>
                  <a:pt x="9239" y="13938"/>
                </a:cubicBezTo>
                <a:cubicBezTo>
                  <a:pt x="9119" y="13916"/>
                  <a:pt x="9050" y="14024"/>
                  <a:pt x="8985" y="14097"/>
                </a:cubicBezTo>
                <a:cubicBezTo>
                  <a:pt x="8896" y="14197"/>
                  <a:pt x="8864" y="14308"/>
                  <a:pt x="8890" y="14446"/>
                </a:cubicBezTo>
                <a:cubicBezTo>
                  <a:pt x="8908" y="14543"/>
                  <a:pt x="8965" y="14584"/>
                  <a:pt x="9049" y="146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3440" y="4651200"/>
            <a:ext cx="949320" cy="252720"/>
          </a:xfrm>
          <a:custGeom>
            <a:avLst/>
            <a:gdLst/>
            <a:ahLst/>
            <a:rect l="l" t="t" r="r" b="b"/>
            <a:pathLst>
              <a:path w="2636" h="700">
                <a:moveTo>
                  <a:pt x="6953" y="13621"/>
                </a:moveTo>
                <a:cubicBezTo>
                  <a:pt x="6993" y="13581"/>
                  <a:pt x="7060" y="13477"/>
                  <a:pt x="7112" y="13430"/>
                </a:cubicBezTo>
                <a:cubicBezTo>
                  <a:pt x="7239" y="13315"/>
                  <a:pt x="7343" y="13234"/>
                  <a:pt x="7493" y="13144"/>
                </a:cubicBezTo>
                <a:cubicBezTo>
                  <a:pt x="7642" y="13055"/>
                  <a:pt x="7800" y="13028"/>
                  <a:pt x="7969" y="12986"/>
                </a:cubicBezTo>
                <a:cubicBezTo>
                  <a:pt x="8094" y="12955"/>
                  <a:pt x="8286" y="12903"/>
                  <a:pt x="8414" y="12922"/>
                </a:cubicBezTo>
                <a:cubicBezTo>
                  <a:pt x="8536" y="12940"/>
                  <a:pt x="8675" y="12959"/>
                  <a:pt x="8795" y="12986"/>
                </a:cubicBezTo>
                <a:cubicBezTo>
                  <a:pt x="8904" y="13010"/>
                  <a:pt x="9003" y="13060"/>
                  <a:pt x="9112" y="13081"/>
                </a:cubicBezTo>
                <a:cubicBezTo>
                  <a:pt x="9214" y="13100"/>
                  <a:pt x="9286" y="13165"/>
                  <a:pt x="9366" y="13240"/>
                </a:cubicBezTo>
                <a:cubicBezTo>
                  <a:pt x="9414" y="13285"/>
                  <a:pt x="9465" y="13341"/>
                  <a:pt x="9493" y="13398"/>
                </a:cubicBezTo>
                <a:cubicBezTo>
                  <a:pt x="9518" y="13449"/>
                  <a:pt x="9529" y="13510"/>
                  <a:pt x="9557" y="13557"/>
                </a:cubicBezTo>
                <a:cubicBezTo>
                  <a:pt x="9567" y="13568"/>
                  <a:pt x="9578" y="13578"/>
                  <a:pt x="9588" y="13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1760" y="4822920"/>
            <a:ext cx="114480" cy="92160"/>
          </a:xfrm>
          <a:custGeom>
            <a:avLst/>
            <a:gdLst/>
            <a:ahLst/>
            <a:rect l="l" t="t" r="r" b="b"/>
            <a:pathLst>
              <a:path w="319" h="255">
                <a:moveTo>
                  <a:pt x="9557" y="13398"/>
                </a:moveTo>
                <a:cubicBezTo>
                  <a:pt x="9622" y="13431"/>
                  <a:pt x="9660" y="13540"/>
                  <a:pt x="9684" y="13621"/>
                </a:cubicBezTo>
                <a:cubicBezTo>
                  <a:pt x="9684" y="13631"/>
                  <a:pt x="9684" y="13642"/>
                  <a:pt x="9684" y="13652"/>
                </a:cubicBezTo>
                <a:cubicBezTo>
                  <a:pt x="9558" y="13624"/>
                  <a:pt x="9486" y="13629"/>
                  <a:pt x="9366" y="13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ot the following (and connect to make a line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-4, -4), (-3, -3 1/2), (-2, -3), (1, -1 1/2), (4,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8229600" cy="51750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92120" y="3325680"/>
            <a:ext cx="8286840" cy="2641680"/>
          </a:xfrm>
          <a:custGeom>
            <a:avLst/>
            <a:gdLst/>
            <a:ahLst/>
            <a:rect l="l" t="t" r="r" b="b"/>
            <a:pathLst>
              <a:path w="23020" h="7336">
                <a:moveTo>
                  <a:pt x="1492" y="10668"/>
                </a:moveTo>
                <a:cubicBezTo>
                  <a:pt x="1430" y="10660"/>
                  <a:pt x="1418" y="10649"/>
                  <a:pt x="1365" y="10636"/>
                </a:cubicBezTo>
                <a:cubicBezTo>
                  <a:pt x="1430" y="10627"/>
                  <a:pt x="1459" y="10577"/>
                  <a:pt x="1524" y="10573"/>
                </a:cubicBezTo>
                <a:cubicBezTo>
                  <a:pt x="1776" y="10558"/>
                  <a:pt x="2028" y="10584"/>
                  <a:pt x="2254" y="10573"/>
                </a:cubicBezTo>
                <a:cubicBezTo>
                  <a:pt x="2574" y="10558"/>
                  <a:pt x="2884" y="10560"/>
                  <a:pt x="3207" y="10541"/>
                </a:cubicBezTo>
                <a:cubicBezTo>
                  <a:pt x="3325" y="10534"/>
                  <a:pt x="3439" y="10507"/>
                  <a:pt x="3556" y="10509"/>
                </a:cubicBezTo>
                <a:cubicBezTo>
                  <a:pt x="3713" y="10512"/>
                  <a:pt x="3873" y="10531"/>
                  <a:pt x="4032" y="10541"/>
                </a:cubicBezTo>
                <a:cubicBezTo>
                  <a:pt x="4161" y="10549"/>
                  <a:pt x="4282" y="10563"/>
                  <a:pt x="4413" y="10573"/>
                </a:cubicBezTo>
                <a:cubicBezTo>
                  <a:pt x="4582" y="10586"/>
                  <a:pt x="4754" y="10598"/>
                  <a:pt x="4921" y="10604"/>
                </a:cubicBezTo>
                <a:cubicBezTo>
                  <a:pt x="5199" y="10614"/>
                  <a:pt x="5469" y="10580"/>
                  <a:pt x="5747" y="10573"/>
                </a:cubicBezTo>
                <a:cubicBezTo>
                  <a:pt x="6069" y="10564"/>
                  <a:pt x="6382" y="10562"/>
                  <a:pt x="6699" y="10541"/>
                </a:cubicBezTo>
                <a:cubicBezTo>
                  <a:pt x="6934" y="10525"/>
                  <a:pt x="7160" y="10511"/>
                  <a:pt x="7398" y="10509"/>
                </a:cubicBezTo>
                <a:cubicBezTo>
                  <a:pt x="8256" y="10501"/>
                  <a:pt x="9133" y="10473"/>
                  <a:pt x="9970" y="10509"/>
                </a:cubicBezTo>
                <a:cubicBezTo>
                  <a:pt x="10290" y="10523"/>
                  <a:pt x="10600" y="10538"/>
                  <a:pt x="10922" y="10541"/>
                </a:cubicBezTo>
                <a:cubicBezTo>
                  <a:pt x="12724" y="10558"/>
                  <a:pt x="14528" y="10495"/>
                  <a:pt x="16320" y="10636"/>
                </a:cubicBezTo>
                <a:cubicBezTo>
                  <a:pt x="16602" y="10658"/>
                  <a:pt x="16895" y="10692"/>
                  <a:pt x="17177" y="10700"/>
                </a:cubicBezTo>
                <a:cubicBezTo>
                  <a:pt x="17548" y="10710"/>
                  <a:pt x="17919" y="10690"/>
                  <a:pt x="18288" y="10668"/>
                </a:cubicBezTo>
                <a:cubicBezTo>
                  <a:pt x="18563" y="10652"/>
                  <a:pt x="18840" y="10626"/>
                  <a:pt x="19114" y="10604"/>
                </a:cubicBezTo>
                <a:cubicBezTo>
                  <a:pt x="19390" y="10582"/>
                  <a:pt x="19663" y="10537"/>
                  <a:pt x="19939" y="10509"/>
                </a:cubicBezTo>
                <a:cubicBezTo>
                  <a:pt x="20127" y="10490"/>
                  <a:pt x="20321" y="10458"/>
                  <a:pt x="20510" y="10446"/>
                </a:cubicBezTo>
                <a:cubicBezTo>
                  <a:pt x="21288" y="10397"/>
                  <a:pt x="22123" y="10420"/>
                  <a:pt x="22892" y="10509"/>
                </a:cubicBezTo>
                <a:cubicBezTo>
                  <a:pt x="23071" y="10530"/>
                  <a:pt x="23249" y="10566"/>
                  <a:pt x="23432" y="10573"/>
                </a:cubicBezTo>
                <a:cubicBezTo>
                  <a:pt x="23655" y="10582"/>
                  <a:pt x="23899" y="10551"/>
                  <a:pt x="24098" y="10541"/>
                </a:cubicBezTo>
                <a:cubicBezTo>
                  <a:pt x="24119" y="10541"/>
                  <a:pt x="24141" y="10541"/>
                  <a:pt x="24162" y="10541"/>
                </a:cubicBezTo>
              </a:path>
              <a:path w="23020" h="7336">
                <a:moveTo>
                  <a:pt x="21812" y="10763"/>
                </a:moveTo>
                <a:cubicBezTo>
                  <a:pt x="21768" y="10835"/>
                  <a:pt x="21755" y="10931"/>
                  <a:pt x="21717" y="11017"/>
                </a:cubicBezTo>
                <a:cubicBezTo>
                  <a:pt x="21820" y="11061"/>
                  <a:pt x="21991" y="11060"/>
                  <a:pt x="22098" y="10986"/>
                </a:cubicBezTo>
                <a:cubicBezTo>
                  <a:pt x="22098" y="10975"/>
                  <a:pt x="22098" y="10965"/>
                  <a:pt x="22098" y="10954"/>
                </a:cubicBezTo>
              </a:path>
              <a:path w="23020" h="7336">
                <a:moveTo>
                  <a:pt x="22066" y="10732"/>
                </a:moveTo>
                <a:cubicBezTo>
                  <a:pt x="22049" y="10916"/>
                  <a:pt x="21970" y="11059"/>
                  <a:pt x="21939" y="11240"/>
                </a:cubicBezTo>
                <a:cubicBezTo>
                  <a:pt x="21939" y="11293"/>
                  <a:pt x="21939" y="11303"/>
                  <a:pt x="21939" y="11335"/>
                </a:cubicBezTo>
              </a:path>
              <a:path w="23020" h="7336">
                <a:moveTo>
                  <a:pt x="3016" y="16574"/>
                </a:moveTo>
                <a:cubicBezTo>
                  <a:pt x="3083" y="16540"/>
                  <a:pt x="3144" y="16533"/>
                  <a:pt x="3207" y="16510"/>
                </a:cubicBezTo>
                <a:cubicBezTo>
                  <a:pt x="3273" y="16486"/>
                  <a:pt x="3338" y="16434"/>
                  <a:pt x="3397" y="16415"/>
                </a:cubicBezTo>
                <a:cubicBezTo>
                  <a:pt x="3461" y="16394"/>
                  <a:pt x="3491" y="16399"/>
                  <a:pt x="3556" y="16351"/>
                </a:cubicBezTo>
                <a:cubicBezTo>
                  <a:pt x="3617" y="16306"/>
                  <a:pt x="3702" y="16241"/>
                  <a:pt x="3778" y="16224"/>
                </a:cubicBezTo>
                <a:cubicBezTo>
                  <a:pt x="3851" y="16208"/>
                  <a:pt x="3906" y="16213"/>
                  <a:pt x="3969" y="16192"/>
                </a:cubicBezTo>
                <a:cubicBezTo>
                  <a:pt x="4028" y="16172"/>
                  <a:pt x="4097" y="16150"/>
                  <a:pt x="4159" y="16129"/>
                </a:cubicBezTo>
                <a:cubicBezTo>
                  <a:pt x="4209" y="16112"/>
                  <a:pt x="4309" y="16086"/>
                  <a:pt x="4350" y="16066"/>
                </a:cubicBezTo>
                <a:cubicBezTo>
                  <a:pt x="4361" y="16055"/>
                  <a:pt x="4371" y="16045"/>
                  <a:pt x="4382" y="16034"/>
                </a:cubicBezTo>
              </a:path>
              <a:path w="23020" h="7336">
                <a:moveTo>
                  <a:pt x="4128" y="16066"/>
                </a:moveTo>
                <a:cubicBezTo>
                  <a:pt x="4158" y="16059"/>
                  <a:pt x="4276" y="15982"/>
                  <a:pt x="4350" y="15970"/>
                </a:cubicBezTo>
                <a:cubicBezTo>
                  <a:pt x="4529" y="15941"/>
                  <a:pt x="4685" y="15951"/>
                  <a:pt x="4858" y="15907"/>
                </a:cubicBezTo>
                <a:cubicBezTo>
                  <a:pt x="5066" y="15855"/>
                  <a:pt x="5217" y="15763"/>
                  <a:pt x="5398" y="15684"/>
                </a:cubicBezTo>
                <a:cubicBezTo>
                  <a:pt x="5494" y="15642"/>
                  <a:pt x="5559" y="15601"/>
                  <a:pt x="5652" y="15558"/>
                </a:cubicBezTo>
                <a:cubicBezTo>
                  <a:pt x="5816" y="15482"/>
                  <a:pt x="5961" y="15429"/>
                  <a:pt x="6128" y="15367"/>
                </a:cubicBezTo>
                <a:cubicBezTo>
                  <a:pt x="6181" y="15348"/>
                  <a:pt x="6233" y="15352"/>
                  <a:pt x="6286" y="15335"/>
                </a:cubicBezTo>
                <a:cubicBezTo>
                  <a:pt x="6430" y="15288"/>
                  <a:pt x="6560" y="15249"/>
                  <a:pt x="6699" y="15208"/>
                </a:cubicBezTo>
                <a:cubicBezTo>
                  <a:pt x="6774" y="15186"/>
                  <a:pt x="6847" y="15165"/>
                  <a:pt x="6922" y="15145"/>
                </a:cubicBezTo>
                <a:cubicBezTo>
                  <a:pt x="7009" y="15121"/>
                  <a:pt x="7093" y="15106"/>
                  <a:pt x="7176" y="15081"/>
                </a:cubicBezTo>
                <a:cubicBezTo>
                  <a:pt x="7232" y="15064"/>
                  <a:pt x="7227" y="15064"/>
                  <a:pt x="7271" y="15050"/>
                </a:cubicBezTo>
                <a:cubicBezTo>
                  <a:pt x="7454" y="14993"/>
                  <a:pt x="7644" y="14917"/>
                  <a:pt x="7810" y="14859"/>
                </a:cubicBezTo>
                <a:cubicBezTo>
                  <a:pt x="7864" y="14840"/>
                  <a:pt x="7943" y="14806"/>
                  <a:pt x="7969" y="14796"/>
                </a:cubicBezTo>
                <a:cubicBezTo>
                  <a:pt x="8038" y="14768"/>
                  <a:pt x="8123" y="14727"/>
                  <a:pt x="8192" y="14700"/>
                </a:cubicBezTo>
                <a:cubicBezTo>
                  <a:pt x="8285" y="14664"/>
                  <a:pt x="8394" y="14640"/>
                  <a:pt x="8477" y="14605"/>
                </a:cubicBezTo>
                <a:cubicBezTo>
                  <a:pt x="8516" y="14589"/>
                  <a:pt x="8523" y="14594"/>
                  <a:pt x="8572" y="14573"/>
                </a:cubicBezTo>
                <a:cubicBezTo>
                  <a:pt x="8798" y="14476"/>
                  <a:pt x="9013" y="14355"/>
                  <a:pt x="9239" y="14256"/>
                </a:cubicBezTo>
                <a:cubicBezTo>
                  <a:pt x="9430" y="14173"/>
                  <a:pt x="9617" y="14127"/>
                  <a:pt x="9811" y="14065"/>
                </a:cubicBezTo>
                <a:cubicBezTo>
                  <a:pt x="10126" y="13965"/>
                  <a:pt x="10450" y="13906"/>
                  <a:pt x="10763" y="13811"/>
                </a:cubicBezTo>
                <a:cubicBezTo>
                  <a:pt x="11080" y="13715"/>
                  <a:pt x="11403" y="13637"/>
                  <a:pt x="11716" y="13526"/>
                </a:cubicBezTo>
                <a:cubicBezTo>
                  <a:pt x="11838" y="13483"/>
                  <a:pt x="11945" y="13416"/>
                  <a:pt x="12065" y="13367"/>
                </a:cubicBezTo>
                <a:cubicBezTo>
                  <a:pt x="12405" y="13228"/>
                  <a:pt x="12735" y="13071"/>
                  <a:pt x="13081" y="12954"/>
                </a:cubicBezTo>
                <a:cubicBezTo>
                  <a:pt x="13167" y="12925"/>
                  <a:pt x="13250" y="12914"/>
                  <a:pt x="13335" y="12890"/>
                </a:cubicBezTo>
                <a:cubicBezTo>
                  <a:pt x="13409" y="12869"/>
                  <a:pt x="13507" y="12849"/>
                  <a:pt x="13589" y="12827"/>
                </a:cubicBezTo>
                <a:cubicBezTo>
                  <a:pt x="13685" y="12801"/>
                  <a:pt x="13779" y="12787"/>
                  <a:pt x="13875" y="12764"/>
                </a:cubicBezTo>
                <a:cubicBezTo>
                  <a:pt x="13983" y="12739"/>
                  <a:pt x="14088" y="12694"/>
                  <a:pt x="14192" y="12668"/>
                </a:cubicBezTo>
                <a:cubicBezTo>
                  <a:pt x="14273" y="12648"/>
                  <a:pt x="14366" y="12659"/>
                  <a:pt x="14446" y="12636"/>
                </a:cubicBezTo>
                <a:cubicBezTo>
                  <a:pt x="14532" y="12611"/>
                  <a:pt x="14615" y="12564"/>
                  <a:pt x="14700" y="12541"/>
                </a:cubicBezTo>
                <a:cubicBezTo>
                  <a:pt x="14777" y="12520"/>
                  <a:pt x="14848" y="12497"/>
                  <a:pt x="14922" y="12478"/>
                </a:cubicBezTo>
                <a:cubicBezTo>
                  <a:pt x="15018" y="12453"/>
                  <a:pt x="15133" y="12414"/>
                  <a:pt x="15240" y="12382"/>
                </a:cubicBezTo>
                <a:cubicBezTo>
                  <a:pt x="15425" y="12326"/>
                  <a:pt x="15623" y="12280"/>
                  <a:pt x="15812" y="12224"/>
                </a:cubicBezTo>
                <a:cubicBezTo>
                  <a:pt x="15902" y="12197"/>
                  <a:pt x="16006" y="12185"/>
                  <a:pt x="16097" y="12160"/>
                </a:cubicBezTo>
                <a:cubicBezTo>
                  <a:pt x="16248" y="12118"/>
                  <a:pt x="16402" y="12071"/>
                  <a:pt x="16542" y="12033"/>
                </a:cubicBezTo>
                <a:cubicBezTo>
                  <a:pt x="16649" y="12004"/>
                  <a:pt x="16748" y="11968"/>
                  <a:pt x="16859" y="11938"/>
                </a:cubicBezTo>
                <a:cubicBezTo>
                  <a:pt x="17000" y="11900"/>
                  <a:pt x="17131" y="11886"/>
                  <a:pt x="17272" y="11843"/>
                </a:cubicBezTo>
                <a:cubicBezTo>
                  <a:pt x="17707" y="11712"/>
                  <a:pt x="18149" y="11575"/>
                  <a:pt x="18574" y="11430"/>
                </a:cubicBezTo>
                <a:cubicBezTo>
                  <a:pt x="18948" y="11302"/>
                  <a:pt x="19289" y="11134"/>
                  <a:pt x="19653" y="11017"/>
                </a:cubicBezTo>
                <a:cubicBezTo>
                  <a:pt x="19767" y="10980"/>
                  <a:pt x="19888" y="10962"/>
                  <a:pt x="20002" y="10922"/>
                </a:cubicBezTo>
                <a:cubicBezTo>
                  <a:pt x="20256" y="10832"/>
                  <a:pt x="20519" y="10765"/>
                  <a:pt x="20764" y="10668"/>
                </a:cubicBezTo>
                <a:cubicBezTo>
                  <a:pt x="21157" y="10513"/>
                  <a:pt x="21521" y="10409"/>
                  <a:pt x="21908" y="10287"/>
                </a:cubicBezTo>
                <a:cubicBezTo>
                  <a:pt x="21910" y="10286"/>
                  <a:pt x="22001" y="10235"/>
                  <a:pt x="22034" y="10224"/>
                </a:cubicBezTo>
                <a:cubicBezTo>
                  <a:pt x="22215" y="10165"/>
                  <a:pt x="22397" y="10110"/>
                  <a:pt x="22574" y="10033"/>
                </a:cubicBezTo>
                <a:cubicBezTo>
                  <a:pt x="22770" y="9948"/>
                  <a:pt x="22950" y="9835"/>
                  <a:pt x="23146" y="9747"/>
                </a:cubicBezTo>
                <a:cubicBezTo>
                  <a:pt x="23266" y="9693"/>
                  <a:pt x="23411" y="9638"/>
                  <a:pt x="23527" y="9588"/>
                </a:cubicBezTo>
                <a:cubicBezTo>
                  <a:pt x="23662" y="9530"/>
                  <a:pt x="23810" y="9486"/>
                  <a:pt x="23940" y="9430"/>
                </a:cubicBezTo>
                <a:cubicBezTo>
                  <a:pt x="24040" y="9387"/>
                  <a:pt x="24127" y="9345"/>
                  <a:pt x="24225" y="9303"/>
                </a:cubicBezTo>
                <a:cubicBezTo>
                  <a:pt x="24276" y="9281"/>
                  <a:pt x="24336" y="9259"/>
                  <a:pt x="24384" y="9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39680" y="5840280"/>
            <a:ext cx="984240" cy="389160"/>
          </a:xfrm>
          <a:custGeom>
            <a:avLst/>
            <a:gdLst/>
            <a:ahLst/>
            <a:rect l="l" t="t" r="r" b="b"/>
            <a:pathLst>
              <a:path w="2732" h="1081">
                <a:moveTo>
                  <a:pt x="3556" y="16288"/>
                </a:moveTo>
                <a:cubicBezTo>
                  <a:pt x="3522" y="16297"/>
                  <a:pt x="3452" y="16310"/>
                  <a:pt x="3461" y="16351"/>
                </a:cubicBezTo>
                <a:cubicBezTo>
                  <a:pt x="3467" y="16379"/>
                  <a:pt x="3518" y="16541"/>
                  <a:pt x="3588" y="16510"/>
                </a:cubicBezTo>
                <a:cubicBezTo>
                  <a:pt x="3599" y="16499"/>
                  <a:pt x="3609" y="16489"/>
                  <a:pt x="3620" y="16478"/>
                </a:cubicBezTo>
                <a:cubicBezTo>
                  <a:pt x="3651" y="16372"/>
                  <a:pt x="3671" y="16334"/>
                  <a:pt x="3556" y="16288"/>
                </a:cubicBezTo>
                <a:cubicBezTo>
                  <a:pt x="3503" y="16267"/>
                  <a:pt x="3452" y="16329"/>
                  <a:pt x="3461" y="16383"/>
                </a:cubicBezTo>
                <a:cubicBezTo>
                  <a:pt x="3468" y="16424"/>
                  <a:pt x="3530" y="16465"/>
                  <a:pt x="3556" y="16478"/>
                </a:cubicBezTo>
                <a:cubicBezTo>
                  <a:pt x="3612" y="16423"/>
                  <a:pt x="3655" y="16326"/>
                  <a:pt x="3556" y="16256"/>
                </a:cubicBezTo>
                <a:cubicBezTo>
                  <a:pt x="3476" y="16199"/>
                  <a:pt x="3379" y="16252"/>
                  <a:pt x="3397" y="16351"/>
                </a:cubicBezTo>
                <a:cubicBezTo>
                  <a:pt x="3408" y="16383"/>
                  <a:pt x="3418" y="16414"/>
                  <a:pt x="3429" y="16446"/>
                </a:cubicBezTo>
                <a:cubicBezTo>
                  <a:pt x="3559" y="16473"/>
                  <a:pt x="3521" y="16363"/>
                  <a:pt x="3492" y="16256"/>
                </a:cubicBezTo>
                <a:cubicBezTo>
                  <a:pt x="3421" y="16268"/>
                  <a:pt x="3392" y="16321"/>
                  <a:pt x="3429" y="16415"/>
                </a:cubicBezTo>
                <a:cubicBezTo>
                  <a:pt x="3467" y="16452"/>
                  <a:pt x="3482" y="16455"/>
                  <a:pt x="3492" y="16383"/>
                </a:cubicBezTo>
              </a:path>
              <a:path w="2732" h="1081">
                <a:moveTo>
                  <a:pt x="3874" y="16669"/>
                </a:moveTo>
                <a:cubicBezTo>
                  <a:pt x="3782" y="16691"/>
                  <a:pt x="3756" y="16798"/>
                  <a:pt x="3746" y="16891"/>
                </a:cubicBezTo>
                <a:cubicBezTo>
                  <a:pt x="3735" y="16999"/>
                  <a:pt x="3772" y="17235"/>
                  <a:pt x="3874" y="17304"/>
                </a:cubicBezTo>
                <a:cubicBezTo>
                  <a:pt x="3884" y="17304"/>
                  <a:pt x="3895" y="17304"/>
                  <a:pt x="3905" y="17304"/>
                </a:cubicBezTo>
              </a:path>
              <a:path w="2732" h="1081">
                <a:moveTo>
                  <a:pt x="4000" y="16923"/>
                </a:moveTo>
                <a:cubicBezTo>
                  <a:pt x="4059" y="16923"/>
                  <a:pt x="4076" y="16897"/>
                  <a:pt x="4128" y="16891"/>
                </a:cubicBezTo>
                <a:cubicBezTo>
                  <a:pt x="4138" y="16891"/>
                  <a:pt x="4149" y="16891"/>
                  <a:pt x="4159" y="16891"/>
                </a:cubicBezTo>
              </a:path>
              <a:path w="2732" h="1081">
                <a:moveTo>
                  <a:pt x="4223" y="16732"/>
                </a:moveTo>
                <a:cubicBezTo>
                  <a:pt x="4235" y="16769"/>
                  <a:pt x="4264" y="16805"/>
                  <a:pt x="4286" y="16859"/>
                </a:cubicBezTo>
                <a:cubicBezTo>
                  <a:pt x="4333" y="16975"/>
                  <a:pt x="4410" y="16908"/>
                  <a:pt x="4508" y="16891"/>
                </a:cubicBezTo>
              </a:path>
              <a:path w="2732" h="1081">
                <a:moveTo>
                  <a:pt x="4477" y="16669"/>
                </a:moveTo>
                <a:cubicBezTo>
                  <a:pt x="4504" y="16805"/>
                  <a:pt x="4573" y="16922"/>
                  <a:pt x="4636" y="17050"/>
                </a:cubicBezTo>
                <a:cubicBezTo>
                  <a:pt x="4646" y="17071"/>
                  <a:pt x="4657" y="17092"/>
                  <a:pt x="4667" y="17113"/>
                </a:cubicBezTo>
              </a:path>
              <a:path w="2732" h="1081">
                <a:moveTo>
                  <a:pt x="4762" y="17082"/>
                </a:moveTo>
                <a:cubicBezTo>
                  <a:pt x="4805" y="17146"/>
                  <a:pt x="4875" y="17247"/>
                  <a:pt x="4826" y="17272"/>
                </a:cubicBezTo>
              </a:path>
              <a:path w="2732" h="1081">
                <a:moveTo>
                  <a:pt x="4890" y="16828"/>
                </a:moveTo>
                <a:cubicBezTo>
                  <a:pt x="4943" y="16828"/>
                  <a:pt x="4953" y="16828"/>
                  <a:pt x="4985" y="16828"/>
                </a:cubicBezTo>
              </a:path>
              <a:path w="2732" h="1081">
                <a:moveTo>
                  <a:pt x="5016" y="16700"/>
                </a:moveTo>
                <a:cubicBezTo>
                  <a:pt x="5025" y="16771"/>
                  <a:pt x="5024" y="16853"/>
                  <a:pt x="5112" y="16859"/>
                </a:cubicBezTo>
                <a:cubicBezTo>
                  <a:pt x="5238" y="16868"/>
                  <a:pt x="5257" y="16807"/>
                  <a:pt x="5270" y="16700"/>
                </a:cubicBezTo>
              </a:path>
              <a:path w="2732" h="1081">
                <a:moveTo>
                  <a:pt x="5207" y="16637"/>
                </a:moveTo>
                <a:cubicBezTo>
                  <a:pt x="5257" y="16761"/>
                  <a:pt x="5298" y="16871"/>
                  <a:pt x="5366" y="16986"/>
                </a:cubicBezTo>
                <a:cubicBezTo>
                  <a:pt x="5377" y="17007"/>
                  <a:pt x="5387" y="17029"/>
                  <a:pt x="5398" y="17050"/>
                </a:cubicBezTo>
              </a:path>
              <a:path w="2732" h="1081">
                <a:moveTo>
                  <a:pt x="5207" y="16574"/>
                </a:moveTo>
                <a:cubicBezTo>
                  <a:pt x="5362" y="16640"/>
                  <a:pt x="5518" y="16756"/>
                  <a:pt x="5588" y="16923"/>
                </a:cubicBezTo>
                <a:cubicBezTo>
                  <a:pt x="5655" y="17083"/>
                  <a:pt x="5597" y="17176"/>
                  <a:pt x="5524" y="17304"/>
                </a:cubicBezTo>
              </a:path>
              <a:path w="2732" h="1081">
                <a:moveTo>
                  <a:pt x="3016" y="16224"/>
                </a:moveTo>
                <a:cubicBezTo>
                  <a:pt x="2991" y="16348"/>
                  <a:pt x="2983" y="16476"/>
                  <a:pt x="2953" y="16605"/>
                </a:cubicBezTo>
                <a:cubicBezTo>
                  <a:pt x="2927" y="16683"/>
                  <a:pt x="2929" y="16701"/>
                  <a:pt x="2889" y="16732"/>
                </a:cubicBezTo>
                <a:cubicBezTo>
                  <a:pt x="2994" y="16732"/>
                  <a:pt x="3109" y="16714"/>
                  <a:pt x="3207" y="16764"/>
                </a:cubicBezTo>
                <a:cubicBezTo>
                  <a:pt x="3207" y="16796"/>
                  <a:pt x="3207" y="16806"/>
                  <a:pt x="3238" y="1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532480"/>
            <a:ext cx="331920" cy="307800"/>
          </a:xfrm>
          <a:custGeom>
            <a:avLst/>
            <a:gdLst/>
            <a:ahLst/>
            <a:rect l="l" t="t" r="r" b="b"/>
            <a:pathLst>
              <a:path w="922" h="858">
                <a:moveTo>
                  <a:pt x="5874" y="15589"/>
                </a:moveTo>
                <a:cubicBezTo>
                  <a:pt x="5973" y="15557"/>
                  <a:pt x="5854" y="15573"/>
                  <a:pt x="5842" y="15558"/>
                </a:cubicBezTo>
                <a:cubicBezTo>
                  <a:pt x="5825" y="15537"/>
                  <a:pt x="5855" y="15413"/>
                  <a:pt x="5778" y="15430"/>
                </a:cubicBezTo>
                <a:cubicBezTo>
                  <a:pt x="5691" y="15450"/>
                  <a:pt x="5736" y="15547"/>
                  <a:pt x="5747" y="15589"/>
                </a:cubicBezTo>
                <a:cubicBezTo>
                  <a:pt x="5842" y="15541"/>
                  <a:pt x="5797" y="15543"/>
                  <a:pt x="5747" y="15462"/>
                </a:cubicBezTo>
                <a:cubicBezTo>
                  <a:pt x="5737" y="15491"/>
                  <a:pt x="5718" y="15662"/>
                  <a:pt x="5810" y="15621"/>
                </a:cubicBezTo>
                <a:cubicBezTo>
                  <a:pt x="5919" y="15572"/>
                  <a:pt x="5822" y="15468"/>
                  <a:pt x="5810" y="15494"/>
                </a:cubicBezTo>
                <a:cubicBezTo>
                  <a:pt x="5765" y="15595"/>
                  <a:pt x="5912" y="15621"/>
                  <a:pt x="5906" y="15462"/>
                </a:cubicBezTo>
                <a:cubicBezTo>
                  <a:pt x="5895" y="15430"/>
                  <a:pt x="5885" y="15399"/>
                  <a:pt x="5874" y="15367"/>
                </a:cubicBezTo>
                <a:cubicBezTo>
                  <a:pt x="5773" y="15417"/>
                  <a:pt x="5821" y="15479"/>
                  <a:pt x="5906" y="15462"/>
                </a:cubicBezTo>
              </a:path>
              <a:path w="922" h="858">
                <a:moveTo>
                  <a:pt x="6001" y="15812"/>
                </a:moveTo>
                <a:cubicBezTo>
                  <a:pt x="5927" y="15947"/>
                  <a:pt x="5912" y="16073"/>
                  <a:pt x="5969" y="16224"/>
                </a:cubicBezTo>
                <a:cubicBezTo>
                  <a:pt x="6041" y="16188"/>
                  <a:pt x="6065" y="16168"/>
                  <a:pt x="6064" y="16097"/>
                </a:cubicBezTo>
              </a:path>
              <a:path w="922" h="858">
                <a:moveTo>
                  <a:pt x="6160" y="16066"/>
                </a:moveTo>
                <a:cubicBezTo>
                  <a:pt x="6234" y="16066"/>
                  <a:pt x="6259" y="16069"/>
                  <a:pt x="6318" y="16034"/>
                </a:cubicBezTo>
              </a:path>
              <a:path w="922" h="858">
                <a:moveTo>
                  <a:pt x="6382" y="15843"/>
                </a:moveTo>
                <a:cubicBezTo>
                  <a:pt x="6397" y="15814"/>
                  <a:pt x="6519" y="15713"/>
                  <a:pt x="6540" y="15812"/>
                </a:cubicBezTo>
                <a:cubicBezTo>
                  <a:pt x="6562" y="15915"/>
                  <a:pt x="6531" y="15993"/>
                  <a:pt x="6477" y="15938"/>
                </a:cubicBezTo>
                <a:cubicBezTo>
                  <a:pt x="6538" y="15908"/>
                  <a:pt x="6557" y="15898"/>
                  <a:pt x="6604" y="15907"/>
                </a:cubicBezTo>
                <a:cubicBezTo>
                  <a:pt x="6633" y="16035"/>
                  <a:pt x="6582" y="16139"/>
                  <a:pt x="6414" y="16129"/>
                </a:cubicBezTo>
                <a:cubicBezTo>
                  <a:pt x="6385" y="16100"/>
                  <a:pt x="6375" y="16094"/>
                  <a:pt x="6382" y="16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3440" y="5600880"/>
            <a:ext cx="685800" cy="263520"/>
          </a:xfrm>
          <a:custGeom>
            <a:avLst/>
            <a:gdLst/>
            <a:ahLst/>
            <a:rect l="l" t="t" r="r" b="b"/>
            <a:pathLst>
              <a:path w="1906" h="731">
                <a:moveTo>
                  <a:pt x="6953" y="16161"/>
                </a:moveTo>
                <a:cubicBezTo>
                  <a:pt x="6960" y="16215"/>
                  <a:pt x="6951" y="16362"/>
                  <a:pt x="6985" y="16224"/>
                </a:cubicBezTo>
              </a:path>
              <a:path w="1906" h="731">
                <a:moveTo>
                  <a:pt x="7112" y="16002"/>
                </a:moveTo>
                <a:cubicBezTo>
                  <a:pt x="7191" y="15962"/>
                  <a:pt x="7236" y="15933"/>
                  <a:pt x="7302" y="15875"/>
                </a:cubicBezTo>
              </a:path>
              <a:path w="1906" h="731">
                <a:moveTo>
                  <a:pt x="7430" y="15780"/>
                </a:moveTo>
                <a:cubicBezTo>
                  <a:pt x="7533" y="15793"/>
                  <a:pt x="7609" y="15781"/>
                  <a:pt x="7588" y="15907"/>
                </a:cubicBezTo>
                <a:cubicBezTo>
                  <a:pt x="7572" y="16001"/>
                  <a:pt x="7529" y="16052"/>
                  <a:pt x="7493" y="16034"/>
                </a:cubicBezTo>
                <a:cubicBezTo>
                  <a:pt x="7622" y="15948"/>
                  <a:pt x="7639" y="15974"/>
                  <a:pt x="7715" y="16097"/>
                </a:cubicBezTo>
                <a:cubicBezTo>
                  <a:pt x="7681" y="16123"/>
                  <a:pt x="7480" y="16275"/>
                  <a:pt x="7430" y="16192"/>
                </a:cubicBezTo>
                <a:cubicBezTo>
                  <a:pt x="7430" y="16171"/>
                  <a:pt x="7430" y="16150"/>
                  <a:pt x="7430" y="16129"/>
                </a:cubicBezTo>
              </a:path>
              <a:path w="1906" h="731">
                <a:moveTo>
                  <a:pt x="7938" y="15621"/>
                </a:moveTo>
                <a:cubicBezTo>
                  <a:pt x="7951" y="15717"/>
                  <a:pt x="7992" y="15811"/>
                  <a:pt x="8001" y="15907"/>
                </a:cubicBezTo>
                <a:cubicBezTo>
                  <a:pt x="8001" y="15917"/>
                  <a:pt x="8001" y="15928"/>
                  <a:pt x="8001" y="15938"/>
                </a:cubicBezTo>
              </a:path>
              <a:path w="1906" h="731">
                <a:moveTo>
                  <a:pt x="8255" y="15716"/>
                </a:moveTo>
                <a:cubicBezTo>
                  <a:pt x="8251" y="15799"/>
                  <a:pt x="8239" y="16243"/>
                  <a:pt x="8192" y="16097"/>
                </a:cubicBezTo>
              </a:path>
              <a:path w="1906" h="731">
                <a:moveTo>
                  <a:pt x="8350" y="15938"/>
                </a:moveTo>
                <a:cubicBezTo>
                  <a:pt x="8434" y="15911"/>
                  <a:pt x="8453" y="15901"/>
                  <a:pt x="8509" y="15907"/>
                </a:cubicBezTo>
                <a:cubicBezTo>
                  <a:pt x="8491" y="15996"/>
                  <a:pt x="8441" y="16059"/>
                  <a:pt x="8382" y="16129"/>
                </a:cubicBezTo>
                <a:cubicBezTo>
                  <a:pt x="8489" y="16106"/>
                  <a:pt x="8553" y="16081"/>
                  <a:pt x="8668" y="16066"/>
                </a:cubicBezTo>
              </a:path>
              <a:path w="1906" h="731">
                <a:moveTo>
                  <a:pt x="8541" y="15558"/>
                </a:moveTo>
                <a:cubicBezTo>
                  <a:pt x="8790" y="15681"/>
                  <a:pt x="8884" y="15802"/>
                  <a:pt x="8858" y="16097"/>
                </a:cubicBezTo>
                <a:cubicBezTo>
                  <a:pt x="8823" y="16168"/>
                  <a:pt x="8804" y="16189"/>
                  <a:pt x="8731" y="16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9640" y="5303880"/>
            <a:ext cx="81000" cy="125280"/>
          </a:xfrm>
          <a:custGeom>
            <a:avLst/>
            <a:gdLst/>
            <a:ahLst/>
            <a:rect l="l" t="t" r="r" b="b"/>
            <a:pathLst>
              <a:path w="223" h="350">
                <a:moveTo>
                  <a:pt x="8096" y="14764"/>
                </a:moveTo>
                <a:cubicBezTo>
                  <a:pt x="8080" y="14716"/>
                  <a:pt x="8049" y="14717"/>
                  <a:pt x="8033" y="14764"/>
                </a:cubicBezTo>
                <a:cubicBezTo>
                  <a:pt x="8008" y="14839"/>
                  <a:pt x="8085" y="15118"/>
                  <a:pt x="8192" y="14986"/>
                </a:cubicBezTo>
                <a:cubicBezTo>
                  <a:pt x="8260" y="14902"/>
                  <a:pt x="8197" y="14838"/>
                  <a:pt x="8160" y="14764"/>
                </a:cubicBezTo>
                <a:cubicBezTo>
                  <a:pt x="8094" y="14830"/>
                  <a:pt x="7987" y="14982"/>
                  <a:pt x="8064" y="15081"/>
                </a:cubicBezTo>
                <a:cubicBezTo>
                  <a:pt x="8085" y="15081"/>
                  <a:pt x="8107" y="15081"/>
                  <a:pt x="8128" y="15081"/>
                </a:cubicBezTo>
                <a:cubicBezTo>
                  <a:pt x="8139" y="15059"/>
                  <a:pt x="8199" y="14807"/>
                  <a:pt x="8096" y="14859"/>
                </a:cubicBezTo>
                <a:cubicBezTo>
                  <a:pt x="8078" y="14868"/>
                  <a:pt x="8045" y="15222"/>
                  <a:pt x="8128" y="14891"/>
                </a:cubicBezTo>
                <a:cubicBezTo>
                  <a:pt x="8137" y="14857"/>
                  <a:pt x="8063" y="14888"/>
                  <a:pt x="8096" y="14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5349960"/>
            <a:ext cx="731880" cy="296640"/>
          </a:xfrm>
          <a:custGeom>
            <a:avLst/>
            <a:gdLst/>
            <a:ahLst/>
            <a:rect l="l" t="t" r="r" b="b"/>
            <a:pathLst>
              <a:path w="2033" h="826">
                <a:moveTo>
                  <a:pt x="8954" y="14859"/>
                </a:moveTo>
                <a:cubicBezTo>
                  <a:pt x="8883" y="15046"/>
                  <a:pt x="8832" y="15272"/>
                  <a:pt x="8954" y="15462"/>
                </a:cubicBezTo>
                <a:cubicBezTo>
                  <a:pt x="8985" y="15462"/>
                  <a:pt x="8996" y="15462"/>
                  <a:pt x="9017" y="15462"/>
                </a:cubicBezTo>
              </a:path>
              <a:path w="2033" h="826">
                <a:moveTo>
                  <a:pt x="9208" y="15272"/>
                </a:moveTo>
                <a:cubicBezTo>
                  <a:pt x="9289" y="15313"/>
                  <a:pt x="9310" y="15301"/>
                  <a:pt x="9398" y="15272"/>
                </a:cubicBezTo>
              </a:path>
              <a:path w="2033" h="826">
                <a:moveTo>
                  <a:pt x="9430" y="15113"/>
                </a:moveTo>
                <a:cubicBezTo>
                  <a:pt x="9512" y="15113"/>
                  <a:pt x="9636" y="15116"/>
                  <a:pt x="9620" y="15240"/>
                </a:cubicBezTo>
                <a:cubicBezTo>
                  <a:pt x="9602" y="15376"/>
                  <a:pt x="9498" y="15429"/>
                  <a:pt x="9398" y="15462"/>
                </a:cubicBezTo>
                <a:cubicBezTo>
                  <a:pt x="9486" y="15387"/>
                  <a:pt x="9549" y="15369"/>
                  <a:pt x="9652" y="15462"/>
                </a:cubicBezTo>
                <a:cubicBezTo>
                  <a:pt x="9663" y="15473"/>
                  <a:pt x="9673" y="15483"/>
                  <a:pt x="9684" y="15494"/>
                </a:cubicBezTo>
              </a:path>
              <a:path w="2033" h="826">
                <a:moveTo>
                  <a:pt x="9842" y="15558"/>
                </a:moveTo>
                <a:cubicBezTo>
                  <a:pt x="9842" y="15632"/>
                  <a:pt x="9842" y="15685"/>
                  <a:pt x="9842" y="15621"/>
                </a:cubicBezTo>
              </a:path>
              <a:path w="2033" h="826">
                <a:moveTo>
                  <a:pt x="9938" y="15208"/>
                </a:moveTo>
                <a:cubicBezTo>
                  <a:pt x="9906" y="15208"/>
                  <a:pt x="9895" y="15208"/>
                  <a:pt x="9906" y="15240"/>
                </a:cubicBezTo>
                <a:cubicBezTo>
                  <a:pt x="9962" y="15229"/>
                  <a:pt x="10006" y="15215"/>
                  <a:pt x="10065" y="15208"/>
                </a:cubicBezTo>
              </a:path>
              <a:path w="2033" h="826">
                <a:moveTo>
                  <a:pt x="10319" y="15081"/>
                </a:moveTo>
                <a:cubicBezTo>
                  <a:pt x="10385" y="15081"/>
                  <a:pt x="10471" y="15046"/>
                  <a:pt x="10446" y="15145"/>
                </a:cubicBezTo>
                <a:cubicBezTo>
                  <a:pt x="10418" y="15200"/>
                  <a:pt x="10413" y="15215"/>
                  <a:pt x="10382" y="15240"/>
                </a:cubicBezTo>
                <a:cubicBezTo>
                  <a:pt x="10468" y="15223"/>
                  <a:pt x="10506" y="15215"/>
                  <a:pt x="10604" y="15208"/>
                </a:cubicBezTo>
                <a:cubicBezTo>
                  <a:pt x="10641" y="15392"/>
                  <a:pt x="10574" y="15431"/>
                  <a:pt x="10414" y="15526"/>
                </a:cubicBezTo>
                <a:cubicBezTo>
                  <a:pt x="10352" y="15557"/>
                  <a:pt x="10331" y="15570"/>
                  <a:pt x="10350" y="15494"/>
                </a:cubicBezTo>
              </a:path>
              <a:path w="2033" h="826">
                <a:moveTo>
                  <a:pt x="10604" y="14891"/>
                </a:moveTo>
                <a:cubicBezTo>
                  <a:pt x="10856" y="15047"/>
                  <a:pt x="11001" y="15209"/>
                  <a:pt x="10858" y="15526"/>
                </a:cubicBezTo>
                <a:cubicBezTo>
                  <a:pt x="10816" y="15579"/>
                  <a:pt x="10774" y="15631"/>
                  <a:pt x="10732" y="15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754200"/>
            <a:ext cx="1863720" cy="5681520"/>
          </a:xfrm>
          <a:custGeom>
            <a:avLst/>
            <a:gdLst/>
            <a:ahLst/>
            <a:rect l="l" t="t" r="r" b="b"/>
            <a:pathLst>
              <a:path w="5176" h="15780">
                <a:moveTo>
                  <a:pt x="12732" y="3524"/>
                </a:moveTo>
                <a:cubicBezTo>
                  <a:pt x="12744" y="3597"/>
                  <a:pt x="12720" y="3356"/>
                  <a:pt x="12732" y="3429"/>
                </a:cubicBezTo>
                <a:cubicBezTo>
                  <a:pt x="12751" y="3545"/>
                  <a:pt x="12750" y="3663"/>
                  <a:pt x="12764" y="3778"/>
                </a:cubicBezTo>
                <a:cubicBezTo>
                  <a:pt x="12783" y="3931"/>
                  <a:pt x="12805" y="4098"/>
                  <a:pt x="12827" y="4254"/>
                </a:cubicBezTo>
                <a:cubicBezTo>
                  <a:pt x="12840" y="4349"/>
                  <a:pt x="12854" y="4447"/>
                  <a:pt x="12859" y="4540"/>
                </a:cubicBezTo>
                <a:cubicBezTo>
                  <a:pt x="12873" y="4817"/>
                  <a:pt x="12897" y="5131"/>
                  <a:pt x="12890" y="5398"/>
                </a:cubicBezTo>
                <a:cubicBezTo>
                  <a:pt x="12885" y="5580"/>
                  <a:pt x="12861" y="5753"/>
                  <a:pt x="12859" y="5937"/>
                </a:cubicBezTo>
                <a:cubicBezTo>
                  <a:pt x="12857" y="6110"/>
                  <a:pt x="12847" y="6275"/>
                  <a:pt x="12827" y="6445"/>
                </a:cubicBezTo>
                <a:cubicBezTo>
                  <a:pt x="12809" y="6593"/>
                  <a:pt x="12811" y="6741"/>
                  <a:pt x="12795" y="6890"/>
                </a:cubicBezTo>
                <a:cubicBezTo>
                  <a:pt x="12779" y="7042"/>
                  <a:pt x="12740" y="7210"/>
                  <a:pt x="12732" y="7366"/>
                </a:cubicBezTo>
                <a:cubicBezTo>
                  <a:pt x="12691" y="8121"/>
                  <a:pt x="12750" y="8874"/>
                  <a:pt x="12668" y="9620"/>
                </a:cubicBezTo>
                <a:cubicBezTo>
                  <a:pt x="12651" y="9770"/>
                  <a:pt x="12653" y="9916"/>
                  <a:pt x="12636" y="10065"/>
                </a:cubicBezTo>
                <a:cubicBezTo>
                  <a:pt x="12618" y="10222"/>
                  <a:pt x="12571" y="10382"/>
                  <a:pt x="12573" y="10541"/>
                </a:cubicBezTo>
                <a:cubicBezTo>
                  <a:pt x="12574" y="10662"/>
                  <a:pt x="12610" y="10766"/>
                  <a:pt x="12605" y="10890"/>
                </a:cubicBezTo>
                <a:cubicBezTo>
                  <a:pt x="12601" y="10990"/>
                  <a:pt x="12568" y="11074"/>
                  <a:pt x="12573" y="11176"/>
                </a:cubicBezTo>
                <a:cubicBezTo>
                  <a:pt x="12580" y="11326"/>
                  <a:pt x="12602" y="11467"/>
                  <a:pt x="12605" y="11620"/>
                </a:cubicBezTo>
                <a:cubicBezTo>
                  <a:pt x="12612" y="11940"/>
                  <a:pt x="12556" y="12257"/>
                  <a:pt x="12573" y="12573"/>
                </a:cubicBezTo>
                <a:cubicBezTo>
                  <a:pt x="12582" y="12734"/>
                  <a:pt x="12573" y="12862"/>
                  <a:pt x="12573" y="13018"/>
                </a:cubicBezTo>
                <a:cubicBezTo>
                  <a:pt x="12573" y="13193"/>
                  <a:pt x="12586" y="13361"/>
                  <a:pt x="12605" y="13526"/>
                </a:cubicBezTo>
                <a:cubicBezTo>
                  <a:pt x="12617" y="13634"/>
                  <a:pt x="12614" y="13737"/>
                  <a:pt x="12636" y="13843"/>
                </a:cubicBezTo>
                <a:cubicBezTo>
                  <a:pt x="12659" y="13958"/>
                  <a:pt x="12683" y="14073"/>
                  <a:pt x="12700" y="14192"/>
                </a:cubicBezTo>
                <a:cubicBezTo>
                  <a:pt x="12715" y="14298"/>
                  <a:pt x="12727" y="14405"/>
                  <a:pt x="12732" y="14510"/>
                </a:cubicBezTo>
                <a:cubicBezTo>
                  <a:pt x="12750" y="14870"/>
                  <a:pt x="12751" y="15232"/>
                  <a:pt x="12764" y="15589"/>
                </a:cubicBezTo>
                <a:cubicBezTo>
                  <a:pt x="12774" y="15849"/>
                  <a:pt x="12765" y="16098"/>
                  <a:pt x="12795" y="16351"/>
                </a:cubicBezTo>
                <a:cubicBezTo>
                  <a:pt x="12814" y="16511"/>
                  <a:pt x="12813" y="16667"/>
                  <a:pt x="12827" y="16828"/>
                </a:cubicBezTo>
                <a:cubicBezTo>
                  <a:pt x="12836" y="16935"/>
                  <a:pt x="12846" y="17038"/>
                  <a:pt x="12859" y="17145"/>
                </a:cubicBezTo>
                <a:cubicBezTo>
                  <a:pt x="12871" y="17243"/>
                  <a:pt x="12877" y="17332"/>
                  <a:pt x="12890" y="17431"/>
                </a:cubicBezTo>
                <a:cubicBezTo>
                  <a:pt x="12900" y="17509"/>
                  <a:pt x="12914" y="17556"/>
                  <a:pt x="12922" y="17621"/>
                </a:cubicBezTo>
                <a:cubicBezTo>
                  <a:pt x="12933" y="17707"/>
                  <a:pt x="12941" y="17803"/>
                  <a:pt x="12954" y="17875"/>
                </a:cubicBezTo>
                <a:cubicBezTo>
                  <a:pt x="12954" y="17865"/>
                  <a:pt x="12954" y="17854"/>
                  <a:pt x="12954" y="17844"/>
                </a:cubicBezTo>
              </a:path>
              <a:path w="5176" h="15780">
                <a:moveTo>
                  <a:pt x="12478" y="3238"/>
                </a:moveTo>
                <a:cubicBezTo>
                  <a:pt x="12478" y="3172"/>
                  <a:pt x="12460" y="3170"/>
                  <a:pt x="12446" y="3143"/>
                </a:cubicBezTo>
                <a:cubicBezTo>
                  <a:pt x="12412" y="3077"/>
                  <a:pt x="12509" y="3203"/>
                  <a:pt x="12541" y="3270"/>
                </a:cubicBezTo>
                <a:cubicBezTo>
                  <a:pt x="12552" y="3302"/>
                  <a:pt x="12562" y="3334"/>
                  <a:pt x="12573" y="3366"/>
                </a:cubicBezTo>
              </a:path>
              <a:path w="5176" h="15780">
                <a:moveTo>
                  <a:pt x="12668" y="3048"/>
                </a:moveTo>
                <a:cubicBezTo>
                  <a:pt x="12668" y="3178"/>
                  <a:pt x="12640" y="3303"/>
                  <a:pt x="12605" y="3429"/>
                </a:cubicBezTo>
                <a:cubicBezTo>
                  <a:pt x="12583" y="3508"/>
                  <a:pt x="12573" y="3519"/>
                  <a:pt x="12573" y="3588"/>
                </a:cubicBezTo>
              </a:path>
              <a:path w="5176" h="15780">
                <a:moveTo>
                  <a:pt x="15050" y="10858"/>
                </a:moveTo>
                <a:cubicBezTo>
                  <a:pt x="14974" y="11028"/>
                  <a:pt x="14946" y="11194"/>
                  <a:pt x="14891" y="11366"/>
                </a:cubicBezTo>
                <a:cubicBezTo>
                  <a:pt x="14891" y="11356"/>
                  <a:pt x="14891" y="11345"/>
                  <a:pt x="14891" y="11335"/>
                </a:cubicBezTo>
              </a:path>
              <a:path w="5176" h="15780">
                <a:moveTo>
                  <a:pt x="17304" y="10890"/>
                </a:moveTo>
                <a:cubicBezTo>
                  <a:pt x="17275" y="10900"/>
                  <a:pt x="17244" y="11013"/>
                  <a:pt x="17208" y="10986"/>
                </a:cubicBezTo>
                <a:cubicBezTo>
                  <a:pt x="17208" y="10975"/>
                  <a:pt x="17208" y="10965"/>
                  <a:pt x="17208" y="10954"/>
                </a:cubicBezTo>
                <a:cubicBezTo>
                  <a:pt x="17313" y="10905"/>
                  <a:pt x="17582" y="10780"/>
                  <a:pt x="17431" y="11049"/>
                </a:cubicBezTo>
                <a:cubicBezTo>
                  <a:pt x="17369" y="11159"/>
                  <a:pt x="17177" y="11367"/>
                  <a:pt x="17082" y="11303"/>
                </a:cubicBezTo>
                <a:cubicBezTo>
                  <a:pt x="17169" y="11177"/>
                  <a:pt x="17306" y="11094"/>
                  <a:pt x="17431" y="11271"/>
                </a:cubicBezTo>
                <a:cubicBezTo>
                  <a:pt x="17506" y="11378"/>
                  <a:pt x="17402" y="11437"/>
                  <a:pt x="17526" y="11335"/>
                </a:cubicBezTo>
              </a:path>
              <a:path w="5176" h="15780">
                <a:moveTo>
                  <a:pt x="13018" y="9017"/>
                </a:moveTo>
                <a:cubicBezTo>
                  <a:pt x="13018" y="9065"/>
                  <a:pt x="13018" y="9363"/>
                  <a:pt x="13018" y="9303"/>
                </a:cubicBezTo>
              </a:path>
              <a:path w="5176" h="15780">
                <a:moveTo>
                  <a:pt x="13018" y="7525"/>
                </a:moveTo>
                <a:cubicBezTo>
                  <a:pt x="13052" y="7454"/>
                  <a:pt x="13071" y="7433"/>
                  <a:pt x="13144" y="7461"/>
                </a:cubicBezTo>
                <a:cubicBezTo>
                  <a:pt x="13224" y="7608"/>
                  <a:pt x="13246" y="7831"/>
                  <a:pt x="13049" y="7938"/>
                </a:cubicBezTo>
                <a:cubicBezTo>
                  <a:pt x="13017" y="7938"/>
                  <a:pt x="12986" y="7938"/>
                  <a:pt x="12954" y="7938"/>
                </a:cubicBezTo>
                <a:cubicBezTo>
                  <a:pt x="12982" y="7796"/>
                  <a:pt x="13077" y="7796"/>
                  <a:pt x="13208" y="7842"/>
                </a:cubicBezTo>
                <a:cubicBezTo>
                  <a:pt x="13250" y="7857"/>
                  <a:pt x="13240" y="7944"/>
                  <a:pt x="13240" y="7874"/>
                </a:cubicBezTo>
              </a:path>
              <a:path w="5176" h="15780">
                <a:moveTo>
                  <a:pt x="12986" y="6096"/>
                </a:moveTo>
                <a:cubicBezTo>
                  <a:pt x="13047" y="6075"/>
                  <a:pt x="13250" y="5966"/>
                  <a:pt x="13240" y="6128"/>
                </a:cubicBezTo>
                <a:cubicBezTo>
                  <a:pt x="13236" y="6195"/>
                  <a:pt x="13156" y="6220"/>
                  <a:pt x="13113" y="6255"/>
                </a:cubicBezTo>
                <a:cubicBezTo>
                  <a:pt x="13176" y="6223"/>
                  <a:pt x="13198" y="6212"/>
                  <a:pt x="13240" y="6255"/>
                </a:cubicBezTo>
                <a:cubicBezTo>
                  <a:pt x="13280" y="6374"/>
                  <a:pt x="13212" y="6420"/>
                  <a:pt x="13081" y="6445"/>
                </a:cubicBezTo>
                <a:cubicBezTo>
                  <a:pt x="13029" y="6445"/>
                  <a:pt x="13008" y="6456"/>
                  <a:pt x="13018" y="6414"/>
                </a:cubicBezTo>
              </a:path>
              <a:path w="5176" h="15780">
                <a:moveTo>
                  <a:pt x="13049" y="4604"/>
                </a:moveTo>
                <a:cubicBezTo>
                  <a:pt x="13049" y="4689"/>
                  <a:pt x="13049" y="4773"/>
                  <a:pt x="13049" y="4858"/>
                </a:cubicBezTo>
                <a:cubicBezTo>
                  <a:pt x="13135" y="4829"/>
                  <a:pt x="13212" y="4794"/>
                  <a:pt x="13303" y="4794"/>
                </a:cubicBezTo>
              </a:path>
              <a:path w="5176" h="15780">
                <a:moveTo>
                  <a:pt x="13272" y="4445"/>
                </a:moveTo>
                <a:cubicBezTo>
                  <a:pt x="13272" y="4620"/>
                  <a:pt x="13275" y="4813"/>
                  <a:pt x="13303" y="4985"/>
                </a:cubicBezTo>
                <a:cubicBezTo>
                  <a:pt x="13314" y="5017"/>
                  <a:pt x="13324" y="5048"/>
                  <a:pt x="13335" y="5080"/>
                </a:cubicBezTo>
              </a:path>
              <a:path w="5176" h="15780">
                <a:moveTo>
                  <a:pt x="12986" y="2350"/>
                </a:moveTo>
                <a:cubicBezTo>
                  <a:pt x="13054" y="2323"/>
                  <a:pt x="13095" y="2404"/>
                  <a:pt x="13144" y="2381"/>
                </a:cubicBezTo>
                <a:cubicBezTo>
                  <a:pt x="13288" y="2313"/>
                  <a:pt x="13418" y="2181"/>
                  <a:pt x="13557" y="2096"/>
                </a:cubicBezTo>
              </a:path>
              <a:path w="5176" h="15780">
                <a:moveTo>
                  <a:pt x="14954" y="12827"/>
                </a:moveTo>
                <a:cubicBezTo>
                  <a:pt x="14951" y="12818"/>
                  <a:pt x="14910" y="12739"/>
                  <a:pt x="14891" y="12764"/>
                </a:cubicBezTo>
                <a:cubicBezTo>
                  <a:pt x="14866" y="12797"/>
                  <a:pt x="15020" y="12699"/>
                  <a:pt x="14986" y="12605"/>
                </a:cubicBezTo>
                <a:cubicBezTo>
                  <a:pt x="14975" y="12594"/>
                  <a:pt x="14965" y="12584"/>
                  <a:pt x="14954" y="12573"/>
                </a:cubicBezTo>
                <a:cubicBezTo>
                  <a:pt x="14920" y="12607"/>
                  <a:pt x="14823" y="12660"/>
                  <a:pt x="14891" y="12700"/>
                </a:cubicBezTo>
                <a:cubicBezTo>
                  <a:pt x="14987" y="12756"/>
                  <a:pt x="14941" y="12463"/>
                  <a:pt x="14891" y="12668"/>
                </a:cubicBezTo>
                <a:cubicBezTo>
                  <a:pt x="14853" y="12821"/>
                  <a:pt x="15018" y="12666"/>
                  <a:pt x="15018" y="12605"/>
                </a:cubicBezTo>
                <a:cubicBezTo>
                  <a:pt x="14990" y="12549"/>
                  <a:pt x="14985" y="12521"/>
                  <a:pt x="14954" y="12573"/>
                </a:cubicBezTo>
                <a:cubicBezTo>
                  <a:pt x="14868" y="12671"/>
                  <a:pt x="14895" y="12777"/>
                  <a:pt x="14954" y="12668"/>
                </a:cubicBezTo>
                <a:cubicBezTo>
                  <a:pt x="15017" y="12550"/>
                  <a:pt x="14855" y="12667"/>
                  <a:pt x="14827" y="12764"/>
                </a:cubicBezTo>
                <a:cubicBezTo>
                  <a:pt x="14827" y="12808"/>
                  <a:pt x="14839" y="12813"/>
                  <a:pt x="14891" y="12764"/>
                </a:cubicBezTo>
                <a:cubicBezTo>
                  <a:pt x="14910" y="12726"/>
                  <a:pt x="14975" y="12545"/>
                  <a:pt x="14891" y="12668"/>
                </a:cubicBezTo>
                <a:cubicBezTo>
                  <a:pt x="14814" y="12780"/>
                  <a:pt x="14864" y="12752"/>
                  <a:pt x="14954" y="12732"/>
                </a:cubicBezTo>
              </a:path>
              <a:path w="5176" h="15780">
                <a:moveTo>
                  <a:pt x="15399" y="12668"/>
                </a:moveTo>
                <a:cubicBezTo>
                  <a:pt x="15326" y="12828"/>
                  <a:pt x="15212" y="13031"/>
                  <a:pt x="15304" y="13208"/>
                </a:cubicBezTo>
                <a:cubicBezTo>
                  <a:pt x="15376" y="13244"/>
                  <a:pt x="15406" y="13252"/>
                  <a:pt x="15462" y="13208"/>
                </a:cubicBezTo>
              </a:path>
              <a:path w="5176" h="15780">
                <a:moveTo>
                  <a:pt x="15621" y="12922"/>
                </a:moveTo>
                <a:cubicBezTo>
                  <a:pt x="15661" y="13024"/>
                  <a:pt x="15679" y="13122"/>
                  <a:pt x="15748" y="13208"/>
                </a:cubicBezTo>
              </a:path>
              <a:path w="5176" h="15780">
                <a:moveTo>
                  <a:pt x="15970" y="13272"/>
                </a:moveTo>
                <a:cubicBezTo>
                  <a:pt x="15970" y="13312"/>
                  <a:pt x="15976" y="13679"/>
                  <a:pt x="15938" y="13494"/>
                </a:cubicBezTo>
              </a:path>
              <a:path w="5176" h="15780">
                <a:moveTo>
                  <a:pt x="16066" y="13049"/>
                </a:moveTo>
                <a:cubicBezTo>
                  <a:pt x="16128" y="13023"/>
                  <a:pt x="16132" y="13018"/>
                  <a:pt x="16192" y="13018"/>
                </a:cubicBezTo>
              </a:path>
              <a:path w="5176" h="15780">
                <a:moveTo>
                  <a:pt x="16351" y="12795"/>
                </a:moveTo>
                <a:cubicBezTo>
                  <a:pt x="16371" y="12912"/>
                  <a:pt x="16420" y="13027"/>
                  <a:pt x="16446" y="13144"/>
                </a:cubicBezTo>
                <a:cubicBezTo>
                  <a:pt x="16446" y="13155"/>
                  <a:pt x="16446" y="13165"/>
                  <a:pt x="16446" y="13176"/>
                </a:cubicBezTo>
              </a:path>
              <a:path w="5176" h="15780">
                <a:moveTo>
                  <a:pt x="16574" y="12700"/>
                </a:moveTo>
                <a:cubicBezTo>
                  <a:pt x="16629" y="12763"/>
                  <a:pt x="16653" y="12780"/>
                  <a:pt x="16669" y="12859"/>
                </a:cubicBezTo>
              </a:path>
              <a:path w="5176" h="15780">
                <a:moveTo>
                  <a:pt x="16828" y="12605"/>
                </a:moveTo>
                <a:cubicBezTo>
                  <a:pt x="16841" y="12776"/>
                  <a:pt x="16859" y="12939"/>
                  <a:pt x="16859" y="13113"/>
                </a:cubicBezTo>
                <a:cubicBezTo>
                  <a:pt x="16859" y="13123"/>
                  <a:pt x="16859" y="13134"/>
                  <a:pt x="16859" y="13144"/>
                </a:cubicBezTo>
              </a:path>
              <a:path w="5176" h="15780">
                <a:moveTo>
                  <a:pt x="17018" y="12954"/>
                </a:moveTo>
                <a:cubicBezTo>
                  <a:pt x="17099" y="12899"/>
                  <a:pt x="17114" y="12878"/>
                  <a:pt x="17177" y="12890"/>
                </a:cubicBezTo>
                <a:cubicBezTo>
                  <a:pt x="17162" y="12977"/>
                  <a:pt x="17042" y="13134"/>
                  <a:pt x="17145" y="13113"/>
                </a:cubicBezTo>
                <a:cubicBezTo>
                  <a:pt x="17177" y="13102"/>
                  <a:pt x="17208" y="13092"/>
                  <a:pt x="17240" y="13081"/>
                </a:cubicBezTo>
              </a:path>
              <a:path w="5176" h="15780">
                <a:moveTo>
                  <a:pt x="17208" y="12382"/>
                </a:moveTo>
                <a:cubicBezTo>
                  <a:pt x="17271" y="12571"/>
                  <a:pt x="17495" y="12617"/>
                  <a:pt x="17590" y="12795"/>
                </a:cubicBezTo>
                <a:cubicBezTo>
                  <a:pt x="17707" y="13014"/>
                  <a:pt x="17502" y="13169"/>
                  <a:pt x="17367" y="13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54520" y="4264200"/>
            <a:ext cx="184320" cy="136440"/>
          </a:xfrm>
          <a:custGeom>
            <a:avLst/>
            <a:gdLst/>
            <a:ahLst/>
            <a:rect l="l" t="t" r="r" b="b"/>
            <a:pathLst>
              <a:path w="509" h="382">
                <a:moveTo>
                  <a:pt x="13240" y="12224"/>
                </a:moveTo>
                <a:cubicBezTo>
                  <a:pt x="13167" y="12224"/>
                  <a:pt x="13366" y="12215"/>
                  <a:pt x="13398" y="12192"/>
                </a:cubicBezTo>
                <a:cubicBezTo>
                  <a:pt x="13398" y="12181"/>
                  <a:pt x="13398" y="12171"/>
                  <a:pt x="13398" y="12160"/>
                </a:cubicBezTo>
              </a:path>
              <a:path w="509" h="382">
                <a:moveTo>
                  <a:pt x="13589" y="11874"/>
                </a:moveTo>
                <a:cubicBezTo>
                  <a:pt x="13589" y="11792"/>
                  <a:pt x="13705" y="12159"/>
                  <a:pt x="13716" y="12192"/>
                </a:cubicBezTo>
                <a:cubicBezTo>
                  <a:pt x="13716" y="12203"/>
                  <a:pt x="13716" y="12213"/>
                  <a:pt x="13716" y="122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64160" y="4754520"/>
            <a:ext cx="239760" cy="160560"/>
          </a:xfrm>
          <a:custGeom>
            <a:avLst/>
            <a:gdLst/>
            <a:ahLst/>
            <a:rect l="l" t="t" r="r" b="b"/>
            <a:pathLst>
              <a:path w="668" h="445">
                <a:moveTo>
                  <a:pt x="12954" y="13494"/>
                </a:moveTo>
                <a:cubicBezTo>
                  <a:pt x="13032" y="13463"/>
                  <a:pt x="13108" y="13395"/>
                  <a:pt x="13176" y="13335"/>
                </a:cubicBezTo>
              </a:path>
              <a:path w="668" h="445">
                <a:moveTo>
                  <a:pt x="13272" y="13240"/>
                </a:moveTo>
                <a:cubicBezTo>
                  <a:pt x="13337" y="13215"/>
                  <a:pt x="13361" y="13208"/>
                  <a:pt x="13430" y="13208"/>
                </a:cubicBezTo>
                <a:cubicBezTo>
                  <a:pt x="13430" y="13373"/>
                  <a:pt x="13418" y="13496"/>
                  <a:pt x="13367" y="13652"/>
                </a:cubicBezTo>
                <a:cubicBezTo>
                  <a:pt x="13494" y="13589"/>
                  <a:pt x="13536" y="13568"/>
                  <a:pt x="13621" y="13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51200" y="5235480"/>
            <a:ext cx="184320" cy="204840"/>
          </a:xfrm>
          <a:custGeom>
            <a:avLst/>
            <a:gdLst/>
            <a:ahLst/>
            <a:rect l="l" t="t" r="r" b="b"/>
            <a:pathLst>
              <a:path w="509" h="572">
                <a:moveTo>
                  <a:pt x="12922" y="14891"/>
                </a:moveTo>
                <a:cubicBezTo>
                  <a:pt x="12991" y="14853"/>
                  <a:pt x="13052" y="14814"/>
                  <a:pt x="13113" y="14764"/>
                </a:cubicBezTo>
              </a:path>
              <a:path w="509" h="572">
                <a:moveTo>
                  <a:pt x="13240" y="14573"/>
                </a:moveTo>
                <a:cubicBezTo>
                  <a:pt x="13355" y="14548"/>
                  <a:pt x="13460" y="14570"/>
                  <a:pt x="13398" y="14732"/>
                </a:cubicBezTo>
                <a:cubicBezTo>
                  <a:pt x="13348" y="14808"/>
                  <a:pt x="13343" y="14823"/>
                  <a:pt x="13303" y="14859"/>
                </a:cubicBezTo>
                <a:cubicBezTo>
                  <a:pt x="13471" y="14796"/>
                  <a:pt x="13476" y="14914"/>
                  <a:pt x="13367" y="15050"/>
                </a:cubicBezTo>
                <a:cubicBezTo>
                  <a:pt x="13311" y="15077"/>
                  <a:pt x="13296" y="15081"/>
                  <a:pt x="13272" y="151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5761080"/>
            <a:ext cx="228600" cy="193680"/>
          </a:xfrm>
          <a:custGeom>
            <a:avLst/>
            <a:gdLst/>
            <a:ahLst/>
            <a:rect l="l" t="t" r="r" b="b"/>
            <a:pathLst>
              <a:path w="635" h="541">
                <a:moveTo>
                  <a:pt x="13018" y="16478"/>
                </a:moveTo>
                <a:cubicBezTo>
                  <a:pt x="13083" y="16437"/>
                  <a:pt x="13139" y="16368"/>
                  <a:pt x="13208" y="16351"/>
                </a:cubicBezTo>
              </a:path>
              <a:path w="635" h="541">
                <a:moveTo>
                  <a:pt x="13303" y="16034"/>
                </a:moveTo>
                <a:cubicBezTo>
                  <a:pt x="13345" y="16097"/>
                  <a:pt x="13367" y="16147"/>
                  <a:pt x="13367" y="16224"/>
                </a:cubicBezTo>
                <a:cubicBezTo>
                  <a:pt x="13482" y="16224"/>
                  <a:pt x="13520" y="16231"/>
                  <a:pt x="13621" y="16161"/>
                </a:cubicBezTo>
                <a:cubicBezTo>
                  <a:pt x="13649" y="16132"/>
                  <a:pt x="13659" y="16126"/>
                  <a:pt x="13652" y="16097"/>
                </a:cubicBezTo>
              </a:path>
              <a:path w="635" h="541">
                <a:moveTo>
                  <a:pt x="13589" y="16002"/>
                </a:moveTo>
                <a:cubicBezTo>
                  <a:pt x="13589" y="16186"/>
                  <a:pt x="13608" y="16360"/>
                  <a:pt x="13621" y="16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3600" y="3749760"/>
            <a:ext cx="125640" cy="125280"/>
          </a:xfrm>
          <a:custGeom>
            <a:avLst/>
            <a:gdLst/>
            <a:ahLst/>
            <a:rect l="l" t="t" r="r" b="b"/>
            <a:pathLst>
              <a:path w="350" h="350">
                <a:moveTo>
                  <a:pt x="12700" y="10446"/>
                </a:moveTo>
                <a:cubicBezTo>
                  <a:pt x="12672" y="10425"/>
                  <a:pt x="12616" y="10390"/>
                  <a:pt x="12573" y="10414"/>
                </a:cubicBezTo>
                <a:cubicBezTo>
                  <a:pt x="12479" y="10466"/>
                  <a:pt x="12504" y="10625"/>
                  <a:pt x="12541" y="10700"/>
                </a:cubicBezTo>
                <a:cubicBezTo>
                  <a:pt x="12615" y="10850"/>
                  <a:pt x="12744" y="10703"/>
                  <a:pt x="12795" y="10636"/>
                </a:cubicBezTo>
                <a:cubicBezTo>
                  <a:pt x="12868" y="10540"/>
                  <a:pt x="12859" y="10546"/>
                  <a:pt x="12859" y="10446"/>
                </a:cubicBezTo>
                <a:cubicBezTo>
                  <a:pt x="12815" y="10413"/>
                  <a:pt x="12688" y="10377"/>
                  <a:pt x="12636" y="10414"/>
                </a:cubicBezTo>
                <a:cubicBezTo>
                  <a:pt x="12600" y="10440"/>
                  <a:pt x="12529" y="10674"/>
                  <a:pt x="12573" y="10700"/>
                </a:cubicBezTo>
                <a:cubicBezTo>
                  <a:pt x="12594" y="10700"/>
                  <a:pt x="12615" y="10700"/>
                  <a:pt x="12636" y="10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47000" y="3703680"/>
            <a:ext cx="114480" cy="136440"/>
          </a:xfrm>
          <a:custGeom>
            <a:avLst/>
            <a:gdLst/>
            <a:ahLst/>
            <a:rect l="l" t="t" r="r" b="b"/>
            <a:pathLst>
              <a:path w="319" h="382">
                <a:moveTo>
                  <a:pt x="24574" y="10350"/>
                </a:moveTo>
                <a:cubicBezTo>
                  <a:pt x="24635" y="10381"/>
                  <a:pt x="24676" y="10480"/>
                  <a:pt x="24733" y="10541"/>
                </a:cubicBezTo>
                <a:cubicBezTo>
                  <a:pt x="24776" y="10588"/>
                  <a:pt x="24748" y="10588"/>
                  <a:pt x="24797" y="10604"/>
                </a:cubicBezTo>
              </a:path>
              <a:path w="319" h="382">
                <a:moveTo>
                  <a:pt x="24892" y="10287"/>
                </a:moveTo>
                <a:cubicBezTo>
                  <a:pt x="24837" y="10397"/>
                  <a:pt x="24715" y="10469"/>
                  <a:pt x="24638" y="10573"/>
                </a:cubicBezTo>
                <a:cubicBezTo>
                  <a:pt x="24612" y="10625"/>
                  <a:pt x="24601" y="10633"/>
                  <a:pt x="24606" y="106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50160" y="3886200"/>
            <a:ext cx="147600" cy="182520"/>
          </a:xfrm>
          <a:custGeom>
            <a:avLst/>
            <a:gdLst/>
            <a:ahLst/>
            <a:rect l="l" t="t" r="r" b="b"/>
            <a:pathLst>
              <a:path w="414" h="509">
                <a:moveTo>
                  <a:pt x="19304" y="10795"/>
                </a:moveTo>
                <a:cubicBezTo>
                  <a:pt x="19363" y="10795"/>
                  <a:pt x="19567" y="10758"/>
                  <a:pt x="19590" y="10827"/>
                </a:cubicBezTo>
                <a:cubicBezTo>
                  <a:pt x="19642" y="10983"/>
                  <a:pt x="19488" y="10988"/>
                  <a:pt x="19399" y="11017"/>
                </a:cubicBezTo>
                <a:cubicBezTo>
                  <a:pt x="19410" y="11017"/>
                  <a:pt x="19420" y="11017"/>
                  <a:pt x="19431" y="11017"/>
                </a:cubicBezTo>
                <a:cubicBezTo>
                  <a:pt x="19566" y="11017"/>
                  <a:pt x="19610" y="11016"/>
                  <a:pt x="19717" y="11081"/>
                </a:cubicBezTo>
                <a:cubicBezTo>
                  <a:pt x="19606" y="11246"/>
                  <a:pt x="19508" y="11317"/>
                  <a:pt x="19304" y="11271"/>
                </a:cubicBezTo>
                <a:cubicBezTo>
                  <a:pt x="19304" y="11137"/>
                  <a:pt x="19339" y="11088"/>
                  <a:pt x="19494" y="11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0" y="3840120"/>
            <a:ext cx="206640" cy="184320"/>
          </a:xfrm>
          <a:custGeom>
            <a:avLst/>
            <a:gdLst/>
            <a:ahLst/>
            <a:rect l="l" t="t" r="r" b="b"/>
            <a:pathLst>
              <a:path w="572" h="509">
                <a:moveTo>
                  <a:pt x="9970" y="10890"/>
                </a:moveTo>
                <a:cubicBezTo>
                  <a:pt x="10065" y="10931"/>
                  <a:pt x="10244" y="10956"/>
                  <a:pt x="10350" y="10890"/>
                </a:cubicBezTo>
                <a:cubicBezTo>
                  <a:pt x="10350" y="10858"/>
                  <a:pt x="10350" y="10847"/>
                  <a:pt x="10382" y="10858"/>
                </a:cubicBezTo>
              </a:path>
              <a:path w="572" h="509">
                <a:moveTo>
                  <a:pt x="10541" y="10668"/>
                </a:moveTo>
                <a:cubicBezTo>
                  <a:pt x="10497" y="10824"/>
                  <a:pt x="10434" y="10987"/>
                  <a:pt x="10414" y="11144"/>
                </a:cubicBezTo>
                <a:cubicBezTo>
                  <a:pt x="10414" y="11176"/>
                  <a:pt x="10414" y="11187"/>
                  <a:pt x="10414" y="11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3851280"/>
            <a:ext cx="219240" cy="173160"/>
          </a:xfrm>
          <a:custGeom>
            <a:avLst/>
            <a:gdLst/>
            <a:ahLst/>
            <a:rect l="l" t="t" r="r" b="b"/>
            <a:pathLst>
              <a:path w="605" h="477">
                <a:moveTo>
                  <a:pt x="5302" y="11049"/>
                </a:moveTo>
                <a:cubicBezTo>
                  <a:pt x="5394" y="11049"/>
                  <a:pt x="5467" y="11032"/>
                  <a:pt x="5556" y="11017"/>
                </a:cubicBezTo>
              </a:path>
              <a:path w="605" h="477">
                <a:moveTo>
                  <a:pt x="5683" y="10732"/>
                </a:moveTo>
                <a:cubicBezTo>
                  <a:pt x="5738" y="10704"/>
                  <a:pt x="5773" y="10700"/>
                  <a:pt x="5842" y="10700"/>
                </a:cubicBezTo>
                <a:cubicBezTo>
                  <a:pt x="5842" y="10787"/>
                  <a:pt x="5833" y="10822"/>
                  <a:pt x="5778" y="10890"/>
                </a:cubicBezTo>
                <a:cubicBezTo>
                  <a:pt x="5830" y="10890"/>
                  <a:pt x="5899" y="10863"/>
                  <a:pt x="5906" y="10922"/>
                </a:cubicBezTo>
                <a:cubicBezTo>
                  <a:pt x="5925" y="11092"/>
                  <a:pt x="5818" y="11120"/>
                  <a:pt x="5683" y="11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8120" y="3840120"/>
            <a:ext cx="263520" cy="195480"/>
          </a:xfrm>
          <a:custGeom>
            <a:avLst/>
            <a:gdLst/>
            <a:ahLst/>
            <a:rect l="l" t="t" r="r" b="b"/>
            <a:pathLst>
              <a:path w="732" h="541">
                <a:moveTo>
                  <a:pt x="7715" y="11017"/>
                </a:moveTo>
                <a:cubicBezTo>
                  <a:pt x="7879" y="11006"/>
                  <a:pt x="7968" y="10991"/>
                  <a:pt x="8096" y="10890"/>
                </a:cubicBezTo>
              </a:path>
              <a:path w="732" h="541">
                <a:moveTo>
                  <a:pt x="8223" y="10668"/>
                </a:moveTo>
                <a:cubicBezTo>
                  <a:pt x="8223" y="10679"/>
                  <a:pt x="8223" y="10689"/>
                  <a:pt x="8223" y="10700"/>
                </a:cubicBezTo>
                <a:cubicBezTo>
                  <a:pt x="8127" y="10733"/>
                  <a:pt x="8221" y="10668"/>
                  <a:pt x="8223" y="10668"/>
                </a:cubicBezTo>
                <a:cubicBezTo>
                  <a:pt x="8517" y="10681"/>
                  <a:pt x="8414" y="11023"/>
                  <a:pt x="8255" y="11144"/>
                </a:cubicBezTo>
                <a:cubicBezTo>
                  <a:pt x="8156" y="11169"/>
                  <a:pt x="8134" y="11200"/>
                  <a:pt x="8096" y="11144"/>
                </a:cubicBezTo>
                <a:cubicBezTo>
                  <a:pt x="8153" y="11059"/>
                  <a:pt x="8272" y="11008"/>
                  <a:pt x="8382" y="11081"/>
                </a:cubicBezTo>
                <a:cubicBezTo>
                  <a:pt x="8414" y="11144"/>
                  <a:pt x="8425" y="11166"/>
                  <a:pt x="8446" y="112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96920" y="3817800"/>
            <a:ext cx="274680" cy="193680"/>
          </a:xfrm>
          <a:custGeom>
            <a:avLst/>
            <a:gdLst/>
            <a:ahLst/>
            <a:rect l="l" t="t" r="r" b="b"/>
            <a:pathLst>
              <a:path w="763" h="541">
                <a:moveTo>
                  <a:pt x="3048" y="11144"/>
                </a:moveTo>
                <a:cubicBezTo>
                  <a:pt x="3092" y="11135"/>
                  <a:pt x="3246" y="11105"/>
                  <a:pt x="3270" y="11081"/>
                </a:cubicBezTo>
                <a:cubicBezTo>
                  <a:pt x="3270" y="11070"/>
                  <a:pt x="3270" y="11060"/>
                  <a:pt x="3270" y="11049"/>
                </a:cubicBezTo>
              </a:path>
              <a:path w="763" h="541">
                <a:moveTo>
                  <a:pt x="3366" y="10732"/>
                </a:moveTo>
                <a:cubicBezTo>
                  <a:pt x="3410" y="10782"/>
                  <a:pt x="3456" y="10885"/>
                  <a:pt x="3524" y="10890"/>
                </a:cubicBezTo>
                <a:cubicBezTo>
                  <a:pt x="3595" y="10895"/>
                  <a:pt x="3749" y="10789"/>
                  <a:pt x="3715" y="10700"/>
                </a:cubicBezTo>
                <a:cubicBezTo>
                  <a:pt x="3694" y="10668"/>
                  <a:pt x="3672" y="10636"/>
                  <a:pt x="3651" y="10604"/>
                </a:cubicBezTo>
              </a:path>
              <a:path w="763" h="541">
                <a:moveTo>
                  <a:pt x="3651" y="10604"/>
                </a:moveTo>
                <a:cubicBezTo>
                  <a:pt x="3704" y="10753"/>
                  <a:pt x="3751" y="10904"/>
                  <a:pt x="3810" y="11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22440" y="777960"/>
            <a:ext cx="162000" cy="136440"/>
          </a:xfrm>
          <a:custGeom>
            <a:avLst/>
            <a:gdLst/>
            <a:ahLst/>
            <a:rect l="l" t="t" r="r" b="b"/>
            <a:pathLst>
              <a:path w="446" h="382">
                <a:moveTo>
                  <a:pt x="6763" y="2381"/>
                </a:moveTo>
                <a:cubicBezTo>
                  <a:pt x="6732" y="2443"/>
                  <a:pt x="6757" y="2445"/>
                  <a:pt x="6794" y="2540"/>
                </a:cubicBezTo>
                <a:cubicBezTo>
                  <a:pt x="6913" y="2469"/>
                  <a:pt x="6991" y="2291"/>
                  <a:pt x="7112" y="2191"/>
                </a:cubicBezTo>
                <a:cubicBezTo>
                  <a:pt x="7133" y="2180"/>
                  <a:pt x="7155" y="2170"/>
                  <a:pt x="7176" y="2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21160" y="789120"/>
            <a:ext cx="250920" cy="91800"/>
          </a:xfrm>
          <a:custGeom>
            <a:avLst/>
            <a:gdLst/>
            <a:ahLst/>
            <a:rect l="l" t="t" r="r" b="b"/>
            <a:pathLst>
              <a:path w="700" h="255">
                <a:moveTo>
                  <a:pt x="9811" y="2350"/>
                </a:moveTo>
                <a:cubicBezTo>
                  <a:pt x="9738" y="2277"/>
                  <a:pt x="9828" y="2410"/>
                  <a:pt x="9842" y="2445"/>
                </a:cubicBezTo>
                <a:cubicBezTo>
                  <a:pt x="9980" y="2399"/>
                  <a:pt x="10082" y="2277"/>
                  <a:pt x="10224" y="2222"/>
                </a:cubicBezTo>
                <a:cubicBezTo>
                  <a:pt x="10349" y="2191"/>
                  <a:pt x="10391" y="2181"/>
                  <a:pt x="10478" y="21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83400" y="720720"/>
            <a:ext cx="183960" cy="147600"/>
          </a:xfrm>
          <a:custGeom>
            <a:avLst/>
            <a:gdLst/>
            <a:ahLst/>
            <a:rect l="l" t="t" r="r" b="b"/>
            <a:pathLst>
              <a:path w="509" h="414">
                <a:moveTo>
                  <a:pt x="16066" y="2222"/>
                </a:moveTo>
                <a:cubicBezTo>
                  <a:pt x="16111" y="2296"/>
                  <a:pt x="16141" y="2335"/>
                  <a:pt x="16161" y="2413"/>
                </a:cubicBezTo>
                <a:cubicBezTo>
                  <a:pt x="16314" y="2351"/>
                  <a:pt x="16329" y="2167"/>
                  <a:pt x="16446" y="2064"/>
                </a:cubicBezTo>
                <a:cubicBezTo>
                  <a:pt x="16524" y="2038"/>
                  <a:pt x="16543" y="2040"/>
                  <a:pt x="16574" y="20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96160" y="3406680"/>
            <a:ext cx="685800" cy="479520"/>
          </a:xfrm>
          <a:custGeom>
            <a:avLst/>
            <a:gdLst/>
            <a:ahLst/>
            <a:rect l="l" t="t" r="r" b="b"/>
            <a:pathLst>
              <a:path w="1905" h="1334">
                <a:moveTo>
                  <a:pt x="21876" y="10414"/>
                </a:moveTo>
                <a:cubicBezTo>
                  <a:pt x="21769" y="10371"/>
                  <a:pt x="21734" y="10276"/>
                  <a:pt x="21685" y="10446"/>
                </a:cubicBezTo>
                <a:cubicBezTo>
                  <a:pt x="21671" y="10493"/>
                  <a:pt x="21681" y="10976"/>
                  <a:pt x="21844" y="10763"/>
                </a:cubicBezTo>
                <a:cubicBezTo>
                  <a:pt x="21912" y="10674"/>
                  <a:pt x="21901" y="10490"/>
                  <a:pt x="21812" y="10446"/>
                </a:cubicBezTo>
                <a:cubicBezTo>
                  <a:pt x="21755" y="10514"/>
                  <a:pt x="21628" y="10711"/>
                  <a:pt x="21812" y="10732"/>
                </a:cubicBezTo>
                <a:cubicBezTo>
                  <a:pt x="21833" y="10721"/>
                  <a:pt x="21855" y="10711"/>
                  <a:pt x="21876" y="10700"/>
                </a:cubicBezTo>
                <a:cubicBezTo>
                  <a:pt x="21882" y="10682"/>
                  <a:pt x="21962" y="10279"/>
                  <a:pt x="21780" y="10478"/>
                </a:cubicBezTo>
                <a:cubicBezTo>
                  <a:pt x="21759" y="10520"/>
                  <a:pt x="21738" y="10562"/>
                  <a:pt x="21717" y="10604"/>
                </a:cubicBezTo>
                <a:cubicBezTo>
                  <a:pt x="21754" y="10716"/>
                  <a:pt x="21931" y="10765"/>
                  <a:pt x="21939" y="10573"/>
                </a:cubicBezTo>
                <a:cubicBezTo>
                  <a:pt x="21948" y="10371"/>
                  <a:pt x="21743" y="10504"/>
                  <a:pt x="21749" y="10636"/>
                </a:cubicBezTo>
                <a:cubicBezTo>
                  <a:pt x="21757" y="10812"/>
                  <a:pt x="21969" y="10632"/>
                  <a:pt x="21939" y="10478"/>
                </a:cubicBezTo>
                <a:cubicBezTo>
                  <a:pt x="21920" y="10378"/>
                  <a:pt x="21855" y="10771"/>
                  <a:pt x="21908" y="10700"/>
                </a:cubicBezTo>
                <a:cubicBezTo>
                  <a:pt x="21908" y="10679"/>
                  <a:pt x="21908" y="10657"/>
                  <a:pt x="21908" y="10636"/>
                </a:cubicBezTo>
              </a:path>
              <a:path w="1905" h="1334">
                <a:moveTo>
                  <a:pt x="22320" y="9747"/>
                </a:moveTo>
                <a:cubicBezTo>
                  <a:pt x="22276" y="9896"/>
                  <a:pt x="22107" y="10075"/>
                  <a:pt x="22162" y="10255"/>
                </a:cubicBezTo>
                <a:cubicBezTo>
                  <a:pt x="22221" y="10314"/>
                  <a:pt x="22236" y="10339"/>
                  <a:pt x="22288" y="10287"/>
                </a:cubicBezTo>
              </a:path>
              <a:path w="1905" h="1334">
                <a:moveTo>
                  <a:pt x="22416" y="9874"/>
                </a:moveTo>
                <a:cubicBezTo>
                  <a:pt x="22423" y="9932"/>
                  <a:pt x="22436" y="9977"/>
                  <a:pt x="22447" y="10033"/>
                </a:cubicBezTo>
                <a:cubicBezTo>
                  <a:pt x="22524" y="10003"/>
                  <a:pt x="22574" y="9938"/>
                  <a:pt x="22638" y="9874"/>
                </a:cubicBezTo>
              </a:path>
              <a:path w="1905" h="1334">
                <a:moveTo>
                  <a:pt x="22606" y="9652"/>
                </a:moveTo>
                <a:cubicBezTo>
                  <a:pt x="22606" y="9853"/>
                  <a:pt x="22606" y="10054"/>
                  <a:pt x="22606" y="10255"/>
                </a:cubicBezTo>
              </a:path>
              <a:path w="1905" h="1334">
                <a:moveTo>
                  <a:pt x="22796" y="10287"/>
                </a:moveTo>
                <a:cubicBezTo>
                  <a:pt x="22825" y="10316"/>
                  <a:pt x="22835" y="10322"/>
                  <a:pt x="22828" y="10350"/>
                </a:cubicBezTo>
              </a:path>
              <a:path w="1905" h="1334">
                <a:moveTo>
                  <a:pt x="22828" y="10350"/>
                </a:moveTo>
                <a:lnTo>
                  <a:pt x="22828" y="10350"/>
                </a:lnTo>
              </a:path>
              <a:path w="1905" h="1334">
                <a:moveTo>
                  <a:pt x="23050" y="9779"/>
                </a:moveTo>
                <a:cubicBezTo>
                  <a:pt x="22984" y="9980"/>
                  <a:pt x="22936" y="10077"/>
                  <a:pt x="23082" y="10192"/>
                </a:cubicBezTo>
                <a:cubicBezTo>
                  <a:pt x="23153" y="10050"/>
                  <a:pt x="23259" y="9891"/>
                  <a:pt x="23050" y="9842"/>
                </a:cubicBezTo>
                <a:cubicBezTo>
                  <a:pt x="23040" y="9842"/>
                  <a:pt x="23029" y="9842"/>
                  <a:pt x="23019" y="9842"/>
                </a:cubicBezTo>
              </a:path>
              <a:path w="1905" h="1334">
                <a:moveTo>
                  <a:pt x="23114" y="9462"/>
                </a:moveTo>
                <a:cubicBezTo>
                  <a:pt x="23325" y="9633"/>
                  <a:pt x="23728" y="9984"/>
                  <a:pt x="23527" y="10319"/>
                </a:cubicBezTo>
                <a:cubicBezTo>
                  <a:pt x="23463" y="10361"/>
                  <a:pt x="23400" y="10404"/>
                  <a:pt x="23336" y="10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51880" y="3257640"/>
            <a:ext cx="160200" cy="274680"/>
          </a:xfrm>
          <a:custGeom>
            <a:avLst/>
            <a:gdLst/>
            <a:ahLst/>
            <a:rect l="l" t="t" r="r" b="b"/>
            <a:pathLst>
              <a:path w="445" h="763">
                <a:moveTo>
                  <a:pt x="24035" y="9049"/>
                </a:moveTo>
                <a:cubicBezTo>
                  <a:pt x="24177" y="9105"/>
                  <a:pt x="24319" y="9122"/>
                  <a:pt x="24448" y="9208"/>
                </a:cubicBezTo>
                <a:cubicBezTo>
                  <a:pt x="24555" y="9279"/>
                  <a:pt x="24435" y="9357"/>
                  <a:pt x="24416" y="9398"/>
                </a:cubicBezTo>
                <a:cubicBezTo>
                  <a:pt x="24389" y="9457"/>
                  <a:pt x="24257" y="9908"/>
                  <a:pt x="24257" y="9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&lt;, &gt;,or = to complete th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8 - (-5) ___ 7 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18320" y="373392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the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2 + 5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95760" y="1760400"/>
            <a:ext cx="250920" cy="160560"/>
          </a:xfrm>
          <a:custGeom>
            <a:avLst/>
            <a:gdLst/>
            <a:ahLst/>
            <a:rect l="l" t="t" r="r" b="b"/>
            <a:pathLst>
              <a:path w="699" h="445">
                <a:moveTo>
                  <a:pt x="12764" y="4890"/>
                </a:moveTo>
                <a:cubicBezTo>
                  <a:pt x="12956" y="4907"/>
                  <a:pt x="13141" y="4921"/>
                  <a:pt x="13335" y="4921"/>
                </a:cubicBezTo>
                <a:cubicBezTo>
                  <a:pt x="13388" y="4921"/>
                  <a:pt x="13409" y="4911"/>
                  <a:pt x="13398" y="4953"/>
                </a:cubicBezTo>
              </a:path>
              <a:path w="699" h="445">
                <a:moveTo>
                  <a:pt x="12859" y="5239"/>
                </a:moveTo>
                <a:cubicBezTo>
                  <a:pt x="12994" y="5266"/>
                  <a:pt x="13132" y="5274"/>
                  <a:pt x="13272" y="5302"/>
                </a:cubicBezTo>
                <a:cubicBezTo>
                  <a:pt x="13362" y="5320"/>
                  <a:pt x="13386" y="5334"/>
                  <a:pt x="13462" y="5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2880" y="1793880"/>
            <a:ext cx="12960" cy="138240"/>
          </a:xfrm>
          <a:custGeom>
            <a:avLst/>
            <a:gdLst/>
            <a:ahLst/>
            <a:rect l="l" t="t" r="r" b="b"/>
            <a:pathLst>
              <a:path w="33" h="382">
                <a:moveTo>
                  <a:pt x="10541" y="5048"/>
                </a:moveTo>
                <a:cubicBezTo>
                  <a:pt x="10541" y="5012"/>
                  <a:pt x="10538" y="4998"/>
                  <a:pt x="10509" y="4985"/>
                </a:cubicBezTo>
                <a:cubicBezTo>
                  <a:pt x="10509" y="5095"/>
                  <a:pt x="10534" y="5194"/>
                  <a:pt x="10541" y="5302"/>
                </a:cubicBezTo>
                <a:cubicBezTo>
                  <a:pt x="10541" y="5334"/>
                  <a:pt x="10541" y="5345"/>
                  <a:pt x="10541" y="5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36840" y="1450800"/>
            <a:ext cx="241560" cy="492480"/>
          </a:xfrm>
          <a:custGeom>
            <a:avLst/>
            <a:gdLst/>
            <a:ahLst/>
            <a:rect l="l" t="t" r="r" b="b"/>
            <a:pathLst>
              <a:path w="668" h="1367">
                <a:moveTo>
                  <a:pt x="9303" y="4985"/>
                </a:moveTo>
                <a:cubicBezTo>
                  <a:pt x="9303" y="4953"/>
                  <a:pt x="9303" y="4943"/>
                  <a:pt x="9334" y="4953"/>
                </a:cubicBezTo>
                <a:cubicBezTo>
                  <a:pt x="9334" y="5101"/>
                  <a:pt x="9334" y="5250"/>
                  <a:pt x="9334" y="5398"/>
                </a:cubicBezTo>
              </a:path>
              <a:path w="668" h="1367">
                <a:moveTo>
                  <a:pt x="9779" y="4096"/>
                </a:moveTo>
                <a:cubicBezTo>
                  <a:pt x="9728" y="4070"/>
                  <a:pt x="9795" y="4044"/>
                  <a:pt x="9842" y="4032"/>
                </a:cubicBezTo>
                <a:cubicBezTo>
                  <a:pt x="9934" y="4147"/>
                  <a:pt x="9875" y="4159"/>
                  <a:pt x="9779" y="4254"/>
                </a:cubicBezTo>
                <a:cubicBezTo>
                  <a:pt x="9849" y="4266"/>
                  <a:pt x="10021" y="4322"/>
                  <a:pt x="9938" y="4445"/>
                </a:cubicBezTo>
                <a:cubicBezTo>
                  <a:pt x="9864" y="4555"/>
                  <a:pt x="9747" y="4527"/>
                  <a:pt x="9652" y="4508"/>
                </a:cubicBezTo>
              </a:path>
              <a:path w="668" h="1367">
                <a:moveTo>
                  <a:pt x="9303" y="4286"/>
                </a:moveTo>
                <a:cubicBezTo>
                  <a:pt x="9292" y="4286"/>
                  <a:pt x="9282" y="4286"/>
                  <a:pt x="9271" y="4286"/>
                </a:cubicBezTo>
                <a:cubicBezTo>
                  <a:pt x="9324" y="4286"/>
                  <a:pt x="9377" y="4286"/>
                  <a:pt x="9430" y="4286"/>
                </a:cubicBezTo>
                <a:cubicBezTo>
                  <a:pt x="9430" y="4318"/>
                  <a:pt x="9430" y="4329"/>
                  <a:pt x="9462" y="43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26160" y="1679400"/>
            <a:ext cx="206280" cy="252720"/>
          </a:xfrm>
          <a:custGeom>
            <a:avLst/>
            <a:gdLst/>
            <a:ahLst/>
            <a:rect l="l" t="t" r="r" b="b"/>
            <a:pathLst>
              <a:path w="572" h="700">
                <a:moveTo>
                  <a:pt x="15970" y="5016"/>
                </a:moveTo>
                <a:cubicBezTo>
                  <a:pt x="15958" y="5100"/>
                  <a:pt x="15973" y="5294"/>
                  <a:pt x="15938" y="5366"/>
                </a:cubicBezTo>
                <a:cubicBezTo>
                  <a:pt x="15928" y="5366"/>
                  <a:pt x="15917" y="5366"/>
                  <a:pt x="15907" y="5366"/>
                </a:cubicBezTo>
              </a:path>
              <a:path w="572" h="700">
                <a:moveTo>
                  <a:pt x="16224" y="4667"/>
                </a:moveTo>
                <a:cubicBezTo>
                  <a:pt x="16315" y="4690"/>
                  <a:pt x="16385" y="4699"/>
                  <a:pt x="16478" y="4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62640" y="1450800"/>
            <a:ext cx="333360" cy="149400"/>
          </a:xfrm>
          <a:custGeom>
            <a:avLst/>
            <a:gdLst/>
            <a:ahLst/>
            <a:rect l="l" t="t" r="r" b="b"/>
            <a:pathLst>
              <a:path w="922" h="414">
                <a:moveTo>
                  <a:pt x="15780" y="4096"/>
                </a:moveTo>
                <a:cubicBezTo>
                  <a:pt x="15838" y="4073"/>
                  <a:pt x="16096" y="3944"/>
                  <a:pt x="16097" y="4128"/>
                </a:cubicBezTo>
                <a:cubicBezTo>
                  <a:pt x="16097" y="4266"/>
                  <a:pt x="16001" y="4246"/>
                  <a:pt x="15907" y="4254"/>
                </a:cubicBezTo>
                <a:cubicBezTo>
                  <a:pt x="15917" y="4254"/>
                  <a:pt x="15928" y="4254"/>
                  <a:pt x="15938" y="4254"/>
                </a:cubicBezTo>
                <a:cubicBezTo>
                  <a:pt x="16024" y="4273"/>
                  <a:pt x="16118" y="4356"/>
                  <a:pt x="15970" y="4413"/>
                </a:cubicBezTo>
                <a:cubicBezTo>
                  <a:pt x="15924" y="4431"/>
                  <a:pt x="15658" y="4445"/>
                  <a:pt x="15716" y="4445"/>
                </a:cubicBezTo>
              </a:path>
              <a:path w="922" h="414">
                <a:moveTo>
                  <a:pt x="15208" y="4223"/>
                </a:moveTo>
                <a:cubicBezTo>
                  <a:pt x="15197" y="4223"/>
                  <a:pt x="15187" y="4223"/>
                  <a:pt x="15176" y="4223"/>
                </a:cubicBezTo>
                <a:cubicBezTo>
                  <a:pt x="15244" y="4223"/>
                  <a:pt x="15301" y="4248"/>
                  <a:pt x="15367" y="4254"/>
                </a:cubicBezTo>
                <a:cubicBezTo>
                  <a:pt x="15378" y="4254"/>
                  <a:pt x="15388" y="4254"/>
                  <a:pt x="15399" y="4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08200" y="4937040"/>
            <a:ext cx="516240" cy="230400"/>
          </a:xfrm>
          <a:custGeom>
            <a:avLst/>
            <a:gdLst/>
            <a:ahLst/>
            <a:rect l="l" t="t" r="r" b="b"/>
            <a:pathLst>
              <a:path w="1430" h="636">
                <a:moveTo>
                  <a:pt x="9747" y="14097"/>
                </a:moveTo>
                <a:cubicBezTo>
                  <a:pt x="9874" y="14097"/>
                  <a:pt x="10001" y="14097"/>
                  <a:pt x="10128" y="14097"/>
                </a:cubicBezTo>
              </a:path>
              <a:path w="1430" h="636">
                <a:moveTo>
                  <a:pt x="10414" y="13748"/>
                </a:moveTo>
                <a:cubicBezTo>
                  <a:pt x="10439" y="13921"/>
                  <a:pt x="10441" y="14121"/>
                  <a:pt x="10478" y="14288"/>
                </a:cubicBezTo>
                <a:cubicBezTo>
                  <a:pt x="10488" y="14298"/>
                  <a:pt x="10499" y="14309"/>
                  <a:pt x="10509" y="14319"/>
                </a:cubicBezTo>
              </a:path>
              <a:path w="1430" h="636">
                <a:moveTo>
                  <a:pt x="11112" y="13970"/>
                </a:moveTo>
                <a:cubicBezTo>
                  <a:pt x="11138" y="13842"/>
                  <a:pt x="11156" y="13830"/>
                  <a:pt x="11081" y="13716"/>
                </a:cubicBezTo>
                <a:cubicBezTo>
                  <a:pt x="10973" y="13748"/>
                  <a:pt x="10700" y="13930"/>
                  <a:pt x="10827" y="14097"/>
                </a:cubicBezTo>
                <a:cubicBezTo>
                  <a:pt x="10907" y="14201"/>
                  <a:pt x="11079" y="13915"/>
                  <a:pt x="11112" y="13875"/>
                </a:cubicBezTo>
                <a:cubicBezTo>
                  <a:pt x="11112" y="13864"/>
                  <a:pt x="11112" y="13854"/>
                  <a:pt x="11112" y="13843"/>
                </a:cubicBezTo>
                <a:cubicBezTo>
                  <a:pt x="11135" y="14001"/>
                  <a:pt x="11157" y="14159"/>
                  <a:pt x="11176" y="14319"/>
                </a:cubicBezTo>
                <a:cubicBezTo>
                  <a:pt x="11176" y="14351"/>
                  <a:pt x="11176" y="14362"/>
                  <a:pt x="11176" y="14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06960" y="4960800"/>
            <a:ext cx="147600" cy="149400"/>
          </a:xfrm>
          <a:custGeom>
            <a:avLst/>
            <a:gdLst/>
            <a:ahLst/>
            <a:rect l="l" t="t" r="r" b="b"/>
            <a:pathLst>
              <a:path w="414" h="413">
                <a:moveTo>
                  <a:pt x="11748" y="13780"/>
                </a:moveTo>
                <a:cubicBezTo>
                  <a:pt x="11794" y="13909"/>
                  <a:pt x="11775" y="14081"/>
                  <a:pt x="11843" y="14192"/>
                </a:cubicBezTo>
                <a:cubicBezTo>
                  <a:pt x="11843" y="14150"/>
                  <a:pt x="11843" y="14129"/>
                  <a:pt x="11843" y="14097"/>
                </a:cubicBezTo>
              </a:path>
              <a:path w="414" h="413">
                <a:moveTo>
                  <a:pt x="11684" y="14034"/>
                </a:moveTo>
                <a:cubicBezTo>
                  <a:pt x="11809" y="14000"/>
                  <a:pt x="12029" y="13989"/>
                  <a:pt x="12097" y="13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25920" y="4903920"/>
            <a:ext cx="160560" cy="228600"/>
          </a:xfrm>
          <a:custGeom>
            <a:avLst/>
            <a:gdLst/>
            <a:ahLst/>
            <a:rect l="l" t="t" r="r" b="b"/>
            <a:pathLst>
              <a:path w="446" h="636">
                <a:moveTo>
                  <a:pt x="12859" y="13621"/>
                </a:moveTo>
                <a:cubicBezTo>
                  <a:pt x="12765" y="13621"/>
                  <a:pt x="12640" y="13588"/>
                  <a:pt x="12605" y="13684"/>
                </a:cubicBezTo>
                <a:cubicBezTo>
                  <a:pt x="12574" y="13778"/>
                  <a:pt x="12563" y="13808"/>
                  <a:pt x="12573" y="13875"/>
                </a:cubicBezTo>
                <a:cubicBezTo>
                  <a:pt x="12705" y="13864"/>
                  <a:pt x="12880" y="13782"/>
                  <a:pt x="12986" y="13906"/>
                </a:cubicBezTo>
                <a:cubicBezTo>
                  <a:pt x="13112" y="14052"/>
                  <a:pt x="12911" y="14251"/>
                  <a:pt x="12764" y="14256"/>
                </a:cubicBezTo>
                <a:cubicBezTo>
                  <a:pt x="12680" y="14228"/>
                  <a:pt x="12648" y="14230"/>
                  <a:pt x="12668" y="141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5440" y="4994280"/>
            <a:ext cx="322200" cy="138240"/>
          </a:xfrm>
          <a:custGeom>
            <a:avLst/>
            <a:gdLst/>
            <a:ahLst/>
            <a:rect l="l" t="t" r="r" b="b"/>
            <a:pathLst>
              <a:path w="891" h="382">
                <a:moveTo>
                  <a:pt x="13906" y="14065"/>
                </a:moveTo>
                <a:cubicBezTo>
                  <a:pt x="14026" y="14056"/>
                  <a:pt x="14181" y="14010"/>
                  <a:pt x="14256" y="14065"/>
                </a:cubicBezTo>
              </a:path>
              <a:path w="891" h="382">
                <a:moveTo>
                  <a:pt x="14034" y="14256"/>
                </a:moveTo>
                <a:cubicBezTo>
                  <a:pt x="14206" y="14256"/>
                  <a:pt x="14273" y="14251"/>
                  <a:pt x="14383" y="14192"/>
                </a:cubicBezTo>
              </a:path>
              <a:path w="891" h="382">
                <a:moveTo>
                  <a:pt x="14510" y="13906"/>
                </a:moveTo>
                <a:cubicBezTo>
                  <a:pt x="14598" y="13906"/>
                  <a:pt x="14675" y="13880"/>
                  <a:pt x="14764" y="13875"/>
                </a:cubicBezTo>
                <a:cubicBezTo>
                  <a:pt x="14775" y="13875"/>
                  <a:pt x="14785" y="13875"/>
                  <a:pt x="14796" y="13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75240" y="4903920"/>
            <a:ext cx="297000" cy="250560"/>
          </a:xfrm>
          <a:custGeom>
            <a:avLst/>
            <a:gdLst/>
            <a:ahLst/>
            <a:rect l="l" t="t" r="r" b="b"/>
            <a:pathLst>
              <a:path w="827" h="699">
                <a:moveTo>
                  <a:pt x="15208" y="13811"/>
                </a:moveTo>
                <a:cubicBezTo>
                  <a:pt x="15266" y="13984"/>
                  <a:pt x="15214" y="14419"/>
                  <a:pt x="15367" y="14319"/>
                </a:cubicBezTo>
                <a:cubicBezTo>
                  <a:pt x="15367" y="14298"/>
                  <a:pt x="15367" y="14277"/>
                  <a:pt x="15367" y="14256"/>
                </a:cubicBezTo>
              </a:path>
              <a:path w="827" h="699">
                <a:moveTo>
                  <a:pt x="15653" y="13875"/>
                </a:moveTo>
                <a:cubicBezTo>
                  <a:pt x="15630" y="13938"/>
                  <a:pt x="15602" y="14002"/>
                  <a:pt x="15589" y="14065"/>
                </a:cubicBezTo>
                <a:cubicBezTo>
                  <a:pt x="15727" y="14088"/>
                  <a:pt x="15858" y="14097"/>
                  <a:pt x="16002" y="14097"/>
                </a:cubicBezTo>
                <a:cubicBezTo>
                  <a:pt x="16044" y="14097"/>
                  <a:pt x="16055" y="14087"/>
                  <a:pt x="16034" y="14034"/>
                </a:cubicBezTo>
              </a:path>
              <a:path w="827" h="699">
                <a:moveTo>
                  <a:pt x="15938" y="13621"/>
                </a:moveTo>
                <a:cubicBezTo>
                  <a:pt x="15927" y="13834"/>
                  <a:pt x="15907" y="14042"/>
                  <a:pt x="15907" y="14256"/>
                </a:cubicBezTo>
                <a:cubicBezTo>
                  <a:pt x="15907" y="14267"/>
                  <a:pt x="15907" y="14277"/>
                  <a:pt x="15907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54280" y="4332240"/>
            <a:ext cx="1760760" cy="149400"/>
          </a:xfrm>
          <a:custGeom>
            <a:avLst/>
            <a:gdLst/>
            <a:ahLst/>
            <a:rect l="l" t="t" r="r" b="b"/>
            <a:pathLst>
              <a:path w="4891" h="414">
                <a:moveTo>
                  <a:pt x="9906" y="12446"/>
                </a:moveTo>
                <a:cubicBezTo>
                  <a:pt x="9886" y="12340"/>
                  <a:pt x="9859" y="12239"/>
                  <a:pt x="9874" y="12128"/>
                </a:cubicBezTo>
                <a:cubicBezTo>
                  <a:pt x="9882" y="12064"/>
                  <a:pt x="9902" y="12053"/>
                  <a:pt x="9970" y="12033"/>
                </a:cubicBezTo>
                <a:cubicBezTo>
                  <a:pt x="10281" y="11942"/>
                  <a:pt x="10735" y="12050"/>
                  <a:pt x="11049" y="12065"/>
                </a:cubicBezTo>
                <a:cubicBezTo>
                  <a:pt x="11346" y="12079"/>
                  <a:pt x="11642" y="12115"/>
                  <a:pt x="11938" y="12128"/>
                </a:cubicBezTo>
                <a:cubicBezTo>
                  <a:pt x="12275" y="12143"/>
                  <a:pt x="12615" y="12097"/>
                  <a:pt x="12954" y="12097"/>
                </a:cubicBezTo>
                <a:cubicBezTo>
                  <a:pt x="13514" y="12097"/>
                  <a:pt x="14088" y="12086"/>
                  <a:pt x="14637" y="12128"/>
                </a:cubicBezTo>
                <a:cubicBezTo>
                  <a:pt x="14668" y="12130"/>
                  <a:pt x="14700" y="12126"/>
                  <a:pt x="14732" y="12128"/>
                </a:cubicBezTo>
                <a:cubicBezTo>
                  <a:pt x="14732" y="12222"/>
                  <a:pt x="14754" y="12341"/>
                  <a:pt x="14764" y="123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+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30481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number line and graph the following integ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3, 2 1/2, -1 1/2, 3.6, -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10160" y="1635120"/>
            <a:ext cx="262080" cy="79560"/>
          </a:xfrm>
          <a:custGeom>
            <a:avLst/>
            <a:gdLst/>
            <a:ahLst/>
            <a:rect l="l" t="t" r="r" b="b"/>
            <a:pathLst>
              <a:path w="731" h="223">
                <a:moveTo>
                  <a:pt x="15304" y="4540"/>
                </a:moveTo>
                <a:cubicBezTo>
                  <a:pt x="15449" y="4540"/>
                  <a:pt x="15675" y="4479"/>
                  <a:pt x="15716" y="4604"/>
                </a:cubicBezTo>
              </a:path>
              <a:path w="731" h="223">
                <a:moveTo>
                  <a:pt x="15462" y="4762"/>
                </a:moveTo>
                <a:cubicBezTo>
                  <a:pt x="15587" y="4762"/>
                  <a:pt x="15755" y="4763"/>
                  <a:pt x="15875" y="4731"/>
                </a:cubicBezTo>
                <a:cubicBezTo>
                  <a:pt x="15928" y="4710"/>
                  <a:pt x="15981" y="4688"/>
                  <a:pt x="16034" y="4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3000" y="1508040"/>
            <a:ext cx="193680" cy="274680"/>
          </a:xfrm>
          <a:custGeom>
            <a:avLst/>
            <a:gdLst/>
            <a:ahLst/>
            <a:rect l="l" t="t" r="r" b="b"/>
            <a:pathLst>
              <a:path w="540" h="763">
                <a:moveTo>
                  <a:pt x="17431" y="4508"/>
                </a:moveTo>
                <a:cubicBezTo>
                  <a:pt x="17407" y="4391"/>
                  <a:pt x="17356" y="4279"/>
                  <a:pt x="17240" y="4223"/>
                </a:cubicBezTo>
                <a:cubicBezTo>
                  <a:pt x="17013" y="4114"/>
                  <a:pt x="16953" y="4348"/>
                  <a:pt x="16923" y="4508"/>
                </a:cubicBezTo>
                <a:cubicBezTo>
                  <a:pt x="17152" y="4640"/>
                  <a:pt x="17202" y="4564"/>
                  <a:pt x="17367" y="4350"/>
                </a:cubicBezTo>
                <a:cubicBezTo>
                  <a:pt x="17392" y="4525"/>
                  <a:pt x="17397" y="4718"/>
                  <a:pt x="17431" y="4890"/>
                </a:cubicBezTo>
                <a:cubicBezTo>
                  <a:pt x="17441" y="4911"/>
                  <a:pt x="17452" y="4932"/>
                  <a:pt x="17462" y="4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5246640"/>
            <a:ext cx="5419800" cy="160560"/>
          </a:xfrm>
          <a:custGeom>
            <a:avLst/>
            <a:gdLst/>
            <a:ahLst/>
            <a:rect l="l" t="t" r="r" b="b"/>
            <a:pathLst>
              <a:path w="15051" h="446">
                <a:moveTo>
                  <a:pt x="5016" y="15018"/>
                </a:moveTo>
                <a:cubicBezTo>
                  <a:pt x="5115" y="15010"/>
                  <a:pt x="5203" y="14990"/>
                  <a:pt x="5302" y="14986"/>
                </a:cubicBezTo>
                <a:cubicBezTo>
                  <a:pt x="5568" y="14976"/>
                  <a:pt x="5831" y="14973"/>
                  <a:pt x="6096" y="14954"/>
                </a:cubicBezTo>
                <a:cubicBezTo>
                  <a:pt x="6502" y="14925"/>
                  <a:pt x="6895" y="14844"/>
                  <a:pt x="7302" y="14827"/>
                </a:cubicBezTo>
                <a:cubicBezTo>
                  <a:pt x="7650" y="14813"/>
                  <a:pt x="8003" y="14820"/>
                  <a:pt x="8350" y="14796"/>
                </a:cubicBezTo>
                <a:cubicBezTo>
                  <a:pt x="8742" y="14769"/>
                  <a:pt x="9132" y="14737"/>
                  <a:pt x="9525" y="14732"/>
                </a:cubicBezTo>
                <a:cubicBezTo>
                  <a:pt x="10105" y="14724"/>
                  <a:pt x="10695" y="14792"/>
                  <a:pt x="11271" y="14764"/>
                </a:cubicBezTo>
                <a:cubicBezTo>
                  <a:pt x="11856" y="14735"/>
                  <a:pt x="12434" y="14720"/>
                  <a:pt x="13018" y="14732"/>
                </a:cubicBezTo>
                <a:cubicBezTo>
                  <a:pt x="13907" y="14750"/>
                  <a:pt x="14795" y="14764"/>
                  <a:pt x="15684" y="14764"/>
                </a:cubicBezTo>
                <a:cubicBezTo>
                  <a:pt x="16935" y="14764"/>
                  <a:pt x="18157" y="14771"/>
                  <a:pt x="19399" y="14922"/>
                </a:cubicBezTo>
                <a:cubicBezTo>
                  <a:pt x="19602" y="14947"/>
                  <a:pt x="19802" y="14970"/>
                  <a:pt x="20002" y="14986"/>
                </a:cubicBezTo>
                <a:cubicBezTo>
                  <a:pt x="20034" y="14986"/>
                  <a:pt x="20045" y="14986"/>
                  <a:pt x="20066" y="14986"/>
                </a:cubicBezTo>
              </a:path>
              <a:path w="15051" h="446">
                <a:moveTo>
                  <a:pt x="13843" y="14573"/>
                </a:moveTo>
                <a:cubicBezTo>
                  <a:pt x="13811" y="14573"/>
                  <a:pt x="13780" y="14573"/>
                  <a:pt x="13748" y="14573"/>
                </a:cubicBezTo>
                <a:cubicBezTo>
                  <a:pt x="13777" y="14689"/>
                  <a:pt x="13806" y="14883"/>
                  <a:pt x="13875" y="14986"/>
                </a:cubicBezTo>
                <a:cubicBezTo>
                  <a:pt x="13875" y="14975"/>
                  <a:pt x="13875" y="14965"/>
                  <a:pt x="13875" y="14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9440" y="4754520"/>
            <a:ext cx="1085760" cy="914400"/>
          </a:xfrm>
          <a:custGeom>
            <a:avLst/>
            <a:gdLst/>
            <a:ahLst/>
            <a:rect l="l" t="t" r="r" b="b"/>
            <a:pathLst>
              <a:path w="3017" h="2541">
                <a:moveTo>
                  <a:pt x="19748" y="14637"/>
                </a:moveTo>
                <a:cubicBezTo>
                  <a:pt x="19915" y="14747"/>
                  <a:pt x="20091" y="14816"/>
                  <a:pt x="20288" y="14859"/>
                </a:cubicBezTo>
                <a:cubicBezTo>
                  <a:pt x="20299" y="14859"/>
                  <a:pt x="20309" y="14859"/>
                  <a:pt x="20320" y="14859"/>
                </a:cubicBezTo>
                <a:cubicBezTo>
                  <a:pt x="20204" y="15024"/>
                  <a:pt x="20027" y="15141"/>
                  <a:pt x="19907" y="15304"/>
                </a:cubicBezTo>
                <a:cubicBezTo>
                  <a:pt x="19907" y="15314"/>
                  <a:pt x="19907" y="15325"/>
                  <a:pt x="19907" y="15335"/>
                </a:cubicBezTo>
              </a:path>
              <a:path w="3017" h="2541">
                <a:moveTo>
                  <a:pt x="19494" y="14668"/>
                </a:moveTo>
                <a:cubicBezTo>
                  <a:pt x="19579" y="14696"/>
                  <a:pt x="19544" y="14838"/>
                  <a:pt x="19558" y="14922"/>
                </a:cubicBezTo>
                <a:cubicBezTo>
                  <a:pt x="19562" y="14949"/>
                  <a:pt x="19590" y="15262"/>
                  <a:pt x="19590" y="15176"/>
                </a:cubicBezTo>
              </a:path>
              <a:path w="3017" h="2541">
                <a:moveTo>
                  <a:pt x="19368" y="15589"/>
                </a:moveTo>
                <a:cubicBezTo>
                  <a:pt x="19507" y="15577"/>
                  <a:pt x="19650" y="15565"/>
                  <a:pt x="19780" y="15526"/>
                </a:cubicBezTo>
              </a:path>
              <a:path w="3017" h="2541">
                <a:moveTo>
                  <a:pt x="19844" y="15494"/>
                </a:moveTo>
                <a:cubicBezTo>
                  <a:pt x="19858" y="15561"/>
                  <a:pt x="19900" y="15673"/>
                  <a:pt x="20002" y="15653"/>
                </a:cubicBezTo>
                <a:cubicBezTo>
                  <a:pt x="20045" y="15632"/>
                  <a:pt x="20087" y="15610"/>
                  <a:pt x="20130" y="15589"/>
                </a:cubicBezTo>
              </a:path>
              <a:path w="3017" h="2541">
                <a:moveTo>
                  <a:pt x="20130" y="15462"/>
                </a:moveTo>
                <a:cubicBezTo>
                  <a:pt x="20136" y="15561"/>
                  <a:pt x="20152" y="15670"/>
                  <a:pt x="20130" y="15748"/>
                </a:cubicBezTo>
              </a:path>
              <a:path w="3017" h="2541">
                <a:moveTo>
                  <a:pt x="17685" y="14510"/>
                </a:moveTo>
                <a:cubicBezTo>
                  <a:pt x="17685" y="14668"/>
                  <a:pt x="17649" y="14800"/>
                  <a:pt x="17621" y="14954"/>
                </a:cubicBezTo>
                <a:cubicBezTo>
                  <a:pt x="17621" y="14986"/>
                  <a:pt x="17621" y="14997"/>
                  <a:pt x="17621" y="14954"/>
                </a:cubicBezTo>
              </a:path>
              <a:path w="3017" h="2541">
                <a:moveTo>
                  <a:pt x="17653" y="14700"/>
                </a:moveTo>
                <a:cubicBezTo>
                  <a:pt x="17653" y="14620"/>
                  <a:pt x="17621" y="14614"/>
                  <a:pt x="17558" y="14668"/>
                </a:cubicBezTo>
                <a:cubicBezTo>
                  <a:pt x="17380" y="14821"/>
                  <a:pt x="17655" y="14896"/>
                  <a:pt x="17716" y="14796"/>
                </a:cubicBezTo>
                <a:cubicBezTo>
                  <a:pt x="17727" y="14743"/>
                  <a:pt x="17737" y="14690"/>
                  <a:pt x="17748" y="14637"/>
                </a:cubicBezTo>
                <a:cubicBezTo>
                  <a:pt x="17621" y="14573"/>
                  <a:pt x="17574" y="14625"/>
                  <a:pt x="17494" y="14732"/>
                </a:cubicBezTo>
                <a:cubicBezTo>
                  <a:pt x="17606" y="14743"/>
                  <a:pt x="17759" y="14598"/>
                  <a:pt x="17685" y="14605"/>
                </a:cubicBezTo>
                <a:cubicBezTo>
                  <a:pt x="17643" y="14616"/>
                  <a:pt x="17600" y="14626"/>
                  <a:pt x="17558" y="14637"/>
                </a:cubicBezTo>
              </a:path>
              <a:path w="3017" h="2541">
                <a:moveTo>
                  <a:pt x="17336" y="13621"/>
                </a:moveTo>
                <a:cubicBezTo>
                  <a:pt x="17456" y="13593"/>
                  <a:pt x="17804" y="13583"/>
                  <a:pt x="17653" y="13843"/>
                </a:cubicBezTo>
                <a:cubicBezTo>
                  <a:pt x="17573" y="13981"/>
                  <a:pt x="17422" y="14014"/>
                  <a:pt x="17304" y="14002"/>
                </a:cubicBezTo>
                <a:cubicBezTo>
                  <a:pt x="17506" y="13839"/>
                  <a:pt x="17497" y="13945"/>
                  <a:pt x="17685" y="13970"/>
                </a:cubicBezTo>
                <a:cubicBezTo>
                  <a:pt x="17695" y="13959"/>
                  <a:pt x="17706" y="13949"/>
                  <a:pt x="17716" y="13938"/>
                </a:cubicBezTo>
              </a:path>
              <a:path w="3017" h="2541">
                <a:moveTo>
                  <a:pt x="17875" y="13208"/>
                </a:moveTo>
                <a:cubicBezTo>
                  <a:pt x="17945" y="13335"/>
                  <a:pt x="17999" y="13417"/>
                  <a:pt x="18034" y="13557"/>
                </a:cubicBezTo>
              </a:path>
              <a:path w="3017" h="2541">
                <a:moveTo>
                  <a:pt x="18288" y="13240"/>
                </a:moveTo>
                <a:cubicBezTo>
                  <a:pt x="18210" y="13481"/>
                  <a:pt x="18140" y="13732"/>
                  <a:pt x="18002" y="13938"/>
                </a:cubicBezTo>
              </a:path>
              <a:path w="3017" h="2541">
                <a:moveTo>
                  <a:pt x="18415" y="13526"/>
                </a:moveTo>
                <a:cubicBezTo>
                  <a:pt x="18489" y="13526"/>
                  <a:pt x="18563" y="13526"/>
                  <a:pt x="18637" y="13526"/>
                </a:cubicBezTo>
                <a:cubicBezTo>
                  <a:pt x="18602" y="13701"/>
                  <a:pt x="18510" y="13780"/>
                  <a:pt x="18383" y="13906"/>
                </a:cubicBezTo>
                <a:cubicBezTo>
                  <a:pt x="18512" y="13878"/>
                  <a:pt x="18613" y="13833"/>
                  <a:pt x="18732" y="13780"/>
                </a:cubicBezTo>
              </a:path>
              <a:path w="3017" h="2541">
                <a:moveTo>
                  <a:pt x="18701" y="14764"/>
                </a:moveTo>
                <a:cubicBezTo>
                  <a:pt x="18679" y="14697"/>
                  <a:pt x="18600" y="14768"/>
                  <a:pt x="18606" y="14796"/>
                </a:cubicBezTo>
                <a:cubicBezTo>
                  <a:pt x="18613" y="14826"/>
                  <a:pt x="18667" y="14734"/>
                  <a:pt x="18669" y="14732"/>
                </a:cubicBezTo>
                <a:cubicBezTo>
                  <a:pt x="18659" y="14735"/>
                  <a:pt x="18575" y="14795"/>
                  <a:pt x="18606" y="14827"/>
                </a:cubicBezTo>
                <a:cubicBezTo>
                  <a:pt x="18663" y="14885"/>
                  <a:pt x="18729" y="14770"/>
                  <a:pt x="18732" y="14764"/>
                </a:cubicBezTo>
                <a:cubicBezTo>
                  <a:pt x="18765" y="14685"/>
                  <a:pt x="18624" y="14774"/>
                  <a:pt x="18606" y="14827"/>
                </a:cubicBezTo>
                <a:cubicBezTo>
                  <a:pt x="18577" y="14914"/>
                  <a:pt x="18689" y="14794"/>
                  <a:pt x="18701" y="14764"/>
                </a:cubicBezTo>
                <a:cubicBezTo>
                  <a:pt x="18774" y="14585"/>
                  <a:pt x="18650" y="14822"/>
                  <a:pt x="18637" y="14859"/>
                </a:cubicBezTo>
                <a:cubicBezTo>
                  <a:pt x="18609" y="14888"/>
                  <a:pt x="18594" y="14898"/>
                  <a:pt x="18637" y="14891"/>
                </a:cubicBezTo>
                <a:cubicBezTo>
                  <a:pt x="18724" y="14829"/>
                  <a:pt x="18719" y="14673"/>
                  <a:pt x="18669" y="14732"/>
                </a:cubicBezTo>
                <a:cubicBezTo>
                  <a:pt x="18619" y="14791"/>
                  <a:pt x="18603" y="15010"/>
                  <a:pt x="18732" y="14859"/>
                </a:cubicBezTo>
                <a:cubicBezTo>
                  <a:pt x="18823" y="14753"/>
                  <a:pt x="18826" y="14731"/>
                  <a:pt x="18732" y="14700"/>
                </a:cubicBezTo>
                <a:cubicBezTo>
                  <a:pt x="18711" y="14727"/>
                  <a:pt x="18622" y="14943"/>
                  <a:pt x="18669" y="14891"/>
                </a:cubicBezTo>
                <a:cubicBezTo>
                  <a:pt x="18775" y="14771"/>
                  <a:pt x="18628" y="14719"/>
                  <a:pt x="18637" y="14891"/>
                </a:cubicBezTo>
                <a:cubicBezTo>
                  <a:pt x="18648" y="14912"/>
                  <a:pt x="18658" y="14933"/>
                  <a:pt x="18669" y="14954"/>
                </a:cubicBezTo>
              </a:path>
              <a:path w="3017" h="2541">
                <a:moveTo>
                  <a:pt x="19526" y="15462"/>
                </a:moveTo>
                <a:cubicBezTo>
                  <a:pt x="19526" y="15567"/>
                  <a:pt x="19541" y="15649"/>
                  <a:pt x="19558" y="15748"/>
                </a:cubicBezTo>
              </a:path>
              <a:path w="3017" h="2541">
                <a:moveTo>
                  <a:pt x="18701" y="14256"/>
                </a:moveTo>
                <a:cubicBezTo>
                  <a:pt x="18630" y="14232"/>
                  <a:pt x="18685" y="14215"/>
                  <a:pt x="18701" y="14192"/>
                </a:cubicBezTo>
                <a:cubicBezTo>
                  <a:pt x="18744" y="14132"/>
                  <a:pt x="18770" y="14112"/>
                  <a:pt x="18828" y="14065"/>
                </a:cubicBezTo>
                <a:cubicBezTo>
                  <a:pt x="18848" y="14167"/>
                  <a:pt x="18859" y="14193"/>
                  <a:pt x="18796" y="14288"/>
                </a:cubicBezTo>
                <a:cubicBezTo>
                  <a:pt x="18875" y="14268"/>
                  <a:pt x="18903" y="14246"/>
                  <a:pt x="18986" y="14288"/>
                </a:cubicBezTo>
                <a:cubicBezTo>
                  <a:pt x="18939" y="14393"/>
                  <a:pt x="18779" y="14643"/>
                  <a:pt x="18860" y="14351"/>
                </a:cubicBezTo>
              </a:path>
              <a:path w="3017" h="2541">
                <a:moveTo>
                  <a:pt x="19177" y="14097"/>
                </a:moveTo>
                <a:cubicBezTo>
                  <a:pt x="19177" y="14129"/>
                  <a:pt x="19177" y="14140"/>
                  <a:pt x="19209" y="14129"/>
                </a:cubicBezTo>
              </a:path>
              <a:path w="3017" h="2541">
                <a:moveTo>
                  <a:pt x="19272" y="13748"/>
                </a:moveTo>
                <a:cubicBezTo>
                  <a:pt x="19291" y="13844"/>
                  <a:pt x="19291" y="13934"/>
                  <a:pt x="19368" y="14002"/>
                </a:cubicBezTo>
                <a:cubicBezTo>
                  <a:pt x="19496" y="14115"/>
                  <a:pt x="19611" y="13988"/>
                  <a:pt x="19653" y="13875"/>
                </a:cubicBezTo>
                <a:cubicBezTo>
                  <a:pt x="19653" y="13830"/>
                  <a:pt x="19642" y="13814"/>
                  <a:pt x="19590" y="13811"/>
                </a:cubicBezTo>
                <a:cubicBezTo>
                  <a:pt x="19543" y="13882"/>
                  <a:pt x="19514" y="14107"/>
                  <a:pt x="19558" y="14034"/>
                </a:cubicBezTo>
                <a:cubicBezTo>
                  <a:pt x="19558" y="14013"/>
                  <a:pt x="19558" y="13991"/>
                  <a:pt x="19558" y="13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71560" y="4857840"/>
            <a:ext cx="628920" cy="857160"/>
          </a:xfrm>
          <a:custGeom>
            <a:avLst/>
            <a:gdLst/>
            <a:ahLst/>
            <a:rect l="l" t="t" r="r" b="b"/>
            <a:pathLst>
              <a:path w="1748" h="2382">
                <a:moveTo>
                  <a:pt x="5239" y="14668"/>
                </a:moveTo>
                <a:cubicBezTo>
                  <a:pt x="5100" y="14672"/>
                  <a:pt x="5075" y="14816"/>
                  <a:pt x="4985" y="14922"/>
                </a:cubicBezTo>
                <a:cubicBezTo>
                  <a:pt x="4887" y="15037"/>
                  <a:pt x="4951" y="14936"/>
                  <a:pt x="5016" y="15050"/>
                </a:cubicBezTo>
                <a:cubicBezTo>
                  <a:pt x="5113" y="15220"/>
                  <a:pt x="5025" y="15175"/>
                  <a:pt x="5175" y="15240"/>
                </a:cubicBezTo>
                <a:cubicBezTo>
                  <a:pt x="5186" y="15251"/>
                  <a:pt x="5196" y="15261"/>
                  <a:pt x="5207" y="15272"/>
                </a:cubicBezTo>
              </a:path>
              <a:path w="1748" h="2382">
                <a:moveTo>
                  <a:pt x="5493" y="14700"/>
                </a:moveTo>
                <a:cubicBezTo>
                  <a:pt x="5493" y="14668"/>
                  <a:pt x="5493" y="14657"/>
                  <a:pt x="5461" y="14668"/>
                </a:cubicBezTo>
                <a:cubicBezTo>
                  <a:pt x="5482" y="14817"/>
                  <a:pt x="5527" y="14966"/>
                  <a:pt x="5556" y="15113"/>
                </a:cubicBezTo>
                <a:cubicBezTo>
                  <a:pt x="5556" y="15124"/>
                  <a:pt x="5556" y="15134"/>
                  <a:pt x="5556" y="15145"/>
                </a:cubicBezTo>
              </a:path>
              <a:path w="1748" h="2382">
                <a:moveTo>
                  <a:pt x="5112" y="15621"/>
                </a:moveTo>
                <a:cubicBezTo>
                  <a:pt x="5201" y="15606"/>
                  <a:pt x="5274" y="15589"/>
                  <a:pt x="5366" y="15589"/>
                </a:cubicBezTo>
              </a:path>
              <a:path w="1748" h="2382">
                <a:moveTo>
                  <a:pt x="5588" y="15430"/>
                </a:moveTo>
                <a:cubicBezTo>
                  <a:pt x="5602" y="15466"/>
                  <a:pt x="5608" y="15607"/>
                  <a:pt x="5652" y="15621"/>
                </a:cubicBezTo>
                <a:cubicBezTo>
                  <a:pt x="5767" y="15657"/>
                  <a:pt x="5851" y="15574"/>
                  <a:pt x="5874" y="15494"/>
                </a:cubicBezTo>
              </a:path>
              <a:path w="1748" h="2382">
                <a:moveTo>
                  <a:pt x="5842" y="15335"/>
                </a:moveTo>
                <a:cubicBezTo>
                  <a:pt x="5842" y="15462"/>
                  <a:pt x="5787" y="15818"/>
                  <a:pt x="5874" y="15875"/>
                </a:cubicBezTo>
              </a:path>
              <a:path w="1748" h="2382">
                <a:moveTo>
                  <a:pt x="6604" y="14668"/>
                </a:moveTo>
                <a:cubicBezTo>
                  <a:pt x="6611" y="14795"/>
                  <a:pt x="6613" y="15009"/>
                  <a:pt x="6668" y="15081"/>
                </a:cubicBezTo>
              </a:path>
              <a:path w="1748" h="2382">
                <a:moveTo>
                  <a:pt x="6636" y="14827"/>
                </a:moveTo>
                <a:cubicBezTo>
                  <a:pt x="6598" y="14799"/>
                  <a:pt x="6520" y="14763"/>
                  <a:pt x="6477" y="14827"/>
                </a:cubicBezTo>
                <a:cubicBezTo>
                  <a:pt x="6449" y="14911"/>
                  <a:pt x="6438" y="14930"/>
                  <a:pt x="6445" y="14986"/>
                </a:cubicBezTo>
                <a:cubicBezTo>
                  <a:pt x="6636" y="15010"/>
                  <a:pt x="6638" y="14828"/>
                  <a:pt x="6572" y="14668"/>
                </a:cubicBezTo>
                <a:cubicBezTo>
                  <a:pt x="6544" y="14600"/>
                  <a:pt x="6360" y="14791"/>
                  <a:pt x="6509" y="14891"/>
                </a:cubicBezTo>
                <a:cubicBezTo>
                  <a:pt x="6584" y="14891"/>
                  <a:pt x="6609" y="14879"/>
                  <a:pt x="6604" y="14796"/>
                </a:cubicBezTo>
                <a:cubicBezTo>
                  <a:pt x="6539" y="14439"/>
                  <a:pt x="6568" y="14863"/>
                  <a:pt x="6572" y="14859"/>
                </a:cubicBezTo>
                <a:cubicBezTo>
                  <a:pt x="6593" y="14817"/>
                  <a:pt x="6615" y="14774"/>
                  <a:pt x="6636" y="14732"/>
                </a:cubicBezTo>
              </a:path>
              <a:path w="1748" h="2382">
                <a:moveTo>
                  <a:pt x="6032" y="13875"/>
                </a:moveTo>
                <a:cubicBezTo>
                  <a:pt x="6119" y="13827"/>
                  <a:pt x="6165" y="13793"/>
                  <a:pt x="6223" y="13716"/>
                </a:cubicBezTo>
              </a:path>
              <a:path w="1748" h="2382">
                <a:moveTo>
                  <a:pt x="6286" y="13557"/>
                </a:moveTo>
                <a:cubicBezTo>
                  <a:pt x="6444" y="13479"/>
                  <a:pt x="6546" y="13468"/>
                  <a:pt x="6477" y="13684"/>
                </a:cubicBezTo>
                <a:cubicBezTo>
                  <a:pt x="6466" y="13705"/>
                  <a:pt x="6456" y="13727"/>
                  <a:pt x="6445" y="13748"/>
                </a:cubicBezTo>
                <a:cubicBezTo>
                  <a:pt x="6624" y="13720"/>
                  <a:pt x="6805" y="13802"/>
                  <a:pt x="6604" y="14002"/>
                </a:cubicBezTo>
                <a:cubicBezTo>
                  <a:pt x="6427" y="14178"/>
                  <a:pt x="6389" y="14147"/>
                  <a:pt x="6350" y="140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4200" y="5200560"/>
            <a:ext cx="193680" cy="457200"/>
          </a:xfrm>
          <a:custGeom>
            <a:avLst/>
            <a:gdLst/>
            <a:ahLst/>
            <a:rect l="l" t="t" r="r" b="b"/>
            <a:pathLst>
              <a:path w="540" h="1271">
                <a:moveTo>
                  <a:pt x="11843" y="14573"/>
                </a:moveTo>
                <a:cubicBezTo>
                  <a:pt x="11856" y="14492"/>
                  <a:pt x="11874" y="14525"/>
                  <a:pt x="11874" y="14446"/>
                </a:cubicBezTo>
                <a:cubicBezTo>
                  <a:pt x="11956" y="14590"/>
                  <a:pt x="11913" y="14736"/>
                  <a:pt x="11970" y="14891"/>
                </a:cubicBezTo>
                <a:cubicBezTo>
                  <a:pt x="11979" y="14916"/>
                  <a:pt x="11989" y="14994"/>
                  <a:pt x="12002" y="15018"/>
                </a:cubicBezTo>
                <a:cubicBezTo>
                  <a:pt x="12012" y="15029"/>
                  <a:pt x="12023" y="15039"/>
                  <a:pt x="12033" y="15050"/>
                </a:cubicBezTo>
              </a:path>
              <a:path w="540" h="1271">
                <a:moveTo>
                  <a:pt x="12065" y="15335"/>
                </a:moveTo>
                <a:cubicBezTo>
                  <a:pt x="12000" y="15271"/>
                  <a:pt x="11950" y="15445"/>
                  <a:pt x="11938" y="15526"/>
                </a:cubicBezTo>
                <a:cubicBezTo>
                  <a:pt x="11920" y="15648"/>
                  <a:pt x="11990" y="15755"/>
                  <a:pt x="12128" y="15716"/>
                </a:cubicBezTo>
                <a:cubicBezTo>
                  <a:pt x="12245" y="15682"/>
                  <a:pt x="12410" y="15604"/>
                  <a:pt x="12382" y="15462"/>
                </a:cubicBezTo>
                <a:cubicBezTo>
                  <a:pt x="12369" y="15397"/>
                  <a:pt x="12223" y="15329"/>
                  <a:pt x="12160" y="15335"/>
                </a:cubicBezTo>
                <a:cubicBezTo>
                  <a:pt x="12160" y="15371"/>
                  <a:pt x="12157" y="15385"/>
                  <a:pt x="12128" y="153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21320" y="5257800"/>
            <a:ext cx="308160" cy="366840"/>
          </a:xfrm>
          <a:custGeom>
            <a:avLst/>
            <a:gdLst/>
            <a:ahLst/>
            <a:rect l="l" t="t" r="r" b="b"/>
            <a:pathLst>
              <a:path w="858" h="1017">
                <a:moveTo>
                  <a:pt x="15621" y="14605"/>
                </a:moveTo>
                <a:cubicBezTo>
                  <a:pt x="15658" y="14735"/>
                  <a:pt x="15684" y="14850"/>
                  <a:pt x="15684" y="14986"/>
                </a:cubicBezTo>
              </a:path>
              <a:path w="858" h="1017">
                <a:moveTo>
                  <a:pt x="15335" y="15462"/>
                </a:moveTo>
                <a:cubicBezTo>
                  <a:pt x="15436" y="15454"/>
                  <a:pt x="15496" y="15440"/>
                  <a:pt x="15589" y="15399"/>
                </a:cubicBezTo>
              </a:path>
              <a:path w="858" h="1017">
                <a:moveTo>
                  <a:pt x="15716" y="15304"/>
                </a:moveTo>
                <a:cubicBezTo>
                  <a:pt x="15773" y="15293"/>
                  <a:pt x="16090" y="15185"/>
                  <a:pt x="16002" y="15367"/>
                </a:cubicBezTo>
                <a:cubicBezTo>
                  <a:pt x="15912" y="15488"/>
                  <a:pt x="15886" y="15524"/>
                  <a:pt x="15812" y="15589"/>
                </a:cubicBezTo>
                <a:cubicBezTo>
                  <a:pt x="15946" y="15623"/>
                  <a:pt x="16065" y="15574"/>
                  <a:pt x="16192" y="15494"/>
                </a:cubicBezTo>
              </a:path>
              <a:path w="858" h="1017">
                <a:moveTo>
                  <a:pt x="15462" y="15335"/>
                </a:moveTo>
                <a:cubicBezTo>
                  <a:pt x="15473" y="15325"/>
                  <a:pt x="15483" y="15314"/>
                  <a:pt x="15494" y="15304"/>
                </a:cubicBezTo>
                <a:cubicBezTo>
                  <a:pt x="15494" y="15382"/>
                  <a:pt x="15454" y="15493"/>
                  <a:pt x="15462" y="15558"/>
                </a:cubicBezTo>
                <a:cubicBezTo>
                  <a:pt x="15473" y="15568"/>
                  <a:pt x="15483" y="15579"/>
                  <a:pt x="15494" y="15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89280" y="5235480"/>
            <a:ext cx="457200" cy="446040"/>
          </a:xfrm>
          <a:custGeom>
            <a:avLst/>
            <a:gdLst/>
            <a:ahLst/>
            <a:rect l="l" t="t" r="r" b="b"/>
            <a:pathLst>
              <a:path w="1271" h="1239">
                <a:moveTo>
                  <a:pt x="8128" y="14637"/>
                </a:moveTo>
                <a:cubicBezTo>
                  <a:pt x="8128" y="14549"/>
                  <a:pt x="8157" y="14867"/>
                  <a:pt x="8160" y="14891"/>
                </a:cubicBezTo>
                <a:cubicBezTo>
                  <a:pt x="8160" y="14912"/>
                  <a:pt x="8160" y="14933"/>
                  <a:pt x="8160" y="14954"/>
                </a:cubicBezTo>
              </a:path>
              <a:path w="1271" h="1239">
                <a:moveTo>
                  <a:pt x="7747" y="15589"/>
                </a:moveTo>
                <a:cubicBezTo>
                  <a:pt x="7776" y="15532"/>
                  <a:pt x="7840" y="15504"/>
                  <a:pt x="7906" y="15462"/>
                </a:cubicBezTo>
              </a:path>
              <a:path w="1271" h="1239">
                <a:moveTo>
                  <a:pt x="8160" y="15304"/>
                </a:moveTo>
                <a:cubicBezTo>
                  <a:pt x="8233" y="15292"/>
                  <a:pt x="8261" y="15285"/>
                  <a:pt x="8318" y="15304"/>
                </a:cubicBezTo>
                <a:cubicBezTo>
                  <a:pt x="8288" y="15442"/>
                  <a:pt x="8105" y="15630"/>
                  <a:pt x="8096" y="15748"/>
                </a:cubicBezTo>
                <a:cubicBezTo>
                  <a:pt x="8084" y="15911"/>
                  <a:pt x="8372" y="15647"/>
                  <a:pt x="8509" y="15558"/>
                </a:cubicBezTo>
              </a:path>
              <a:path w="1271" h="1239">
                <a:moveTo>
                  <a:pt x="8922" y="14668"/>
                </a:moveTo>
                <a:cubicBezTo>
                  <a:pt x="8922" y="14640"/>
                  <a:pt x="8943" y="14516"/>
                  <a:pt x="8890" y="14542"/>
                </a:cubicBezTo>
                <a:cubicBezTo>
                  <a:pt x="8790" y="14591"/>
                  <a:pt x="8801" y="14777"/>
                  <a:pt x="8890" y="14827"/>
                </a:cubicBezTo>
                <a:cubicBezTo>
                  <a:pt x="8982" y="14878"/>
                  <a:pt x="9002" y="14711"/>
                  <a:pt x="9017" y="14668"/>
                </a:cubicBezTo>
                <a:cubicBezTo>
                  <a:pt x="8983" y="14565"/>
                  <a:pt x="8894" y="14605"/>
                  <a:pt x="8858" y="14732"/>
                </a:cubicBezTo>
                <a:cubicBezTo>
                  <a:pt x="8802" y="14931"/>
                  <a:pt x="8930" y="14872"/>
                  <a:pt x="9017" y="14796"/>
                </a:cubicBezTo>
                <a:cubicBezTo>
                  <a:pt x="9017" y="14674"/>
                  <a:pt x="8961" y="14578"/>
                  <a:pt x="8858" y="14732"/>
                </a:cubicBezTo>
                <a:cubicBezTo>
                  <a:pt x="8740" y="14908"/>
                  <a:pt x="8887" y="14905"/>
                  <a:pt x="8985" y="14827"/>
                </a:cubicBezTo>
                <a:cubicBezTo>
                  <a:pt x="8980" y="14766"/>
                  <a:pt x="8906" y="14534"/>
                  <a:pt x="8858" y="14732"/>
                </a:cubicBezTo>
                <a:cubicBezTo>
                  <a:pt x="8826" y="14864"/>
                  <a:pt x="8917" y="14959"/>
                  <a:pt x="8954" y="14796"/>
                </a:cubicBezTo>
                <a:cubicBezTo>
                  <a:pt x="9012" y="14541"/>
                  <a:pt x="8839" y="14859"/>
                  <a:pt x="8922" y="14859"/>
                </a:cubicBezTo>
                <a:cubicBezTo>
                  <a:pt x="8954" y="14827"/>
                  <a:pt x="8964" y="14817"/>
                  <a:pt x="8985" y="14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3960" y="4765680"/>
            <a:ext cx="318960" cy="274680"/>
          </a:xfrm>
          <a:custGeom>
            <a:avLst/>
            <a:gdLst/>
            <a:ahLst/>
            <a:rect l="l" t="t" r="r" b="b"/>
            <a:pathLst>
              <a:path w="890" h="763">
                <a:moveTo>
                  <a:pt x="8509" y="13938"/>
                </a:moveTo>
                <a:cubicBezTo>
                  <a:pt x="8544" y="13894"/>
                  <a:pt x="8562" y="13864"/>
                  <a:pt x="8604" y="13843"/>
                </a:cubicBezTo>
              </a:path>
              <a:path w="890" h="763">
                <a:moveTo>
                  <a:pt x="8700" y="13494"/>
                </a:moveTo>
                <a:cubicBezTo>
                  <a:pt x="8739" y="13652"/>
                  <a:pt x="8848" y="13799"/>
                  <a:pt x="8826" y="13970"/>
                </a:cubicBezTo>
                <a:cubicBezTo>
                  <a:pt x="8798" y="13999"/>
                  <a:pt x="8788" y="14014"/>
                  <a:pt x="8795" y="13970"/>
                </a:cubicBezTo>
              </a:path>
              <a:path w="890" h="763">
                <a:moveTo>
                  <a:pt x="8826" y="13240"/>
                </a:moveTo>
                <a:cubicBezTo>
                  <a:pt x="8872" y="13320"/>
                  <a:pt x="8876" y="13423"/>
                  <a:pt x="8954" y="13462"/>
                </a:cubicBezTo>
              </a:path>
              <a:path w="890" h="763">
                <a:moveTo>
                  <a:pt x="8922" y="13589"/>
                </a:moveTo>
                <a:cubicBezTo>
                  <a:pt x="9014" y="13528"/>
                  <a:pt x="9074" y="13485"/>
                  <a:pt x="9176" y="13462"/>
                </a:cubicBezTo>
              </a:path>
              <a:path w="890" h="763">
                <a:moveTo>
                  <a:pt x="9080" y="13684"/>
                </a:moveTo>
                <a:cubicBezTo>
                  <a:pt x="9145" y="13673"/>
                  <a:pt x="9204" y="13652"/>
                  <a:pt x="9271" y="13652"/>
                </a:cubicBezTo>
                <a:cubicBezTo>
                  <a:pt x="9262" y="13765"/>
                  <a:pt x="9229" y="13863"/>
                  <a:pt x="9208" y="13970"/>
                </a:cubicBezTo>
                <a:cubicBezTo>
                  <a:pt x="9297" y="13925"/>
                  <a:pt x="9342" y="13897"/>
                  <a:pt x="9398" y="13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43480" y="5235480"/>
            <a:ext cx="34920" cy="171720"/>
          </a:xfrm>
          <a:custGeom>
            <a:avLst/>
            <a:gdLst/>
            <a:ahLst/>
            <a:rect l="l" t="t" r="r" b="b"/>
            <a:pathLst>
              <a:path w="97" h="477">
                <a:moveTo>
                  <a:pt x="9842" y="14542"/>
                </a:moveTo>
                <a:cubicBezTo>
                  <a:pt x="9842" y="14683"/>
                  <a:pt x="9915" y="14813"/>
                  <a:pt x="9938" y="14954"/>
                </a:cubicBezTo>
                <a:cubicBezTo>
                  <a:pt x="9938" y="15018"/>
                  <a:pt x="9938" y="15039"/>
                  <a:pt x="9938" y="14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08520" y="4800600"/>
            <a:ext cx="412560" cy="571680"/>
          </a:xfrm>
          <a:custGeom>
            <a:avLst/>
            <a:gdLst/>
            <a:ahLst/>
            <a:rect l="l" t="t" r="r" b="b"/>
            <a:pathLst>
              <a:path w="1145" h="1588">
                <a:moveTo>
                  <a:pt x="11081" y="14700"/>
                </a:moveTo>
                <a:cubicBezTo>
                  <a:pt x="11081" y="14689"/>
                  <a:pt x="11081" y="14679"/>
                  <a:pt x="11081" y="14668"/>
                </a:cubicBezTo>
                <a:cubicBezTo>
                  <a:pt x="11074" y="14703"/>
                  <a:pt x="11098" y="14961"/>
                  <a:pt x="11144" y="14891"/>
                </a:cubicBezTo>
                <a:cubicBezTo>
                  <a:pt x="11182" y="14832"/>
                  <a:pt x="11212" y="14654"/>
                  <a:pt x="11144" y="14637"/>
                </a:cubicBezTo>
                <a:cubicBezTo>
                  <a:pt x="11060" y="14616"/>
                  <a:pt x="11049" y="14882"/>
                  <a:pt x="11112" y="14922"/>
                </a:cubicBezTo>
                <a:cubicBezTo>
                  <a:pt x="11131" y="14934"/>
                  <a:pt x="11289" y="14724"/>
                  <a:pt x="11176" y="14668"/>
                </a:cubicBezTo>
                <a:cubicBezTo>
                  <a:pt x="11165" y="14668"/>
                  <a:pt x="11155" y="14668"/>
                  <a:pt x="11144" y="14668"/>
                </a:cubicBezTo>
                <a:cubicBezTo>
                  <a:pt x="11132" y="14703"/>
                  <a:pt x="11089" y="14942"/>
                  <a:pt x="11176" y="14827"/>
                </a:cubicBezTo>
                <a:cubicBezTo>
                  <a:pt x="11251" y="14729"/>
                  <a:pt x="11157" y="14654"/>
                  <a:pt x="11144" y="14827"/>
                </a:cubicBezTo>
                <a:cubicBezTo>
                  <a:pt x="11144" y="14838"/>
                  <a:pt x="11144" y="14848"/>
                  <a:pt x="11144" y="14859"/>
                </a:cubicBezTo>
              </a:path>
              <a:path w="1145" h="1588">
                <a:moveTo>
                  <a:pt x="10858" y="14288"/>
                </a:moveTo>
                <a:cubicBezTo>
                  <a:pt x="10893" y="14200"/>
                  <a:pt x="10957" y="14159"/>
                  <a:pt x="11049" y="14129"/>
                </a:cubicBezTo>
              </a:path>
              <a:path w="1145" h="1588">
                <a:moveTo>
                  <a:pt x="11208" y="13811"/>
                </a:moveTo>
                <a:cubicBezTo>
                  <a:pt x="11167" y="13947"/>
                  <a:pt x="11167" y="14034"/>
                  <a:pt x="11240" y="14160"/>
                </a:cubicBezTo>
                <a:cubicBezTo>
                  <a:pt x="11327" y="14113"/>
                  <a:pt x="11531" y="13930"/>
                  <a:pt x="11366" y="13811"/>
                </a:cubicBezTo>
                <a:cubicBezTo>
                  <a:pt x="11310" y="13771"/>
                  <a:pt x="11252" y="13832"/>
                  <a:pt x="11208" y="13843"/>
                </a:cubicBezTo>
              </a:path>
              <a:path w="1145" h="1588">
                <a:moveTo>
                  <a:pt x="11652" y="13938"/>
                </a:moveTo>
                <a:cubicBezTo>
                  <a:pt x="11652" y="13949"/>
                  <a:pt x="11652" y="13959"/>
                  <a:pt x="11652" y="13970"/>
                </a:cubicBezTo>
              </a:path>
              <a:path w="1145" h="1588">
                <a:moveTo>
                  <a:pt x="11652" y="13557"/>
                </a:moveTo>
                <a:cubicBezTo>
                  <a:pt x="11652" y="13626"/>
                  <a:pt x="11659" y="13668"/>
                  <a:pt x="11748" y="13652"/>
                </a:cubicBezTo>
                <a:cubicBezTo>
                  <a:pt x="11860" y="13632"/>
                  <a:pt x="11884" y="13580"/>
                  <a:pt x="11938" y="13494"/>
                </a:cubicBezTo>
              </a:path>
              <a:path w="1145" h="1588">
                <a:moveTo>
                  <a:pt x="11843" y="13335"/>
                </a:moveTo>
                <a:cubicBezTo>
                  <a:pt x="11795" y="13406"/>
                  <a:pt x="11917" y="13606"/>
                  <a:pt x="11970" y="13716"/>
                </a:cubicBezTo>
                <a:cubicBezTo>
                  <a:pt x="11996" y="13768"/>
                  <a:pt x="12007" y="13776"/>
                  <a:pt x="12002" y="138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baby-sitting for a neighbor.  You arrive at 4:30 p.m. and leave at 11:00 p.m.  Your neighbor pays you $26 altogether.  How much were you paid per hour?  Write a multiplication equation to represent this situation, and then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14640" y="4925880"/>
            <a:ext cx="1440" cy="12960"/>
          </a:xfrm>
          <a:custGeom>
            <a:avLst/>
            <a:gdLst/>
            <a:ahLst/>
            <a:rect l="l" t="t" r="r" b="b"/>
            <a:pathLst>
              <a:path w="1" h="33">
                <a:moveTo>
                  <a:pt x="5874" y="13716"/>
                </a:moveTo>
                <a:cubicBezTo>
                  <a:pt x="5874" y="13705"/>
                  <a:pt x="5874" y="13695"/>
                  <a:pt x="5874" y="13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1200" y="3303720"/>
            <a:ext cx="307800" cy="296640"/>
          </a:xfrm>
          <a:custGeom>
            <a:avLst/>
            <a:gdLst/>
            <a:ahLst/>
            <a:rect l="l" t="t" r="r" b="b"/>
            <a:pathLst>
              <a:path w="858" h="826">
                <a:moveTo>
                  <a:pt x="8890" y="9176"/>
                </a:moveTo>
                <a:cubicBezTo>
                  <a:pt x="8803" y="9366"/>
                  <a:pt x="8673" y="9566"/>
                  <a:pt x="8668" y="9779"/>
                </a:cubicBezTo>
                <a:cubicBezTo>
                  <a:pt x="8662" y="10036"/>
                  <a:pt x="8903" y="10016"/>
                  <a:pt x="9049" y="9906"/>
                </a:cubicBezTo>
                <a:cubicBezTo>
                  <a:pt x="9196" y="9795"/>
                  <a:pt x="9176" y="9795"/>
                  <a:pt x="9176" y="9652"/>
                </a:cubicBezTo>
                <a:cubicBezTo>
                  <a:pt x="8975" y="9683"/>
                  <a:pt x="8909" y="9725"/>
                  <a:pt x="8890" y="9938"/>
                </a:cubicBezTo>
                <a:cubicBezTo>
                  <a:pt x="8890" y="9959"/>
                  <a:pt x="8890" y="9980"/>
                  <a:pt x="8890" y="10001"/>
                </a:cubicBezTo>
              </a:path>
              <a:path w="858" h="826">
                <a:moveTo>
                  <a:pt x="9493" y="9747"/>
                </a:moveTo>
                <a:cubicBezTo>
                  <a:pt x="9496" y="9779"/>
                  <a:pt x="9486" y="9920"/>
                  <a:pt x="9525" y="9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00360" y="3279600"/>
            <a:ext cx="492120" cy="263880"/>
          </a:xfrm>
          <a:custGeom>
            <a:avLst/>
            <a:gdLst/>
            <a:ahLst/>
            <a:rect l="l" t="t" r="r" b="b"/>
            <a:pathLst>
              <a:path w="1366" h="731">
                <a:moveTo>
                  <a:pt x="10350" y="9112"/>
                </a:moveTo>
                <a:cubicBezTo>
                  <a:pt x="10259" y="9153"/>
                  <a:pt x="10165" y="9199"/>
                  <a:pt x="10065" y="9208"/>
                </a:cubicBezTo>
                <a:cubicBezTo>
                  <a:pt x="9998" y="9214"/>
                  <a:pt x="10006" y="9423"/>
                  <a:pt x="10001" y="9493"/>
                </a:cubicBezTo>
                <a:cubicBezTo>
                  <a:pt x="10114" y="9456"/>
                  <a:pt x="10285" y="9325"/>
                  <a:pt x="10414" y="9430"/>
                </a:cubicBezTo>
                <a:cubicBezTo>
                  <a:pt x="10624" y="9600"/>
                  <a:pt x="10341" y="9807"/>
                  <a:pt x="10192" y="9842"/>
                </a:cubicBezTo>
                <a:cubicBezTo>
                  <a:pt x="10070" y="9871"/>
                  <a:pt x="10081" y="9830"/>
                  <a:pt x="10001" y="9811"/>
                </a:cubicBezTo>
              </a:path>
              <a:path w="1366" h="731">
                <a:moveTo>
                  <a:pt x="10795" y="9398"/>
                </a:moveTo>
                <a:cubicBezTo>
                  <a:pt x="10795" y="9302"/>
                  <a:pt x="10818" y="9524"/>
                  <a:pt x="10827" y="9620"/>
                </a:cubicBezTo>
                <a:cubicBezTo>
                  <a:pt x="10827" y="9705"/>
                  <a:pt x="10827" y="9726"/>
                  <a:pt x="10827" y="9779"/>
                </a:cubicBezTo>
                <a:cubicBezTo>
                  <a:pt x="10814" y="9674"/>
                  <a:pt x="10774" y="9574"/>
                  <a:pt x="10795" y="9462"/>
                </a:cubicBezTo>
                <a:cubicBezTo>
                  <a:pt x="10820" y="9326"/>
                  <a:pt x="10969" y="9220"/>
                  <a:pt x="11112" y="9271"/>
                </a:cubicBezTo>
                <a:cubicBezTo>
                  <a:pt x="11294" y="9337"/>
                  <a:pt x="11341" y="9581"/>
                  <a:pt x="11366" y="9747"/>
                </a:cubicBezTo>
                <a:cubicBezTo>
                  <a:pt x="11366" y="9768"/>
                  <a:pt x="11366" y="9790"/>
                  <a:pt x="11366" y="98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4560" y="3257640"/>
            <a:ext cx="755640" cy="296640"/>
          </a:xfrm>
          <a:custGeom>
            <a:avLst/>
            <a:gdLst/>
            <a:ahLst/>
            <a:rect l="l" t="t" r="r" b="b"/>
            <a:pathLst>
              <a:path w="2096" h="826">
                <a:moveTo>
                  <a:pt x="12097" y="9334"/>
                </a:moveTo>
                <a:cubicBezTo>
                  <a:pt x="12145" y="9334"/>
                  <a:pt x="12470" y="9314"/>
                  <a:pt x="12478" y="9366"/>
                </a:cubicBezTo>
                <a:cubicBezTo>
                  <a:pt x="12467" y="9377"/>
                  <a:pt x="12457" y="9387"/>
                  <a:pt x="12446" y="9398"/>
                </a:cubicBezTo>
              </a:path>
              <a:path w="2096" h="826">
                <a:moveTo>
                  <a:pt x="12224" y="9588"/>
                </a:moveTo>
                <a:cubicBezTo>
                  <a:pt x="12372" y="9559"/>
                  <a:pt x="12416" y="9551"/>
                  <a:pt x="12510" y="9525"/>
                </a:cubicBezTo>
              </a:path>
              <a:path w="2096" h="826">
                <a:moveTo>
                  <a:pt x="13113" y="9144"/>
                </a:moveTo>
                <a:cubicBezTo>
                  <a:pt x="13322" y="9177"/>
                  <a:pt x="13587" y="9280"/>
                  <a:pt x="13398" y="9557"/>
                </a:cubicBezTo>
                <a:cubicBezTo>
                  <a:pt x="13297" y="9704"/>
                  <a:pt x="13182" y="9651"/>
                  <a:pt x="13049" y="9620"/>
                </a:cubicBezTo>
                <a:cubicBezTo>
                  <a:pt x="13150" y="9505"/>
                  <a:pt x="13301" y="9429"/>
                  <a:pt x="13430" y="9588"/>
                </a:cubicBezTo>
                <a:cubicBezTo>
                  <a:pt x="13540" y="9723"/>
                  <a:pt x="13404" y="9823"/>
                  <a:pt x="13303" y="9811"/>
                </a:cubicBezTo>
              </a:path>
              <a:path w="2096" h="826">
                <a:moveTo>
                  <a:pt x="13621" y="9080"/>
                </a:moveTo>
                <a:cubicBezTo>
                  <a:pt x="13701" y="9027"/>
                  <a:pt x="13652" y="9312"/>
                  <a:pt x="13652" y="9366"/>
                </a:cubicBezTo>
                <a:cubicBezTo>
                  <a:pt x="13652" y="9508"/>
                  <a:pt x="13639" y="9769"/>
                  <a:pt x="13875" y="9684"/>
                </a:cubicBezTo>
                <a:cubicBezTo>
                  <a:pt x="14044" y="9623"/>
                  <a:pt x="14116" y="9508"/>
                  <a:pt x="14192" y="9366"/>
                </a:cubicBezTo>
                <a:cubicBezTo>
                  <a:pt x="14052" y="9413"/>
                  <a:pt x="13985" y="9511"/>
                  <a:pt x="13938" y="9652"/>
                </a:cubicBezTo>
                <a:cubicBezTo>
                  <a:pt x="13938" y="9663"/>
                  <a:pt x="13938" y="9673"/>
                  <a:pt x="13938" y="9684"/>
                </a:cubicBezTo>
              </a:path>
              <a:path w="2096" h="826">
                <a:moveTo>
                  <a:pt x="13081" y="9271"/>
                </a:moveTo>
                <a:cubicBezTo>
                  <a:pt x="13065" y="9239"/>
                  <a:pt x="13097" y="9148"/>
                  <a:pt x="13176" y="9144"/>
                </a:cubicBezTo>
                <a:cubicBezTo>
                  <a:pt x="13423" y="9133"/>
                  <a:pt x="13381" y="9445"/>
                  <a:pt x="13335" y="9588"/>
                </a:cubicBezTo>
                <a:cubicBezTo>
                  <a:pt x="13276" y="9770"/>
                  <a:pt x="13116" y="9897"/>
                  <a:pt x="12922" y="9874"/>
                </a:cubicBezTo>
                <a:cubicBezTo>
                  <a:pt x="12901" y="9863"/>
                  <a:pt x="12880" y="9853"/>
                  <a:pt x="12859" y="9842"/>
                </a:cubicBezTo>
                <a:cubicBezTo>
                  <a:pt x="12922" y="9674"/>
                  <a:pt x="13063" y="9689"/>
                  <a:pt x="13240" y="9684"/>
                </a:cubicBezTo>
                <a:cubicBezTo>
                  <a:pt x="13398" y="9680"/>
                  <a:pt x="13454" y="9740"/>
                  <a:pt x="13589" y="9811"/>
                </a:cubicBezTo>
                <a:cubicBezTo>
                  <a:pt x="13591" y="9812"/>
                  <a:pt x="13758" y="9889"/>
                  <a:pt x="13748" y="9811"/>
                </a:cubicBezTo>
                <a:cubicBezTo>
                  <a:pt x="13737" y="9800"/>
                  <a:pt x="13727" y="9790"/>
                  <a:pt x="13716" y="9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6640" y="3589200"/>
            <a:ext cx="858960" cy="354240"/>
          </a:xfrm>
          <a:custGeom>
            <a:avLst/>
            <a:gdLst/>
            <a:ahLst/>
            <a:rect l="l" t="t" r="r" b="b"/>
            <a:pathLst>
              <a:path w="2383" h="985">
                <a:moveTo>
                  <a:pt x="8826" y="10160"/>
                </a:moveTo>
                <a:cubicBezTo>
                  <a:pt x="9306" y="10143"/>
                  <a:pt x="9777" y="10080"/>
                  <a:pt x="10255" y="10033"/>
                </a:cubicBezTo>
                <a:cubicBezTo>
                  <a:pt x="10551" y="10004"/>
                  <a:pt x="10919" y="9924"/>
                  <a:pt x="11208" y="10001"/>
                </a:cubicBezTo>
              </a:path>
              <a:path w="2383" h="985">
                <a:moveTo>
                  <a:pt x="9366" y="10287"/>
                </a:moveTo>
                <a:cubicBezTo>
                  <a:pt x="9337" y="10461"/>
                  <a:pt x="9243" y="10622"/>
                  <a:pt x="9208" y="10795"/>
                </a:cubicBezTo>
                <a:cubicBezTo>
                  <a:pt x="9208" y="10827"/>
                  <a:pt x="9208" y="10858"/>
                  <a:pt x="9208" y="10890"/>
                </a:cubicBezTo>
                <a:cubicBezTo>
                  <a:pt x="9395" y="10959"/>
                  <a:pt x="9543" y="10865"/>
                  <a:pt x="9652" y="10668"/>
                </a:cubicBezTo>
                <a:cubicBezTo>
                  <a:pt x="9652" y="10657"/>
                  <a:pt x="9652" y="10647"/>
                  <a:pt x="9652" y="10636"/>
                </a:cubicBezTo>
                <a:cubicBezTo>
                  <a:pt x="9625" y="10654"/>
                  <a:pt x="9372" y="10890"/>
                  <a:pt x="9493" y="10922"/>
                </a:cubicBezTo>
                <a:cubicBezTo>
                  <a:pt x="9525" y="10911"/>
                  <a:pt x="9556" y="10901"/>
                  <a:pt x="9588" y="10890"/>
                </a:cubicBezTo>
              </a:path>
              <a:path w="2383" h="985">
                <a:moveTo>
                  <a:pt x="9970" y="10763"/>
                </a:moveTo>
                <a:cubicBezTo>
                  <a:pt x="9970" y="10799"/>
                  <a:pt x="9973" y="10807"/>
                  <a:pt x="10001" y="10763"/>
                </a:cubicBezTo>
              </a:path>
              <a:path w="2383" h="985">
                <a:moveTo>
                  <a:pt x="10001" y="10763"/>
                </a:moveTo>
                <a:lnTo>
                  <a:pt x="10001" y="10763"/>
                </a:lnTo>
              </a:path>
              <a:path w="2383" h="985">
                <a:moveTo>
                  <a:pt x="10509" y="10255"/>
                </a:moveTo>
                <a:cubicBezTo>
                  <a:pt x="10431" y="10294"/>
                  <a:pt x="10362" y="10327"/>
                  <a:pt x="10319" y="10382"/>
                </a:cubicBezTo>
                <a:cubicBezTo>
                  <a:pt x="10308" y="10393"/>
                  <a:pt x="10298" y="10403"/>
                  <a:pt x="10287" y="10414"/>
                </a:cubicBezTo>
                <a:cubicBezTo>
                  <a:pt x="10261" y="10492"/>
                  <a:pt x="10580" y="10394"/>
                  <a:pt x="10700" y="10446"/>
                </a:cubicBezTo>
                <a:cubicBezTo>
                  <a:pt x="10990" y="10572"/>
                  <a:pt x="10597" y="10829"/>
                  <a:pt x="10414" y="10763"/>
                </a:cubicBezTo>
                <a:cubicBezTo>
                  <a:pt x="10393" y="10731"/>
                  <a:pt x="10371" y="10700"/>
                  <a:pt x="10350" y="106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06920" y="3325680"/>
            <a:ext cx="1805040" cy="560520"/>
          </a:xfrm>
          <a:custGeom>
            <a:avLst/>
            <a:gdLst/>
            <a:ahLst/>
            <a:rect l="l" t="t" r="r" b="b"/>
            <a:pathLst>
              <a:path w="5018" h="1557">
                <a:moveTo>
                  <a:pt x="12795" y="10128"/>
                </a:moveTo>
                <a:cubicBezTo>
                  <a:pt x="13184" y="10036"/>
                  <a:pt x="13602" y="10016"/>
                  <a:pt x="14002" y="10001"/>
                </a:cubicBezTo>
                <a:cubicBezTo>
                  <a:pt x="14183" y="9994"/>
                  <a:pt x="14577" y="9953"/>
                  <a:pt x="14414" y="10033"/>
                </a:cubicBezTo>
              </a:path>
              <a:path w="5018" h="1557">
                <a:moveTo>
                  <a:pt x="13113" y="10255"/>
                </a:moveTo>
                <a:cubicBezTo>
                  <a:pt x="13062" y="10382"/>
                  <a:pt x="12956" y="10518"/>
                  <a:pt x="12922" y="10668"/>
                </a:cubicBezTo>
                <a:cubicBezTo>
                  <a:pt x="12848" y="10989"/>
                  <a:pt x="13293" y="10636"/>
                  <a:pt x="13335" y="10604"/>
                </a:cubicBezTo>
                <a:cubicBezTo>
                  <a:pt x="13361" y="10552"/>
                  <a:pt x="13385" y="10531"/>
                  <a:pt x="13335" y="10541"/>
                </a:cubicBezTo>
                <a:cubicBezTo>
                  <a:pt x="13236" y="10615"/>
                  <a:pt x="13025" y="10708"/>
                  <a:pt x="13240" y="10732"/>
                </a:cubicBezTo>
              </a:path>
              <a:path w="5018" h="1557">
                <a:moveTo>
                  <a:pt x="13652" y="10636"/>
                </a:moveTo>
                <a:cubicBezTo>
                  <a:pt x="13663" y="10636"/>
                  <a:pt x="13673" y="10636"/>
                  <a:pt x="13684" y="10636"/>
                </a:cubicBezTo>
              </a:path>
              <a:path w="5018" h="1557">
                <a:moveTo>
                  <a:pt x="13684" y="10636"/>
                </a:moveTo>
                <a:lnTo>
                  <a:pt x="13684" y="10636"/>
                </a:lnTo>
              </a:path>
              <a:path w="5018" h="1557">
                <a:moveTo>
                  <a:pt x="14383" y="10255"/>
                </a:moveTo>
                <a:cubicBezTo>
                  <a:pt x="14311" y="10262"/>
                  <a:pt x="14117" y="10268"/>
                  <a:pt x="14065" y="10319"/>
                </a:cubicBezTo>
                <a:cubicBezTo>
                  <a:pt x="14065" y="10329"/>
                  <a:pt x="14065" y="10340"/>
                  <a:pt x="14065" y="10350"/>
                </a:cubicBezTo>
                <a:cubicBezTo>
                  <a:pt x="14138" y="10477"/>
                  <a:pt x="14108" y="10425"/>
                  <a:pt x="14224" y="10414"/>
                </a:cubicBezTo>
                <a:cubicBezTo>
                  <a:pt x="14417" y="10396"/>
                  <a:pt x="14479" y="10426"/>
                  <a:pt x="14605" y="10541"/>
                </a:cubicBezTo>
                <a:cubicBezTo>
                  <a:pt x="14374" y="10753"/>
                  <a:pt x="14265" y="10735"/>
                  <a:pt x="14129" y="10478"/>
                </a:cubicBezTo>
              </a:path>
              <a:path w="5018" h="1557">
                <a:moveTo>
                  <a:pt x="15304" y="9588"/>
                </a:moveTo>
                <a:cubicBezTo>
                  <a:pt x="15489" y="9588"/>
                  <a:pt x="15854" y="9487"/>
                  <a:pt x="15716" y="9652"/>
                </a:cubicBezTo>
              </a:path>
              <a:path w="5018" h="1557">
                <a:moveTo>
                  <a:pt x="15367" y="9842"/>
                </a:moveTo>
                <a:cubicBezTo>
                  <a:pt x="15494" y="9818"/>
                  <a:pt x="15620" y="9793"/>
                  <a:pt x="15748" y="9779"/>
                </a:cubicBezTo>
              </a:path>
              <a:path w="5018" h="1557">
                <a:moveTo>
                  <a:pt x="17018" y="9462"/>
                </a:moveTo>
                <a:cubicBezTo>
                  <a:pt x="17018" y="9331"/>
                  <a:pt x="16867" y="9405"/>
                  <a:pt x="16796" y="9462"/>
                </a:cubicBezTo>
                <a:cubicBezTo>
                  <a:pt x="16785" y="9483"/>
                  <a:pt x="16775" y="9504"/>
                  <a:pt x="16764" y="9525"/>
                </a:cubicBezTo>
                <a:cubicBezTo>
                  <a:pt x="16857" y="9618"/>
                  <a:pt x="17140" y="9670"/>
                  <a:pt x="17050" y="9842"/>
                </a:cubicBezTo>
                <a:cubicBezTo>
                  <a:pt x="16938" y="10057"/>
                  <a:pt x="16727" y="9971"/>
                  <a:pt x="16637" y="9842"/>
                </a:cubicBezTo>
              </a:path>
              <a:path w="5018" h="1557">
                <a:moveTo>
                  <a:pt x="16859" y="9398"/>
                </a:moveTo>
                <a:cubicBezTo>
                  <a:pt x="16912" y="9607"/>
                  <a:pt x="16923" y="9779"/>
                  <a:pt x="16923" y="10001"/>
                </a:cubicBezTo>
                <a:cubicBezTo>
                  <a:pt x="16923" y="10054"/>
                  <a:pt x="16923" y="10086"/>
                  <a:pt x="16923" y="10033"/>
                </a:cubicBezTo>
              </a:path>
              <a:path w="5018" h="1557">
                <a:moveTo>
                  <a:pt x="17304" y="9398"/>
                </a:moveTo>
                <a:cubicBezTo>
                  <a:pt x="17356" y="9566"/>
                  <a:pt x="17375" y="9671"/>
                  <a:pt x="17336" y="9842"/>
                </a:cubicBezTo>
                <a:cubicBezTo>
                  <a:pt x="17438" y="9842"/>
                  <a:pt x="17627" y="9849"/>
                  <a:pt x="17716" y="9811"/>
                </a:cubicBezTo>
                <a:cubicBezTo>
                  <a:pt x="17737" y="9790"/>
                  <a:pt x="17759" y="9768"/>
                  <a:pt x="17780" y="9747"/>
                </a:cubicBezTo>
              </a:path>
              <a:path w="5018" h="1557">
                <a:moveTo>
                  <a:pt x="17812" y="9239"/>
                </a:moveTo>
                <a:cubicBezTo>
                  <a:pt x="17783" y="9579"/>
                  <a:pt x="17780" y="9913"/>
                  <a:pt x="17780" y="10255"/>
                </a:cubicBezTo>
                <a:cubicBezTo>
                  <a:pt x="17780" y="10300"/>
                  <a:pt x="17774" y="10299"/>
                  <a:pt x="17748" y="102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tomorrow’s te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least to greate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42, 18, -61, 37,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(-7) + 3 ___ -6 - (-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6960" y="3692520"/>
            <a:ext cx="11160" cy="114480"/>
          </a:xfrm>
          <a:custGeom>
            <a:avLst/>
            <a:gdLst/>
            <a:ahLst/>
            <a:rect l="l" t="t" r="r" b="b"/>
            <a:pathLst>
              <a:path w="32" h="319">
                <a:moveTo>
                  <a:pt x="7715" y="10319"/>
                </a:moveTo>
                <a:cubicBezTo>
                  <a:pt x="7715" y="10287"/>
                  <a:pt x="7715" y="10276"/>
                  <a:pt x="7715" y="10255"/>
                </a:cubicBezTo>
                <a:cubicBezTo>
                  <a:pt x="7715" y="10365"/>
                  <a:pt x="7692" y="10444"/>
                  <a:pt x="7684" y="10541"/>
                </a:cubicBezTo>
                <a:cubicBezTo>
                  <a:pt x="7684" y="10573"/>
                  <a:pt x="7684" y="10583"/>
                  <a:pt x="7715" y="10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94120" y="2925720"/>
            <a:ext cx="801720" cy="927000"/>
          </a:xfrm>
          <a:custGeom>
            <a:avLst/>
            <a:gdLst/>
            <a:ahLst/>
            <a:rect l="l" t="t" r="r" b="b"/>
            <a:pathLst>
              <a:path w="2224" h="2573">
                <a:moveTo>
                  <a:pt x="8858" y="10350"/>
                </a:moveTo>
                <a:cubicBezTo>
                  <a:pt x="8826" y="10350"/>
                  <a:pt x="8816" y="10350"/>
                  <a:pt x="8826" y="10319"/>
                </a:cubicBezTo>
                <a:cubicBezTo>
                  <a:pt x="8776" y="10437"/>
                  <a:pt x="8818" y="10537"/>
                  <a:pt x="8826" y="10668"/>
                </a:cubicBezTo>
                <a:cubicBezTo>
                  <a:pt x="8826" y="10679"/>
                  <a:pt x="8826" y="10689"/>
                  <a:pt x="8826" y="10700"/>
                </a:cubicBezTo>
              </a:path>
              <a:path w="2224" h="2573">
                <a:moveTo>
                  <a:pt x="8731" y="9271"/>
                </a:moveTo>
                <a:cubicBezTo>
                  <a:pt x="8754" y="9167"/>
                  <a:pt x="8748" y="9024"/>
                  <a:pt x="8604" y="8985"/>
                </a:cubicBezTo>
                <a:cubicBezTo>
                  <a:pt x="8419" y="8936"/>
                  <a:pt x="8336" y="9112"/>
                  <a:pt x="8350" y="9239"/>
                </a:cubicBezTo>
                <a:cubicBezTo>
                  <a:pt x="8524" y="9226"/>
                  <a:pt x="8558" y="9212"/>
                  <a:pt x="8668" y="9080"/>
                </a:cubicBezTo>
                <a:cubicBezTo>
                  <a:pt x="8668" y="9223"/>
                  <a:pt x="8645" y="9353"/>
                  <a:pt x="8636" y="9493"/>
                </a:cubicBezTo>
                <a:cubicBezTo>
                  <a:pt x="8636" y="9525"/>
                  <a:pt x="8636" y="9536"/>
                  <a:pt x="8668" y="9525"/>
                </a:cubicBezTo>
              </a:path>
              <a:path w="2224" h="2573">
                <a:moveTo>
                  <a:pt x="9557" y="9208"/>
                </a:moveTo>
                <a:cubicBezTo>
                  <a:pt x="9557" y="9292"/>
                  <a:pt x="9557" y="9313"/>
                  <a:pt x="9557" y="9366"/>
                </a:cubicBezTo>
              </a:path>
              <a:path w="2224" h="2573">
                <a:moveTo>
                  <a:pt x="9430" y="9208"/>
                </a:moveTo>
                <a:cubicBezTo>
                  <a:pt x="9599" y="9151"/>
                  <a:pt x="9728" y="9122"/>
                  <a:pt x="9906" y="9112"/>
                </a:cubicBezTo>
              </a:path>
              <a:path w="2224" h="2573">
                <a:moveTo>
                  <a:pt x="10224" y="9017"/>
                </a:moveTo>
                <a:cubicBezTo>
                  <a:pt x="10299" y="8940"/>
                  <a:pt x="10394" y="8944"/>
                  <a:pt x="10414" y="9049"/>
                </a:cubicBezTo>
                <a:cubicBezTo>
                  <a:pt x="10414" y="9121"/>
                  <a:pt x="10408" y="9149"/>
                  <a:pt x="10350" y="9176"/>
                </a:cubicBezTo>
                <a:cubicBezTo>
                  <a:pt x="10463" y="9153"/>
                  <a:pt x="10595" y="9149"/>
                  <a:pt x="10541" y="9334"/>
                </a:cubicBezTo>
                <a:cubicBezTo>
                  <a:pt x="10481" y="9541"/>
                  <a:pt x="10173" y="9358"/>
                  <a:pt x="10096" y="9334"/>
                </a:cubicBezTo>
              </a:path>
              <a:path w="2224" h="2573">
                <a:moveTo>
                  <a:pt x="9525" y="8985"/>
                </a:moveTo>
                <a:cubicBezTo>
                  <a:pt x="9525" y="8954"/>
                  <a:pt x="9525" y="8943"/>
                  <a:pt x="9493" y="8954"/>
                </a:cubicBezTo>
                <a:cubicBezTo>
                  <a:pt x="9493" y="9046"/>
                  <a:pt x="9510" y="9119"/>
                  <a:pt x="9525" y="9208"/>
                </a:cubicBezTo>
              </a:path>
              <a:path w="2224" h="2573">
                <a:moveTo>
                  <a:pt x="9303" y="8160"/>
                </a:moveTo>
                <a:cubicBezTo>
                  <a:pt x="9303" y="8164"/>
                  <a:pt x="9257" y="8488"/>
                  <a:pt x="9239" y="8604"/>
                </a:cubicBezTo>
                <a:cubicBezTo>
                  <a:pt x="9239" y="8615"/>
                  <a:pt x="9239" y="8625"/>
                  <a:pt x="9239" y="8636"/>
                </a:cubicBezTo>
              </a:path>
              <a:path w="2224" h="2573">
                <a:moveTo>
                  <a:pt x="9684" y="8160"/>
                </a:moveTo>
                <a:cubicBezTo>
                  <a:pt x="9782" y="8140"/>
                  <a:pt x="9764" y="8140"/>
                  <a:pt x="9874" y="8160"/>
                </a:cubicBezTo>
                <a:cubicBezTo>
                  <a:pt x="9882" y="8311"/>
                  <a:pt x="9888" y="8669"/>
                  <a:pt x="9620" y="8636"/>
                </a:cubicBezTo>
                <a:cubicBezTo>
                  <a:pt x="9599" y="8615"/>
                  <a:pt x="9578" y="8593"/>
                  <a:pt x="9557" y="8572"/>
                </a:cubicBezTo>
                <a:cubicBezTo>
                  <a:pt x="9585" y="8458"/>
                  <a:pt x="9756" y="8498"/>
                  <a:pt x="9842" y="8541"/>
                </a:cubicBezTo>
                <a:cubicBezTo>
                  <a:pt x="9901" y="8570"/>
                  <a:pt x="9931" y="8651"/>
                  <a:pt x="9970" y="8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60840" y="3497400"/>
            <a:ext cx="274680" cy="355320"/>
          </a:xfrm>
          <a:custGeom>
            <a:avLst/>
            <a:gdLst/>
            <a:ahLst/>
            <a:rect l="l" t="t" r="r" b="b"/>
            <a:pathLst>
              <a:path w="763" h="985">
                <a:moveTo>
                  <a:pt x="12700" y="9716"/>
                </a:moveTo>
                <a:cubicBezTo>
                  <a:pt x="12850" y="9863"/>
                  <a:pt x="12984" y="9973"/>
                  <a:pt x="13176" y="10065"/>
                </a:cubicBezTo>
                <a:cubicBezTo>
                  <a:pt x="13272" y="10111"/>
                  <a:pt x="13369" y="10140"/>
                  <a:pt x="13430" y="10160"/>
                </a:cubicBezTo>
                <a:cubicBezTo>
                  <a:pt x="13273" y="10223"/>
                  <a:pt x="13075" y="10409"/>
                  <a:pt x="12922" y="10509"/>
                </a:cubicBezTo>
                <a:cubicBezTo>
                  <a:pt x="12850" y="10555"/>
                  <a:pt x="12705" y="10626"/>
                  <a:pt x="12668" y="10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78560" y="2846520"/>
            <a:ext cx="433440" cy="652320"/>
          </a:xfrm>
          <a:custGeom>
            <a:avLst/>
            <a:gdLst/>
            <a:ahLst/>
            <a:rect l="l" t="t" r="r" b="b"/>
            <a:pathLst>
              <a:path w="1207" h="1811">
                <a:moveTo>
                  <a:pt x="16129" y="8064"/>
                </a:moveTo>
                <a:cubicBezTo>
                  <a:pt x="16119" y="8203"/>
                  <a:pt x="16097" y="8336"/>
                  <a:pt x="16097" y="8477"/>
                </a:cubicBezTo>
              </a:path>
              <a:path w="1207" h="1811">
                <a:moveTo>
                  <a:pt x="16446" y="8033"/>
                </a:moveTo>
                <a:cubicBezTo>
                  <a:pt x="16446" y="8101"/>
                  <a:pt x="16438" y="8128"/>
                  <a:pt x="16415" y="8192"/>
                </a:cubicBezTo>
                <a:cubicBezTo>
                  <a:pt x="16499" y="8210"/>
                  <a:pt x="16546" y="8202"/>
                  <a:pt x="16637" y="8192"/>
                </a:cubicBezTo>
              </a:path>
              <a:path w="1207" h="1811">
                <a:moveTo>
                  <a:pt x="16637" y="7906"/>
                </a:moveTo>
                <a:cubicBezTo>
                  <a:pt x="16589" y="8087"/>
                  <a:pt x="16581" y="8267"/>
                  <a:pt x="16542" y="8446"/>
                </a:cubicBezTo>
              </a:path>
              <a:path w="1207" h="1811">
                <a:moveTo>
                  <a:pt x="15494" y="8604"/>
                </a:moveTo>
                <a:cubicBezTo>
                  <a:pt x="15589" y="8604"/>
                  <a:pt x="15685" y="8604"/>
                  <a:pt x="15780" y="8604"/>
                </a:cubicBezTo>
              </a:path>
              <a:path w="1207" h="1811">
                <a:moveTo>
                  <a:pt x="16478" y="8604"/>
                </a:moveTo>
                <a:cubicBezTo>
                  <a:pt x="16478" y="8539"/>
                  <a:pt x="16371" y="8723"/>
                  <a:pt x="16351" y="8763"/>
                </a:cubicBezTo>
                <a:cubicBezTo>
                  <a:pt x="16326" y="8841"/>
                  <a:pt x="16328" y="8859"/>
                  <a:pt x="16288" y="8890"/>
                </a:cubicBezTo>
                <a:cubicBezTo>
                  <a:pt x="16385" y="8910"/>
                  <a:pt x="16472" y="8995"/>
                  <a:pt x="16574" y="8922"/>
                </a:cubicBezTo>
                <a:cubicBezTo>
                  <a:pt x="16599" y="8870"/>
                  <a:pt x="16610" y="8861"/>
                  <a:pt x="16605" y="8826"/>
                </a:cubicBezTo>
                <a:cubicBezTo>
                  <a:pt x="16518" y="8783"/>
                  <a:pt x="16436" y="8783"/>
                  <a:pt x="16383" y="8890"/>
                </a:cubicBezTo>
                <a:cubicBezTo>
                  <a:pt x="16383" y="8901"/>
                  <a:pt x="16383" y="8911"/>
                  <a:pt x="16383" y="8922"/>
                </a:cubicBezTo>
              </a:path>
              <a:path w="1207" h="1811">
                <a:moveTo>
                  <a:pt x="15748" y="8985"/>
                </a:moveTo>
                <a:cubicBezTo>
                  <a:pt x="16018" y="8985"/>
                  <a:pt x="16275" y="8998"/>
                  <a:pt x="16542" y="8985"/>
                </a:cubicBezTo>
                <a:cubicBezTo>
                  <a:pt x="16643" y="8980"/>
                  <a:pt x="16628" y="8999"/>
                  <a:pt x="16700" y="9017"/>
                </a:cubicBezTo>
              </a:path>
              <a:path w="1207" h="1811">
                <a:moveTo>
                  <a:pt x="16510" y="9271"/>
                </a:moveTo>
                <a:cubicBezTo>
                  <a:pt x="16542" y="9271"/>
                  <a:pt x="16553" y="9271"/>
                  <a:pt x="16542" y="9239"/>
                </a:cubicBezTo>
              </a:path>
              <a:path w="1207" h="1811">
                <a:moveTo>
                  <a:pt x="16542" y="9208"/>
                </a:moveTo>
                <a:lnTo>
                  <a:pt x="16542" y="9208"/>
                </a:lnTo>
              </a:path>
              <a:path w="1207" h="1811">
                <a:moveTo>
                  <a:pt x="16510" y="9208"/>
                </a:moveTo>
                <a:cubicBezTo>
                  <a:pt x="16442" y="9208"/>
                  <a:pt x="16372" y="9204"/>
                  <a:pt x="16320" y="9239"/>
                </a:cubicBezTo>
                <a:cubicBezTo>
                  <a:pt x="16288" y="9271"/>
                  <a:pt x="16277" y="9282"/>
                  <a:pt x="16256" y="9303"/>
                </a:cubicBezTo>
                <a:cubicBezTo>
                  <a:pt x="16296" y="9381"/>
                  <a:pt x="16391" y="9421"/>
                  <a:pt x="16478" y="9462"/>
                </a:cubicBezTo>
                <a:cubicBezTo>
                  <a:pt x="16595" y="9517"/>
                  <a:pt x="16589" y="9588"/>
                  <a:pt x="16510" y="9684"/>
                </a:cubicBezTo>
                <a:cubicBezTo>
                  <a:pt x="16464" y="9740"/>
                  <a:pt x="16385" y="9714"/>
                  <a:pt x="16351" y="9652"/>
                </a:cubicBezTo>
                <a:cubicBezTo>
                  <a:pt x="16351" y="9641"/>
                  <a:pt x="16351" y="9631"/>
                  <a:pt x="16351" y="9620"/>
                </a:cubicBezTo>
                <a:cubicBezTo>
                  <a:pt x="16418" y="9531"/>
                  <a:pt x="16505" y="9481"/>
                  <a:pt x="16574" y="9398"/>
                </a:cubicBezTo>
                <a:cubicBezTo>
                  <a:pt x="16620" y="9342"/>
                  <a:pt x="16625" y="9280"/>
                  <a:pt x="16542" y="9271"/>
                </a:cubicBezTo>
                <a:cubicBezTo>
                  <a:pt x="16531" y="9271"/>
                  <a:pt x="16521" y="9271"/>
                  <a:pt x="16510" y="9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3668760"/>
            <a:ext cx="399960" cy="195120"/>
          </a:xfrm>
          <a:custGeom>
            <a:avLst/>
            <a:gdLst/>
            <a:ahLst/>
            <a:rect l="l" t="t" r="r" b="b"/>
            <a:pathLst>
              <a:path w="1112" h="541">
                <a:moveTo>
                  <a:pt x="15970" y="10224"/>
                </a:moveTo>
                <a:cubicBezTo>
                  <a:pt x="15970" y="10213"/>
                  <a:pt x="15970" y="10203"/>
                  <a:pt x="15970" y="10192"/>
                </a:cubicBezTo>
              </a:path>
              <a:path w="1112" h="541">
                <a:moveTo>
                  <a:pt x="15970" y="10224"/>
                </a:moveTo>
                <a:lnTo>
                  <a:pt x="15970" y="10224"/>
                </a:lnTo>
              </a:path>
              <a:path w="1112" h="541">
                <a:moveTo>
                  <a:pt x="15970" y="10255"/>
                </a:moveTo>
                <a:cubicBezTo>
                  <a:pt x="15904" y="10408"/>
                  <a:pt x="15875" y="10500"/>
                  <a:pt x="15875" y="10668"/>
                </a:cubicBezTo>
                <a:cubicBezTo>
                  <a:pt x="15875" y="10704"/>
                  <a:pt x="15878" y="10718"/>
                  <a:pt x="15907" y="10732"/>
                </a:cubicBezTo>
              </a:path>
              <a:path w="1112" h="541">
                <a:moveTo>
                  <a:pt x="16986" y="10350"/>
                </a:moveTo>
                <a:cubicBezTo>
                  <a:pt x="16986" y="10477"/>
                  <a:pt x="16986" y="10605"/>
                  <a:pt x="16986" y="107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14648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&lt;, &gt;, or = to complete th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4 - 8 ____ 4 + ( 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" y="1596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0280" y="4038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8 + (-26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49480" y="1932120"/>
            <a:ext cx="446040" cy="503280"/>
          </a:xfrm>
          <a:custGeom>
            <a:avLst/>
            <a:gdLst/>
            <a:ahLst/>
            <a:rect l="l" t="t" r="r" b="b"/>
            <a:pathLst>
              <a:path w="1239" h="1398">
                <a:moveTo>
                  <a:pt x="9017" y="6318"/>
                </a:moveTo>
                <a:cubicBezTo>
                  <a:pt x="9017" y="6307"/>
                  <a:pt x="9017" y="6297"/>
                  <a:pt x="9017" y="6286"/>
                </a:cubicBezTo>
              </a:path>
              <a:path w="1239" h="1398">
                <a:moveTo>
                  <a:pt x="9017" y="6318"/>
                </a:moveTo>
                <a:lnTo>
                  <a:pt x="9017" y="6318"/>
                </a:lnTo>
              </a:path>
              <a:path w="1239" h="1398">
                <a:moveTo>
                  <a:pt x="9017" y="6318"/>
                </a:moveTo>
                <a:cubicBezTo>
                  <a:pt x="9017" y="6444"/>
                  <a:pt x="9013" y="6561"/>
                  <a:pt x="9049" y="6668"/>
                </a:cubicBezTo>
                <a:cubicBezTo>
                  <a:pt x="9057" y="6692"/>
                  <a:pt x="9049" y="6737"/>
                  <a:pt x="9049" y="6763"/>
                </a:cubicBezTo>
              </a:path>
              <a:path w="1239" h="1398">
                <a:moveTo>
                  <a:pt x="9176" y="6128"/>
                </a:moveTo>
                <a:cubicBezTo>
                  <a:pt x="9261" y="6128"/>
                  <a:pt x="9345" y="6128"/>
                  <a:pt x="9430" y="6128"/>
                </a:cubicBezTo>
              </a:path>
              <a:path w="1239" h="1398">
                <a:moveTo>
                  <a:pt x="8700" y="5429"/>
                </a:moveTo>
                <a:cubicBezTo>
                  <a:pt x="8677" y="5590"/>
                  <a:pt x="8668" y="5741"/>
                  <a:pt x="8668" y="5906"/>
                </a:cubicBezTo>
                <a:cubicBezTo>
                  <a:pt x="8668" y="5965"/>
                  <a:pt x="8683" y="5952"/>
                  <a:pt x="8731" y="5842"/>
                </a:cubicBezTo>
              </a:path>
              <a:path w="1239" h="1398">
                <a:moveTo>
                  <a:pt x="8795" y="5493"/>
                </a:moveTo>
                <a:cubicBezTo>
                  <a:pt x="8806" y="5436"/>
                  <a:pt x="8841" y="5356"/>
                  <a:pt x="8922" y="5366"/>
                </a:cubicBezTo>
                <a:cubicBezTo>
                  <a:pt x="8986" y="5374"/>
                  <a:pt x="9037" y="5418"/>
                  <a:pt x="9080" y="5461"/>
                </a:cubicBezTo>
                <a:cubicBezTo>
                  <a:pt x="9142" y="5523"/>
                  <a:pt x="9029" y="5656"/>
                  <a:pt x="8985" y="5715"/>
                </a:cubicBezTo>
                <a:cubicBezTo>
                  <a:pt x="8939" y="5778"/>
                  <a:pt x="8897" y="5838"/>
                  <a:pt x="8858" y="5906"/>
                </a:cubicBezTo>
                <a:cubicBezTo>
                  <a:pt x="8888" y="5896"/>
                  <a:pt x="8929" y="5835"/>
                  <a:pt x="8985" y="5842"/>
                </a:cubicBezTo>
                <a:cubicBezTo>
                  <a:pt x="9045" y="5849"/>
                  <a:pt x="9079" y="5874"/>
                  <a:pt x="9144" y="5874"/>
                </a:cubicBezTo>
                <a:cubicBezTo>
                  <a:pt x="9155" y="5874"/>
                  <a:pt x="9165" y="5874"/>
                  <a:pt x="9176" y="5874"/>
                </a:cubicBezTo>
              </a:path>
              <a:path w="1239" h="1398">
                <a:moveTo>
                  <a:pt x="8192" y="5588"/>
                </a:moveTo>
                <a:cubicBezTo>
                  <a:pt x="8234" y="5588"/>
                  <a:pt x="8276" y="5588"/>
                  <a:pt x="8318" y="55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0320" y="1978200"/>
            <a:ext cx="298440" cy="182520"/>
          </a:xfrm>
          <a:custGeom>
            <a:avLst/>
            <a:gdLst/>
            <a:ahLst/>
            <a:rect l="l" t="t" r="r" b="b"/>
            <a:pathLst>
              <a:path w="826" h="509">
                <a:moveTo>
                  <a:pt x="15907" y="5524"/>
                </a:moveTo>
                <a:cubicBezTo>
                  <a:pt x="15917" y="5514"/>
                  <a:pt x="15928" y="5503"/>
                  <a:pt x="15938" y="5493"/>
                </a:cubicBezTo>
                <a:cubicBezTo>
                  <a:pt x="15853" y="5493"/>
                  <a:pt x="15644" y="5454"/>
                  <a:pt x="15621" y="5524"/>
                </a:cubicBezTo>
                <a:cubicBezTo>
                  <a:pt x="15593" y="5608"/>
                  <a:pt x="15582" y="5627"/>
                  <a:pt x="15589" y="5683"/>
                </a:cubicBezTo>
                <a:cubicBezTo>
                  <a:pt x="15680" y="5738"/>
                  <a:pt x="15686" y="5700"/>
                  <a:pt x="15780" y="5683"/>
                </a:cubicBezTo>
                <a:cubicBezTo>
                  <a:pt x="15852" y="5670"/>
                  <a:pt x="15921" y="5745"/>
                  <a:pt x="15938" y="5810"/>
                </a:cubicBezTo>
                <a:cubicBezTo>
                  <a:pt x="15959" y="5889"/>
                  <a:pt x="15892" y="5986"/>
                  <a:pt x="15812" y="6001"/>
                </a:cubicBezTo>
                <a:cubicBezTo>
                  <a:pt x="15716" y="6019"/>
                  <a:pt x="15604" y="5992"/>
                  <a:pt x="15558" y="5969"/>
                </a:cubicBezTo>
                <a:cubicBezTo>
                  <a:pt x="15547" y="5969"/>
                  <a:pt x="15537" y="5969"/>
                  <a:pt x="15526" y="5969"/>
                </a:cubicBezTo>
              </a:path>
              <a:path w="826" h="509">
                <a:moveTo>
                  <a:pt x="15145" y="5715"/>
                </a:moveTo>
                <a:cubicBezTo>
                  <a:pt x="15134" y="5726"/>
                  <a:pt x="15124" y="5736"/>
                  <a:pt x="15113" y="5747"/>
                </a:cubicBezTo>
                <a:cubicBezTo>
                  <a:pt x="15176" y="5747"/>
                  <a:pt x="15254" y="5727"/>
                  <a:pt x="15272" y="57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91040" y="2092320"/>
            <a:ext cx="218880" cy="285840"/>
          </a:xfrm>
          <a:custGeom>
            <a:avLst/>
            <a:gdLst/>
            <a:ahLst/>
            <a:rect l="l" t="t" r="r" b="b"/>
            <a:pathLst>
              <a:path w="605" h="795">
                <a:moveTo>
                  <a:pt x="11843" y="5842"/>
                </a:moveTo>
                <a:cubicBezTo>
                  <a:pt x="11853" y="5831"/>
                  <a:pt x="11864" y="5821"/>
                  <a:pt x="11874" y="5810"/>
                </a:cubicBezTo>
                <a:cubicBezTo>
                  <a:pt x="11771" y="5863"/>
                  <a:pt x="11639" y="6013"/>
                  <a:pt x="11525" y="6096"/>
                </a:cubicBezTo>
                <a:cubicBezTo>
                  <a:pt x="11467" y="6138"/>
                  <a:pt x="11427" y="6176"/>
                  <a:pt x="11366" y="6191"/>
                </a:cubicBezTo>
                <a:cubicBezTo>
                  <a:pt x="11479" y="6214"/>
                  <a:pt x="11625" y="6312"/>
                  <a:pt x="11716" y="6382"/>
                </a:cubicBezTo>
                <a:cubicBezTo>
                  <a:pt x="11801" y="6448"/>
                  <a:pt x="11890" y="6564"/>
                  <a:pt x="11970" y="6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49760" y="4732200"/>
            <a:ext cx="788760" cy="1097280"/>
          </a:xfrm>
          <a:custGeom>
            <a:avLst/>
            <a:gdLst/>
            <a:ahLst/>
            <a:rect l="l" t="t" r="r" b="b"/>
            <a:pathLst>
              <a:path w="2192" h="3049">
                <a:moveTo>
                  <a:pt x="11430" y="13144"/>
                </a:moveTo>
                <a:cubicBezTo>
                  <a:pt x="11430" y="13350"/>
                  <a:pt x="11385" y="13544"/>
                  <a:pt x="11366" y="13748"/>
                </a:cubicBezTo>
                <a:cubicBezTo>
                  <a:pt x="11366" y="13835"/>
                  <a:pt x="11359" y="13870"/>
                  <a:pt x="11430" y="13811"/>
                </a:cubicBezTo>
              </a:path>
              <a:path w="2192" h="3049">
                <a:moveTo>
                  <a:pt x="12128" y="13208"/>
                </a:moveTo>
                <a:cubicBezTo>
                  <a:pt x="11931" y="13315"/>
                  <a:pt x="11805" y="13384"/>
                  <a:pt x="11970" y="13589"/>
                </a:cubicBezTo>
                <a:cubicBezTo>
                  <a:pt x="12114" y="13768"/>
                  <a:pt x="12169" y="13721"/>
                  <a:pt x="12033" y="13875"/>
                </a:cubicBezTo>
                <a:cubicBezTo>
                  <a:pt x="11796" y="13685"/>
                  <a:pt x="11990" y="13555"/>
                  <a:pt x="12065" y="13303"/>
                </a:cubicBezTo>
                <a:cubicBezTo>
                  <a:pt x="12065" y="13219"/>
                  <a:pt x="12076" y="13187"/>
                  <a:pt x="12002" y="13208"/>
                </a:cubicBezTo>
              </a:path>
              <a:path w="2192" h="3049">
                <a:moveTo>
                  <a:pt x="10700" y="14034"/>
                </a:moveTo>
                <a:cubicBezTo>
                  <a:pt x="10749" y="14225"/>
                  <a:pt x="10771" y="14290"/>
                  <a:pt x="10732" y="14478"/>
                </a:cubicBezTo>
              </a:path>
              <a:path w="2192" h="3049">
                <a:moveTo>
                  <a:pt x="10604" y="14319"/>
                </a:moveTo>
                <a:cubicBezTo>
                  <a:pt x="10834" y="14278"/>
                  <a:pt x="11036" y="14263"/>
                  <a:pt x="11271" y="14256"/>
                </a:cubicBezTo>
              </a:path>
              <a:path w="2192" h="3049">
                <a:moveTo>
                  <a:pt x="11462" y="14224"/>
                </a:moveTo>
                <a:cubicBezTo>
                  <a:pt x="11630" y="14259"/>
                  <a:pt x="11955" y="14423"/>
                  <a:pt x="11652" y="14637"/>
                </a:cubicBezTo>
                <a:cubicBezTo>
                  <a:pt x="11499" y="14745"/>
                  <a:pt x="11403" y="14661"/>
                  <a:pt x="11335" y="14573"/>
                </a:cubicBezTo>
                <a:cubicBezTo>
                  <a:pt x="11528" y="14517"/>
                  <a:pt x="11617" y="14496"/>
                  <a:pt x="11748" y="14668"/>
                </a:cubicBezTo>
              </a:path>
              <a:path w="2192" h="3049">
                <a:moveTo>
                  <a:pt x="12002" y="14160"/>
                </a:moveTo>
                <a:cubicBezTo>
                  <a:pt x="12002" y="14280"/>
                  <a:pt x="11935" y="14391"/>
                  <a:pt x="11938" y="14510"/>
                </a:cubicBezTo>
                <a:cubicBezTo>
                  <a:pt x="11944" y="14765"/>
                  <a:pt x="12175" y="14795"/>
                  <a:pt x="12351" y="14637"/>
                </a:cubicBezTo>
                <a:cubicBezTo>
                  <a:pt x="12398" y="14543"/>
                  <a:pt x="12455" y="14500"/>
                  <a:pt x="12382" y="14510"/>
                </a:cubicBezTo>
                <a:cubicBezTo>
                  <a:pt x="12219" y="14610"/>
                  <a:pt x="12184" y="14685"/>
                  <a:pt x="12097" y="14859"/>
                </a:cubicBezTo>
              </a:path>
              <a:path w="2192" h="3049">
                <a:moveTo>
                  <a:pt x="10890" y="15113"/>
                </a:moveTo>
                <a:cubicBezTo>
                  <a:pt x="11414" y="15042"/>
                  <a:pt x="11947" y="14954"/>
                  <a:pt x="12478" y="14986"/>
                </a:cubicBezTo>
                <a:cubicBezTo>
                  <a:pt x="12583" y="15013"/>
                  <a:pt x="12648" y="15023"/>
                  <a:pt x="12541" y="15018"/>
                </a:cubicBezTo>
              </a:path>
              <a:path w="2192" h="3049">
                <a:moveTo>
                  <a:pt x="11208" y="15589"/>
                </a:moveTo>
                <a:cubicBezTo>
                  <a:pt x="11208" y="15696"/>
                  <a:pt x="11183" y="15838"/>
                  <a:pt x="11335" y="15843"/>
                </a:cubicBezTo>
                <a:cubicBezTo>
                  <a:pt x="11480" y="15808"/>
                  <a:pt x="11531" y="15782"/>
                  <a:pt x="11557" y="15653"/>
                </a:cubicBezTo>
              </a:path>
              <a:path w="2192" h="3049">
                <a:moveTo>
                  <a:pt x="11525" y="15526"/>
                </a:moveTo>
                <a:cubicBezTo>
                  <a:pt x="11491" y="15742"/>
                  <a:pt x="11361" y="16376"/>
                  <a:pt x="11398" y="16161"/>
                </a:cubicBezTo>
                <a:cubicBezTo>
                  <a:pt x="11409" y="16129"/>
                  <a:pt x="11419" y="16098"/>
                  <a:pt x="11430" y="16066"/>
                </a:cubicBezTo>
              </a:path>
              <a:path w="2192" h="3049">
                <a:moveTo>
                  <a:pt x="11748" y="15653"/>
                </a:moveTo>
                <a:cubicBezTo>
                  <a:pt x="11755" y="15770"/>
                  <a:pt x="11752" y="16058"/>
                  <a:pt x="11970" y="16002"/>
                </a:cubicBezTo>
                <a:cubicBezTo>
                  <a:pt x="12136" y="15902"/>
                  <a:pt x="12193" y="15862"/>
                  <a:pt x="12224" y="15716"/>
                </a:cubicBezTo>
              </a:path>
              <a:path w="2192" h="3049">
                <a:moveTo>
                  <a:pt x="12160" y="15558"/>
                </a:moveTo>
                <a:cubicBezTo>
                  <a:pt x="12143" y="15753"/>
                  <a:pt x="12224" y="16020"/>
                  <a:pt x="12192" y="16192"/>
                </a:cubicBezTo>
                <a:cubicBezTo>
                  <a:pt x="12181" y="16192"/>
                  <a:pt x="12171" y="16192"/>
                  <a:pt x="12160" y="16192"/>
                </a:cubicBezTo>
              </a:path>
              <a:path w="2192" h="3049">
                <a:moveTo>
                  <a:pt x="10414" y="15970"/>
                </a:moveTo>
                <a:cubicBezTo>
                  <a:pt x="10439" y="16044"/>
                  <a:pt x="10584" y="16031"/>
                  <a:pt x="10668" y="16034"/>
                </a:cubicBezTo>
                <a:cubicBezTo>
                  <a:pt x="10700" y="16034"/>
                  <a:pt x="10731" y="16034"/>
                  <a:pt x="10763" y="16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/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0440" y="2006640"/>
            <a:ext cx="14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8 + 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11804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when c = 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57560" y="2206800"/>
            <a:ext cx="274680" cy="239400"/>
          </a:xfrm>
          <a:custGeom>
            <a:avLst/>
            <a:gdLst/>
            <a:ahLst/>
            <a:rect l="l" t="t" r="r" b="b"/>
            <a:pathLst>
              <a:path w="763" h="667">
                <a:moveTo>
                  <a:pt x="11430" y="6699"/>
                </a:moveTo>
                <a:cubicBezTo>
                  <a:pt x="11362" y="6733"/>
                  <a:pt x="11542" y="6787"/>
                  <a:pt x="11589" y="6794"/>
                </a:cubicBezTo>
                <a:cubicBezTo>
                  <a:pt x="11683" y="6808"/>
                  <a:pt x="11825" y="6744"/>
                  <a:pt x="11906" y="6699"/>
                </a:cubicBezTo>
                <a:cubicBezTo>
                  <a:pt x="11955" y="6672"/>
                  <a:pt x="12027" y="6592"/>
                  <a:pt x="12033" y="6540"/>
                </a:cubicBezTo>
                <a:cubicBezTo>
                  <a:pt x="12040" y="6475"/>
                  <a:pt x="12036" y="6387"/>
                  <a:pt x="11970" y="6350"/>
                </a:cubicBezTo>
                <a:cubicBezTo>
                  <a:pt x="11922" y="6323"/>
                  <a:pt x="11860" y="6214"/>
                  <a:pt x="11811" y="6191"/>
                </a:cubicBezTo>
                <a:cubicBezTo>
                  <a:pt x="11777" y="6175"/>
                  <a:pt x="11663" y="6136"/>
                  <a:pt x="11620" y="6128"/>
                </a:cubicBezTo>
                <a:cubicBezTo>
                  <a:pt x="11517" y="6110"/>
                  <a:pt x="11503" y="6145"/>
                  <a:pt x="11430" y="6191"/>
                </a:cubicBezTo>
                <a:cubicBezTo>
                  <a:pt x="11363" y="6234"/>
                  <a:pt x="11268" y="6387"/>
                  <a:pt x="11271" y="6477"/>
                </a:cubicBezTo>
                <a:cubicBezTo>
                  <a:pt x="11273" y="6542"/>
                  <a:pt x="11344" y="6721"/>
                  <a:pt x="11398" y="6763"/>
                </a:cubicBezTo>
                <a:cubicBezTo>
                  <a:pt x="11480" y="6826"/>
                  <a:pt x="11546" y="6781"/>
                  <a:pt x="11620" y="67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2600" y="1692360"/>
            <a:ext cx="538200" cy="204840"/>
          </a:xfrm>
          <a:custGeom>
            <a:avLst/>
            <a:gdLst/>
            <a:ahLst/>
            <a:rect l="l" t="t" r="r" b="b"/>
            <a:pathLst>
              <a:path w="1494" h="572">
                <a:moveTo>
                  <a:pt x="12605" y="4794"/>
                </a:moveTo>
                <a:cubicBezTo>
                  <a:pt x="12615" y="4794"/>
                  <a:pt x="12626" y="4794"/>
                  <a:pt x="12636" y="4794"/>
                </a:cubicBezTo>
                <a:cubicBezTo>
                  <a:pt x="12636" y="4737"/>
                  <a:pt x="12639" y="4704"/>
                  <a:pt x="12573" y="4699"/>
                </a:cubicBezTo>
                <a:cubicBezTo>
                  <a:pt x="12476" y="4692"/>
                  <a:pt x="12396" y="4700"/>
                  <a:pt x="12319" y="4762"/>
                </a:cubicBezTo>
                <a:cubicBezTo>
                  <a:pt x="12308" y="4773"/>
                  <a:pt x="12298" y="4783"/>
                  <a:pt x="12287" y="4794"/>
                </a:cubicBezTo>
                <a:cubicBezTo>
                  <a:pt x="12344" y="4967"/>
                  <a:pt x="12524" y="5055"/>
                  <a:pt x="12636" y="5207"/>
                </a:cubicBezTo>
                <a:cubicBezTo>
                  <a:pt x="12636" y="5252"/>
                  <a:pt x="12625" y="5268"/>
                  <a:pt x="12573" y="5270"/>
                </a:cubicBezTo>
                <a:cubicBezTo>
                  <a:pt x="12364" y="5157"/>
                  <a:pt x="12416" y="5108"/>
                  <a:pt x="12541" y="4921"/>
                </a:cubicBezTo>
                <a:cubicBezTo>
                  <a:pt x="12589" y="4849"/>
                  <a:pt x="12583" y="4817"/>
                  <a:pt x="12636" y="4826"/>
                </a:cubicBezTo>
              </a:path>
              <a:path w="1494" h="572">
                <a:moveTo>
                  <a:pt x="12986" y="4985"/>
                </a:moveTo>
                <a:cubicBezTo>
                  <a:pt x="13063" y="4985"/>
                  <a:pt x="13132" y="5008"/>
                  <a:pt x="13208" y="5016"/>
                </a:cubicBezTo>
              </a:path>
              <a:path w="1494" h="572">
                <a:moveTo>
                  <a:pt x="13589" y="4762"/>
                </a:moveTo>
                <a:cubicBezTo>
                  <a:pt x="13599" y="4762"/>
                  <a:pt x="13704" y="4762"/>
                  <a:pt x="13621" y="4762"/>
                </a:cubicBezTo>
                <a:cubicBezTo>
                  <a:pt x="13504" y="4812"/>
                  <a:pt x="13520" y="4797"/>
                  <a:pt x="13494" y="4953"/>
                </a:cubicBezTo>
                <a:cubicBezTo>
                  <a:pt x="13494" y="4964"/>
                  <a:pt x="13494" y="4974"/>
                  <a:pt x="13494" y="4985"/>
                </a:cubicBezTo>
                <a:cubicBezTo>
                  <a:pt x="13569" y="4985"/>
                  <a:pt x="13685" y="4965"/>
                  <a:pt x="13748" y="5016"/>
                </a:cubicBezTo>
                <a:cubicBezTo>
                  <a:pt x="13931" y="5164"/>
                  <a:pt x="13643" y="5232"/>
                  <a:pt x="13557" y="5239"/>
                </a:cubicBezTo>
                <a:cubicBezTo>
                  <a:pt x="13438" y="5249"/>
                  <a:pt x="13475" y="5186"/>
                  <a:pt x="13494" y="5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622520"/>
            <a:ext cx="514440" cy="263520"/>
          </a:xfrm>
          <a:custGeom>
            <a:avLst/>
            <a:gdLst/>
            <a:ahLst/>
            <a:rect l="l" t="t" r="r" b="b"/>
            <a:pathLst>
              <a:path w="1430" h="732">
                <a:moveTo>
                  <a:pt x="14446" y="4794"/>
                </a:moveTo>
                <a:cubicBezTo>
                  <a:pt x="14534" y="4794"/>
                  <a:pt x="14583" y="4805"/>
                  <a:pt x="14668" y="4826"/>
                </a:cubicBezTo>
              </a:path>
              <a:path w="1430" h="732">
                <a:moveTo>
                  <a:pt x="14319" y="4985"/>
                </a:moveTo>
                <a:cubicBezTo>
                  <a:pt x="14474" y="4985"/>
                  <a:pt x="14612" y="4975"/>
                  <a:pt x="14764" y="4953"/>
                </a:cubicBezTo>
              </a:path>
              <a:path w="1430" h="732">
                <a:moveTo>
                  <a:pt x="15367" y="4667"/>
                </a:moveTo>
                <a:cubicBezTo>
                  <a:pt x="15471" y="4644"/>
                  <a:pt x="15773" y="4581"/>
                  <a:pt x="15748" y="4794"/>
                </a:cubicBezTo>
                <a:cubicBezTo>
                  <a:pt x="15679" y="4897"/>
                  <a:pt x="15650" y="4933"/>
                  <a:pt x="15558" y="4953"/>
                </a:cubicBezTo>
                <a:cubicBezTo>
                  <a:pt x="15547" y="4964"/>
                  <a:pt x="15537" y="4974"/>
                  <a:pt x="15526" y="4985"/>
                </a:cubicBezTo>
                <a:cubicBezTo>
                  <a:pt x="15551" y="4883"/>
                  <a:pt x="15638" y="4939"/>
                  <a:pt x="15684" y="5016"/>
                </a:cubicBezTo>
                <a:cubicBezTo>
                  <a:pt x="15826" y="5258"/>
                  <a:pt x="15446" y="5215"/>
                  <a:pt x="15335" y="5207"/>
                </a:cubicBezTo>
                <a:cubicBezTo>
                  <a:pt x="15314" y="5207"/>
                  <a:pt x="15293" y="5207"/>
                  <a:pt x="15272" y="5207"/>
                </a:cubicBezTo>
              </a:path>
              <a:path w="1430" h="732">
                <a:moveTo>
                  <a:pt x="14796" y="4508"/>
                </a:moveTo>
                <a:cubicBezTo>
                  <a:pt x="14881" y="4508"/>
                  <a:pt x="14965" y="4508"/>
                  <a:pt x="15050" y="4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21160" y="4664160"/>
            <a:ext cx="1349280" cy="525240"/>
          </a:xfrm>
          <a:custGeom>
            <a:avLst/>
            <a:gdLst/>
            <a:ahLst/>
            <a:rect l="l" t="t" r="r" b="b"/>
            <a:pathLst>
              <a:path w="3748" h="1461">
                <a:moveTo>
                  <a:pt x="10732" y="13208"/>
                </a:moveTo>
                <a:cubicBezTo>
                  <a:pt x="10742" y="13208"/>
                  <a:pt x="10753" y="13208"/>
                  <a:pt x="10763" y="13208"/>
                </a:cubicBez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08"/>
                </a:moveTo>
                <a:lnTo>
                  <a:pt x="10763" y="13208"/>
                </a:lnTo>
              </a:path>
              <a:path w="3748" h="1461">
                <a:moveTo>
                  <a:pt x="10763" y="13240"/>
                </a:moveTo>
                <a:cubicBezTo>
                  <a:pt x="10662" y="13354"/>
                  <a:pt x="10621" y="13445"/>
                  <a:pt x="10573" y="13589"/>
                </a:cubicBezTo>
                <a:cubicBezTo>
                  <a:pt x="10540" y="13688"/>
                  <a:pt x="10402" y="13857"/>
                  <a:pt x="10541" y="13938"/>
                </a:cubicBezTo>
                <a:cubicBezTo>
                  <a:pt x="10692" y="14026"/>
                  <a:pt x="10978" y="13903"/>
                  <a:pt x="11081" y="13780"/>
                </a:cubicBezTo>
                <a:cubicBezTo>
                  <a:pt x="11091" y="13748"/>
                  <a:pt x="11102" y="13716"/>
                  <a:pt x="11112" y="13684"/>
                </a:cubicBezTo>
                <a:cubicBezTo>
                  <a:pt x="10971" y="13589"/>
                  <a:pt x="10814" y="13646"/>
                  <a:pt x="10700" y="13780"/>
                </a:cubicBezTo>
                <a:cubicBezTo>
                  <a:pt x="10675" y="13853"/>
                  <a:pt x="10665" y="13862"/>
                  <a:pt x="10668" y="13906"/>
                </a:cubicBezTo>
              </a:path>
              <a:path w="3748" h="1461">
                <a:moveTo>
                  <a:pt x="9970" y="13589"/>
                </a:moveTo>
                <a:cubicBezTo>
                  <a:pt x="10101" y="13566"/>
                  <a:pt x="10216" y="13557"/>
                  <a:pt x="10350" y="13557"/>
                </a:cubicBezTo>
              </a:path>
              <a:path w="3748" h="1461">
                <a:moveTo>
                  <a:pt x="11335" y="12986"/>
                </a:moveTo>
                <a:cubicBezTo>
                  <a:pt x="11525" y="13101"/>
                  <a:pt x="11533" y="13547"/>
                  <a:pt x="11494" y="13748"/>
                </a:cubicBezTo>
                <a:cubicBezTo>
                  <a:pt x="11429" y="14081"/>
                  <a:pt x="11227" y="14348"/>
                  <a:pt x="10922" y="14288"/>
                </a:cubicBezTo>
              </a:path>
              <a:path w="3748" h="1461">
                <a:moveTo>
                  <a:pt x="10160" y="12986"/>
                </a:moveTo>
                <a:cubicBezTo>
                  <a:pt x="9895" y="12956"/>
                  <a:pt x="9849" y="13341"/>
                  <a:pt x="9811" y="13557"/>
                </a:cubicBezTo>
                <a:cubicBezTo>
                  <a:pt x="9759" y="13852"/>
                  <a:pt x="9771" y="14305"/>
                  <a:pt x="10128" y="14414"/>
                </a:cubicBezTo>
                <a:cubicBezTo>
                  <a:pt x="10170" y="14414"/>
                  <a:pt x="10213" y="14414"/>
                  <a:pt x="10255" y="14414"/>
                </a:cubicBezTo>
              </a:path>
              <a:path w="3748" h="1461">
                <a:moveTo>
                  <a:pt x="11906" y="12986"/>
                </a:moveTo>
                <a:cubicBezTo>
                  <a:pt x="11844" y="13235"/>
                  <a:pt x="11695" y="13457"/>
                  <a:pt x="11652" y="13716"/>
                </a:cubicBezTo>
                <a:cubicBezTo>
                  <a:pt x="11612" y="13952"/>
                  <a:pt x="11644" y="14224"/>
                  <a:pt x="11938" y="14224"/>
                </a:cubicBezTo>
                <a:cubicBezTo>
                  <a:pt x="11990" y="14198"/>
                  <a:pt x="11998" y="14187"/>
                  <a:pt x="12033" y="14192"/>
                </a:cubicBezTo>
              </a:path>
              <a:path w="3748" h="1461">
                <a:moveTo>
                  <a:pt x="12160" y="13589"/>
                </a:moveTo>
                <a:cubicBezTo>
                  <a:pt x="12279" y="13581"/>
                  <a:pt x="12391" y="13557"/>
                  <a:pt x="12510" y="13557"/>
                </a:cubicBezTo>
              </a:path>
              <a:path w="3748" h="1461">
                <a:moveTo>
                  <a:pt x="12764" y="13303"/>
                </a:moveTo>
                <a:cubicBezTo>
                  <a:pt x="12693" y="13483"/>
                  <a:pt x="12577" y="13769"/>
                  <a:pt x="12636" y="13970"/>
                </a:cubicBezTo>
                <a:cubicBezTo>
                  <a:pt x="12657" y="13991"/>
                  <a:pt x="12679" y="14013"/>
                  <a:pt x="12700" y="14034"/>
                </a:cubicBezTo>
                <a:cubicBezTo>
                  <a:pt x="12939" y="14047"/>
                  <a:pt x="13025" y="14023"/>
                  <a:pt x="13081" y="13780"/>
                </a:cubicBezTo>
                <a:cubicBezTo>
                  <a:pt x="12961" y="13795"/>
                  <a:pt x="12826" y="13876"/>
                  <a:pt x="12890" y="14034"/>
                </a:cubicBezTo>
                <a:cubicBezTo>
                  <a:pt x="12911" y="14044"/>
                  <a:pt x="12933" y="14055"/>
                  <a:pt x="12954" y="14065"/>
                </a:cubicBezTo>
              </a:path>
              <a:path w="3748" h="1461">
                <a:moveTo>
                  <a:pt x="13240" y="12986"/>
                </a:moveTo>
                <a:cubicBezTo>
                  <a:pt x="13346" y="13260"/>
                  <a:pt x="13546" y="13568"/>
                  <a:pt x="13526" y="13875"/>
                </a:cubicBezTo>
                <a:cubicBezTo>
                  <a:pt x="13512" y="14094"/>
                  <a:pt x="13365" y="14158"/>
                  <a:pt x="13208" y="14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32520" y="4846680"/>
            <a:ext cx="114120" cy="92160"/>
          </a:xfrm>
          <a:custGeom>
            <a:avLst/>
            <a:gdLst/>
            <a:ahLst/>
            <a:rect l="l" t="t" r="r" b="b"/>
            <a:pathLst>
              <a:path w="318" h="255">
                <a:moveTo>
                  <a:pt x="14288" y="13462"/>
                </a:moveTo>
                <a:cubicBezTo>
                  <a:pt x="14381" y="13462"/>
                  <a:pt x="14465" y="13449"/>
                  <a:pt x="14510" y="13494"/>
                </a:cubicBezTo>
              </a:path>
              <a:path w="318" h="255">
                <a:moveTo>
                  <a:pt x="14256" y="13716"/>
                </a:moveTo>
                <a:cubicBezTo>
                  <a:pt x="14414" y="13716"/>
                  <a:pt x="14467" y="13716"/>
                  <a:pt x="14573" y="13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00880" y="4800600"/>
            <a:ext cx="468000" cy="285840"/>
          </a:xfrm>
          <a:custGeom>
            <a:avLst/>
            <a:gdLst/>
            <a:ahLst/>
            <a:rect l="l" t="t" r="r" b="b"/>
            <a:pathLst>
              <a:path w="1302" h="795">
                <a:moveTo>
                  <a:pt x="15558" y="13398"/>
                </a:moveTo>
                <a:cubicBezTo>
                  <a:pt x="15700" y="13370"/>
                  <a:pt x="15849" y="13350"/>
                  <a:pt x="16002" y="13367"/>
                </a:cubicBezTo>
                <a:cubicBezTo>
                  <a:pt x="16367" y="13409"/>
                  <a:pt x="15950" y="13659"/>
                  <a:pt x="15843" y="13716"/>
                </a:cubicBezTo>
                <a:cubicBezTo>
                  <a:pt x="15634" y="13716"/>
                  <a:pt x="15964" y="13682"/>
                  <a:pt x="16066" y="13780"/>
                </a:cubicBezTo>
                <a:cubicBezTo>
                  <a:pt x="16347" y="14050"/>
                  <a:pt x="15837" y="14139"/>
                  <a:pt x="15684" y="14129"/>
                </a:cubicBezTo>
                <a:cubicBezTo>
                  <a:pt x="15357" y="14107"/>
                  <a:pt x="15712" y="13879"/>
                  <a:pt x="15780" y="13811"/>
                </a:cubicBezTo>
              </a:path>
              <a:path w="1302" h="795">
                <a:moveTo>
                  <a:pt x="16446" y="13367"/>
                </a:moveTo>
                <a:cubicBezTo>
                  <a:pt x="16446" y="13271"/>
                  <a:pt x="16431" y="13494"/>
                  <a:pt x="16415" y="13589"/>
                </a:cubicBezTo>
                <a:cubicBezTo>
                  <a:pt x="16396" y="13704"/>
                  <a:pt x="16262" y="14061"/>
                  <a:pt x="16446" y="14129"/>
                </a:cubicBezTo>
                <a:cubicBezTo>
                  <a:pt x="16607" y="14188"/>
                  <a:pt x="16815" y="14093"/>
                  <a:pt x="16859" y="13938"/>
                </a:cubicBezTo>
                <a:cubicBezTo>
                  <a:pt x="16859" y="13875"/>
                  <a:pt x="16859" y="13853"/>
                  <a:pt x="16859" y="13811"/>
                </a:cubicBezTo>
                <a:cubicBezTo>
                  <a:pt x="16633" y="13846"/>
                  <a:pt x="16606" y="13903"/>
                  <a:pt x="16574" y="14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6640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8651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+ ab     when a=-8 and b=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396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1800" y="390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3429000"/>
                <a:ext cx="243828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693200" y="2092320"/>
            <a:ext cx="147600" cy="160200"/>
          </a:xfrm>
          <a:custGeom>
            <a:avLst/>
            <a:gdLst/>
            <a:ahLst/>
            <a:rect l="l" t="t" r="r" b="b"/>
            <a:pathLst>
              <a:path w="413" h="446">
                <a:moveTo>
                  <a:pt x="21749" y="5810"/>
                </a:moveTo>
                <a:cubicBezTo>
                  <a:pt x="21782" y="5855"/>
                  <a:pt x="21780" y="5851"/>
                  <a:pt x="21780" y="5906"/>
                </a:cubicBezTo>
                <a:cubicBezTo>
                  <a:pt x="21780" y="5957"/>
                  <a:pt x="21741" y="5843"/>
                  <a:pt x="21685" y="5810"/>
                </a:cubicBezTo>
                <a:cubicBezTo>
                  <a:pt x="21573" y="5744"/>
                  <a:pt x="21438" y="5936"/>
                  <a:pt x="21400" y="6001"/>
                </a:cubicBezTo>
                <a:cubicBezTo>
                  <a:pt x="21267" y="6227"/>
                  <a:pt x="21564" y="6276"/>
                  <a:pt x="21717" y="6255"/>
                </a:cubicBezTo>
                <a:cubicBezTo>
                  <a:pt x="21738" y="6244"/>
                  <a:pt x="21759" y="6234"/>
                  <a:pt x="21780" y="62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23320" y="2125800"/>
            <a:ext cx="81000" cy="69840"/>
          </a:xfrm>
          <a:custGeom>
            <a:avLst/>
            <a:gdLst/>
            <a:ahLst/>
            <a:rect l="l" t="t" r="r" b="b"/>
            <a:pathLst>
              <a:path w="224" h="191">
                <a:moveTo>
                  <a:pt x="22352" y="5906"/>
                </a:moveTo>
                <a:cubicBezTo>
                  <a:pt x="22384" y="5906"/>
                  <a:pt x="22395" y="5906"/>
                  <a:pt x="22416" y="5906"/>
                </a:cubicBezTo>
              </a:path>
              <a:path w="224" h="191">
                <a:moveTo>
                  <a:pt x="22288" y="6064"/>
                </a:moveTo>
                <a:cubicBezTo>
                  <a:pt x="22356" y="6064"/>
                  <a:pt x="22378" y="6090"/>
                  <a:pt x="22447" y="6096"/>
                </a:cubicBezTo>
                <a:cubicBezTo>
                  <a:pt x="22479" y="6096"/>
                  <a:pt x="22490" y="6096"/>
                  <a:pt x="22511" y="6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4520" y="2000160"/>
            <a:ext cx="274680" cy="239760"/>
          </a:xfrm>
          <a:custGeom>
            <a:avLst/>
            <a:gdLst/>
            <a:ahLst/>
            <a:rect l="l" t="t" r="r" b="b"/>
            <a:pathLst>
              <a:path w="763" h="668">
                <a:moveTo>
                  <a:pt x="22955" y="5778"/>
                </a:moveTo>
                <a:cubicBezTo>
                  <a:pt x="23050" y="5778"/>
                  <a:pt x="23133" y="5792"/>
                  <a:pt x="23209" y="5747"/>
                </a:cubicBezTo>
              </a:path>
              <a:path w="763" h="668">
                <a:moveTo>
                  <a:pt x="23463" y="5556"/>
                </a:moveTo>
                <a:cubicBezTo>
                  <a:pt x="23415" y="5720"/>
                  <a:pt x="23283" y="5925"/>
                  <a:pt x="23304" y="6096"/>
                </a:cubicBezTo>
                <a:cubicBezTo>
                  <a:pt x="23328" y="6286"/>
                  <a:pt x="23572" y="6151"/>
                  <a:pt x="23654" y="6128"/>
                </a:cubicBezTo>
                <a:cubicBezTo>
                  <a:pt x="23690" y="6128"/>
                  <a:pt x="23704" y="6125"/>
                  <a:pt x="23717" y="6096"/>
                </a:cubicBezTo>
                <a:cubicBezTo>
                  <a:pt x="23688" y="5995"/>
                  <a:pt x="23656" y="5980"/>
                  <a:pt x="23558" y="6032"/>
                </a:cubicBezTo>
                <a:cubicBezTo>
                  <a:pt x="23494" y="6066"/>
                  <a:pt x="23453" y="6126"/>
                  <a:pt x="23432" y="6191"/>
                </a:cubicBezTo>
                <a:cubicBezTo>
                  <a:pt x="23432" y="6202"/>
                  <a:pt x="23432" y="6212"/>
                  <a:pt x="23432" y="62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1360" y="2639880"/>
            <a:ext cx="331920" cy="217800"/>
          </a:xfrm>
          <a:custGeom>
            <a:avLst/>
            <a:gdLst/>
            <a:ahLst/>
            <a:rect l="l" t="t" r="r" b="b"/>
            <a:pathLst>
              <a:path w="922" h="605">
                <a:moveTo>
                  <a:pt x="4477" y="7588"/>
                </a:moveTo>
                <a:cubicBezTo>
                  <a:pt x="4603" y="7556"/>
                  <a:pt x="4644" y="7546"/>
                  <a:pt x="4731" y="7556"/>
                </a:cubicBezTo>
              </a:path>
              <a:path w="922" h="605">
                <a:moveTo>
                  <a:pt x="5112" y="7366"/>
                </a:moveTo>
                <a:cubicBezTo>
                  <a:pt x="5112" y="7267"/>
                  <a:pt x="5067" y="7491"/>
                  <a:pt x="5048" y="7588"/>
                </a:cubicBezTo>
                <a:cubicBezTo>
                  <a:pt x="5019" y="7758"/>
                  <a:pt x="5004" y="7802"/>
                  <a:pt x="5048" y="7906"/>
                </a:cubicBezTo>
                <a:cubicBezTo>
                  <a:pt x="5258" y="7922"/>
                  <a:pt x="5335" y="7854"/>
                  <a:pt x="5398" y="7652"/>
                </a:cubicBezTo>
                <a:cubicBezTo>
                  <a:pt x="5281" y="7632"/>
                  <a:pt x="5215" y="7723"/>
                  <a:pt x="5175" y="7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9560" y="2664000"/>
            <a:ext cx="171360" cy="136440"/>
          </a:xfrm>
          <a:custGeom>
            <a:avLst/>
            <a:gdLst/>
            <a:ahLst/>
            <a:rect l="l" t="t" r="r" b="b"/>
            <a:pathLst>
              <a:path w="477" h="382">
                <a:moveTo>
                  <a:pt x="6160" y="7398"/>
                </a:moveTo>
                <a:cubicBezTo>
                  <a:pt x="6160" y="7484"/>
                  <a:pt x="6206" y="7799"/>
                  <a:pt x="6128" y="7747"/>
                </a:cubicBezTo>
              </a:path>
              <a:path w="477" h="382">
                <a:moveTo>
                  <a:pt x="5969" y="7556"/>
                </a:moveTo>
                <a:cubicBezTo>
                  <a:pt x="6136" y="7548"/>
                  <a:pt x="6282" y="7529"/>
                  <a:pt x="6445" y="74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92280" y="2378160"/>
            <a:ext cx="1017720" cy="593640"/>
          </a:xfrm>
          <a:custGeom>
            <a:avLst/>
            <a:gdLst/>
            <a:ahLst/>
            <a:rect l="l" t="t" r="r" b="b"/>
            <a:pathLst>
              <a:path w="2826" h="1652">
                <a:moveTo>
                  <a:pt x="7176" y="6636"/>
                </a:moveTo>
                <a:cubicBezTo>
                  <a:pt x="7054" y="6839"/>
                  <a:pt x="6852" y="7101"/>
                  <a:pt x="6985" y="7334"/>
                </a:cubicBezTo>
                <a:cubicBezTo>
                  <a:pt x="7072" y="7422"/>
                  <a:pt x="7093" y="7458"/>
                  <a:pt x="7176" y="7398"/>
                </a:cubicBezTo>
              </a:path>
              <a:path w="2826" h="1652">
                <a:moveTo>
                  <a:pt x="7271" y="7048"/>
                </a:moveTo>
                <a:cubicBezTo>
                  <a:pt x="7426" y="7048"/>
                  <a:pt x="7563" y="7045"/>
                  <a:pt x="7715" y="7017"/>
                </a:cubicBezTo>
              </a:path>
              <a:path w="2826" h="1652">
                <a:moveTo>
                  <a:pt x="7874" y="6699"/>
                </a:moveTo>
                <a:cubicBezTo>
                  <a:pt x="7652" y="6817"/>
                  <a:pt x="7578" y="6852"/>
                  <a:pt x="7715" y="7080"/>
                </a:cubicBezTo>
                <a:cubicBezTo>
                  <a:pt x="7759" y="7153"/>
                  <a:pt x="7876" y="7271"/>
                  <a:pt x="7747" y="7302"/>
                </a:cubicBezTo>
                <a:cubicBezTo>
                  <a:pt x="7771" y="7145"/>
                  <a:pt x="7856" y="7040"/>
                  <a:pt x="7906" y="6890"/>
                </a:cubicBezTo>
                <a:cubicBezTo>
                  <a:pt x="7906" y="6879"/>
                  <a:pt x="7906" y="6869"/>
                  <a:pt x="7906" y="6858"/>
                </a:cubicBezTo>
              </a:path>
              <a:path w="2826" h="1652">
                <a:moveTo>
                  <a:pt x="8064" y="6668"/>
                </a:moveTo>
                <a:cubicBezTo>
                  <a:pt x="8183" y="6936"/>
                  <a:pt x="8327" y="7224"/>
                  <a:pt x="8096" y="7493"/>
                </a:cubicBezTo>
                <a:cubicBezTo>
                  <a:pt x="7993" y="7544"/>
                  <a:pt x="7950" y="7592"/>
                  <a:pt x="7969" y="7493"/>
                </a:cubicBezTo>
              </a:path>
              <a:path w="2826" h="1652">
                <a:moveTo>
                  <a:pt x="8509" y="6699"/>
                </a:moveTo>
                <a:cubicBezTo>
                  <a:pt x="8395" y="6878"/>
                  <a:pt x="8201" y="7066"/>
                  <a:pt x="8223" y="7302"/>
                </a:cubicBezTo>
                <a:cubicBezTo>
                  <a:pt x="8239" y="7476"/>
                  <a:pt x="8386" y="7474"/>
                  <a:pt x="8509" y="7493"/>
                </a:cubicBezTo>
              </a:path>
              <a:path w="2826" h="1652">
                <a:moveTo>
                  <a:pt x="8604" y="7144"/>
                </a:moveTo>
                <a:cubicBezTo>
                  <a:pt x="8691" y="7118"/>
                  <a:pt x="8771" y="7106"/>
                  <a:pt x="8858" y="7080"/>
                </a:cubicBezTo>
              </a:path>
              <a:path w="2826" h="1652">
                <a:moveTo>
                  <a:pt x="9049" y="6858"/>
                </a:moveTo>
                <a:cubicBezTo>
                  <a:pt x="8982" y="6900"/>
                  <a:pt x="8950" y="6914"/>
                  <a:pt x="8922" y="6985"/>
                </a:cubicBezTo>
                <a:cubicBezTo>
                  <a:pt x="9048" y="7055"/>
                  <a:pt x="9177" y="7114"/>
                  <a:pt x="9271" y="7207"/>
                </a:cubicBezTo>
                <a:cubicBezTo>
                  <a:pt x="9150" y="7328"/>
                  <a:pt x="9150" y="7290"/>
                  <a:pt x="8985" y="7239"/>
                </a:cubicBezTo>
              </a:path>
              <a:path w="2826" h="1652">
                <a:moveTo>
                  <a:pt x="9112" y="6890"/>
                </a:moveTo>
                <a:cubicBezTo>
                  <a:pt x="9256" y="6826"/>
                  <a:pt x="9369" y="6795"/>
                  <a:pt x="9525" y="6763"/>
                </a:cubicBezTo>
              </a:path>
              <a:path w="2826" h="1652">
                <a:moveTo>
                  <a:pt x="9525" y="6604"/>
                </a:moveTo>
                <a:cubicBezTo>
                  <a:pt x="9640" y="6769"/>
                  <a:pt x="9854" y="7083"/>
                  <a:pt x="9716" y="7302"/>
                </a:cubicBezTo>
                <a:cubicBezTo>
                  <a:pt x="9555" y="7399"/>
                  <a:pt x="9499" y="7432"/>
                  <a:pt x="9366" y="7430"/>
                </a:cubicBezTo>
              </a:path>
              <a:path w="2826" h="1652">
                <a:moveTo>
                  <a:pt x="7842" y="7747"/>
                </a:moveTo>
                <a:cubicBezTo>
                  <a:pt x="7825" y="7850"/>
                  <a:pt x="7765" y="7995"/>
                  <a:pt x="7938" y="8001"/>
                </a:cubicBezTo>
                <a:cubicBezTo>
                  <a:pt x="8125" y="8007"/>
                  <a:pt x="8159" y="7907"/>
                  <a:pt x="8223" y="7779"/>
                </a:cubicBezTo>
              </a:path>
              <a:path w="2826" h="1652">
                <a:moveTo>
                  <a:pt x="8096" y="7779"/>
                </a:moveTo>
                <a:cubicBezTo>
                  <a:pt x="8059" y="7974"/>
                  <a:pt x="7930" y="8191"/>
                  <a:pt x="8096" y="8192"/>
                </a:cubicBezTo>
              </a:path>
              <a:path w="2826" h="1652">
                <a:moveTo>
                  <a:pt x="8446" y="7779"/>
                </a:moveTo>
                <a:cubicBezTo>
                  <a:pt x="8340" y="7999"/>
                  <a:pt x="8318" y="8027"/>
                  <a:pt x="8382" y="8255"/>
                </a:cubicBezTo>
                <a:cubicBezTo>
                  <a:pt x="8514" y="8229"/>
                  <a:pt x="9003" y="8024"/>
                  <a:pt x="8668" y="7842"/>
                </a:cubicBezTo>
                <a:cubicBezTo>
                  <a:pt x="8604" y="7831"/>
                  <a:pt x="8541" y="7821"/>
                  <a:pt x="8477" y="78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6800" y="2719440"/>
            <a:ext cx="138240" cy="69840"/>
          </a:xfrm>
          <a:custGeom>
            <a:avLst/>
            <a:gdLst/>
            <a:ahLst/>
            <a:rect l="l" t="t" r="r" b="b"/>
            <a:pathLst>
              <a:path w="382" h="192">
                <a:moveTo>
                  <a:pt x="10382" y="7556"/>
                </a:moveTo>
                <a:cubicBezTo>
                  <a:pt x="10477" y="7556"/>
                  <a:pt x="10573" y="7556"/>
                  <a:pt x="10668" y="7556"/>
                </a:cubicBezTo>
              </a:path>
              <a:path w="382" h="192">
                <a:moveTo>
                  <a:pt x="10446" y="7747"/>
                </a:moveTo>
                <a:cubicBezTo>
                  <a:pt x="10595" y="7747"/>
                  <a:pt x="10659" y="7743"/>
                  <a:pt x="10763" y="7715"/>
                </a:cubicBezTo>
              </a:path>
              <a:path w="382" h="192">
                <a:moveTo>
                  <a:pt x="10763" y="7715"/>
                </a:moveTo>
                <a:lnTo>
                  <a:pt x="10763" y="771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75000" y="2593800"/>
            <a:ext cx="435240" cy="298800"/>
          </a:xfrm>
          <a:custGeom>
            <a:avLst/>
            <a:gdLst/>
            <a:ahLst/>
            <a:rect l="l" t="t" r="r" b="b"/>
            <a:pathLst>
              <a:path w="1208" h="827">
                <a:moveTo>
                  <a:pt x="11970" y="7366"/>
                </a:moveTo>
                <a:cubicBezTo>
                  <a:pt x="12051" y="7366"/>
                  <a:pt x="12108" y="7337"/>
                  <a:pt x="12192" y="7334"/>
                </a:cubicBezTo>
                <a:cubicBezTo>
                  <a:pt x="12395" y="7326"/>
                  <a:pt x="12267" y="7556"/>
                  <a:pt x="12160" y="7620"/>
                </a:cubicBezTo>
                <a:cubicBezTo>
                  <a:pt x="12128" y="7631"/>
                  <a:pt x="12097" y="7641"/>
                  <a:pt x="12065" y="7652"/>
                </a:cubicBezTo>
                <a:cubicBezTo>
                  <a:pt x="12065" y="7641"/>
                  <a:pt x="12065" y="7631"/>
                  <a:pt x="12065" y="7620"/>
                </a:cubicBezTo>
                <a:cubicBezTo>
                  <a:pt x="12174" y="7609"/>
                  <a:pt x="12432" y="7680"/>
                  <a:pt x="12382" y="7874"/>
                </a:cubicBezTo>
                <a:cubicBezTo>
                  <a:pt x="12340" y="8036"/>
                  <a:pt x="11891" y="8129"/>
                  <a:pt x="11874" y="7938"/>
                </a:cubicBezTo>
                <a:cubicBezTo>
                  <a:pt x="11895" y="7906"/>
                  <a:pt x="11917" y="7874"/>
                  <a:pt x="11938" y="7842"/>
                </a:cubicBezTo>
              </a:path>
              <a:path w="1208" h="827">
                <a:moveTo>
                  <a:pt x="12700" y="7334"/>
                </a:moveTo>
                <a:lnTo>
                  <a:pt x="12700" y="7302"/>
                </a:lnTo>
                <a:lnTo>
                  <a:pt x="12700" y="7302"/>
                </a:lnTo>
                <a:lnTo>
                  <a:pt x="12700" y="7302"/>
                </a:lnTo>
                <a:lnTo>
                  <a:pt x="12700" y="7302"/>
                </a:lnTo>
                <a:lnTo>
                  <a:pt x="12700" y="7398"/>
                </a:lnTo>
                <a:lnTo>
                  <a:pt x="12700" y="7493"/>
                </a:lnTo>
                <a:lnTo>
                  <a:pt x="12732" y="7556"/>
                </a:lnTo>
                <a:lnTo>
                  <a:pt x="12795" y="7588"/>
                </a:lnTo>
                <a:lnTo>
                  <a:pt x="12954" y="7556"/>
                </a:lnTo>
                <a:lnTo>
                  <a:pt x="13081" y="7525"/>
                </a:lnTo>
                <a:lnTo>
                  <a:pt x="13081" y="7525"/>
                </a:lnTo>
                <a:lnTo>
                  <a:pt x="13081" y="7525"/>
                </a:lnTo>
              </a:path>
              <a:path w="1208" h="827">
                <a:moveTo>
                  <a:pt x="13049" y="7239"/>
                </a:moveTo>
                <a:cubicBezTo>
                  <a:pt x="13049" y="7272"/>
                  <a:pt x="13049" y="7667"/>
                  <a:pt x="13049" y="7810"/>
                </a:cubicBezTo>
                <a:cubicBezTo>
                  <a:pt x="13049" y="7889"/>
                  <a:pt x="13037" y="7909"/>
                  <a:pt x="1308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1760" y="3622680"/>
            <a:ext cx="480960" cy="366840"/>
          </a:xfrm>
          <a:custGeom>
            <a:avLst/>
            <a:gdLst/>
            <a:ahLst/>
            <a:rect l="l" t="t" r="r" b="b"/>
            <a:pathLst>
              <a:path w="1335" h="1017">
                <a:moveTo>
                  <a:pt x="9557" y="10827"/>
                </a:moveTo>
                <a:cubicBezTo>
                  <a:pt x="9625" y="10852"/>
                  <a:pt x="9699" y="10872"/>
                  <a:pt x="9779" y="10890"/>
                </a:cubicBezTo>
                <a:cubicBezTo>
                  <a:pt x="9989" y="10937"/>
                  <a:pt x="10187" y="10934"/>
                  <a:pt x="10382" y="10827"/>
                </a:cubicBezTo>
                <a:cubicBezTo>
                  <a:pt x="10540" y="10740"/>
                  <a:pt x="10673" y="10631"/>
                  <a:pt x="10700" y="10446"/>
                </a:cubicBezTo>
                <a:cubicBezTo>
                  <a:pt x="10725" y="10276"/>
                  <a:pt x="10672" y="10252"/>
                  <a:pt x="10541" y="10160"/>
                </a:cubicBezTo>
                <a:cubicBezTo>
                  <a:pt x="10387" y="10052"/>
                  <a:pt x="10186" y="10045"/>
                  <a:pt x="10001" y="10065"/>
                </a:cubicBezTo>
                <a:cubicBezTo>
                  <a:pt x="9827" y="10084"/>
                  <a:pt x="9566" y="10201"/>
                  <a:pt x="9462" y="10350"/>
                </a:cubicBezTo>
                <a:cubicBezTo>
                  <a:pt x="9332" y="10535"/>
                  <a:pt x="9339" y="10797"/>
                  <a:pt x="9430" y="10986"/>
                </a:cubicBezTo>
                <a:cubicBezTo>
                  <a:pt x="9508" y="11148"/>
                  <a:pt x="9656" y="11088"/>
                  <a:pt x="9779" y="110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3726000"/>
            <a:ext cx="1681200" cy="641160"/>
          </a:xfrm>
          <a:custGeom>
            <a:avLst/>
            <a:gdLst/>
            <a:ahLst/>
            <a:rect l="l" t="t" r="r" b="b"/>
            <a:pathLst>
              <a:path w="4668" h="1779">
                <a:moveTo>
                  <a:pt x="19558" y="11271"/>
                </a:moveTo>
                <a:cubicBezTo>
                  <a:pt x="19617" y="11291"/>
                  <a:pt x="19576" y="11291"/>
                  <a:pt x="19653" y="11271"/>
                </a:cubicBezTo>
                <a:cubicBezTo>
                  <a:pt x="19520" y="11271"/>
                  <a:pt x="19446" y="11227"/>
                  <a:pt x="19304" y="11271"/>
                </a:cubicBezTo>
                <a:cubicBezTo>
                  <a:pt x="19185" y="11331"/>
                  <a:pt x="19148" y="11344"/>
                  <a:pt x="19114" y="11430"/>
                </a:cubicBezTo>
                <a:cubicBezTo>
                  <a:pt x="19190" y="11500"/>
                  <a:pt x="19605" y="11764"/>
                  <a:pt x="19558" y="11874"/>
                </a:cubicBezTo>
                <a:cubicBezTo>
                  <a:pt x="19431" y="11970"/>
                  <a:pt x="19389" y="12002"/>
                  <a:pt x="19272" y="11970"/>
                </a:cubicBezTo>
                <a:cubicBezTo>
                  <a:pt x="19210" y="11717"/>
                  <a:pt x="19441" y="11626"/>
                  <a:pt x="19590" y="11398"/>
                </a:cubicBezTo>
                <a:cubicBezTo>
                  <a:pt x="19627" y="11342"/>
                  <a:pt x="19519" y="11366"/>
                  <a:pt x="19494" y="11366"/>
                </a:cubicBezTo>
              </a:path>
              <a:path w="4668" h="1779">
                <a:moveTo>
                  <a:pt x="20034" y="11208"/>
                </a:moveTo>
                <a:cubicBezTo>
                  <a:pt x="19923" y="11291"/>
                  <a:pt x="19851" y="11524"/>
                  <a:pt x="19876" y="11684"/>
                </a:cubicBezTo>
                <a:cubicBezTo>
                  <a:pt x="19897" y="11726"/>
                  <a:pt x="19918" y="11769"/>
                  <a:pt x="19939" y="11811"/>
                </a:cubicBezTo>
                <a:cubicBezTo>
                  <a:pt x="20184" y="11846"/>
                  <a:pt x="20359" y="11758"/>
                  <a:pt x="20256" y="11462"/>
                </a:cubicBezTo>
                <a:cubicBezTo>
                  <a:pt x="20179" y="11358"/>
                  <a:pt x="20173" y="11329"/>
                  <a:pt x="20098" y="11303"/>
                </a:cubicBezTo>
              </a:path>
              <a:path w="4668" h="1779">
                <a:moveTo>
                  <a:pt x="20447" y="11176"/>
                </a:moveTo>
                <a:cubicBezTo>
                  <a:pt x="20520" y="11406"/>
                  <a:pt x="20572" y="11639"/>
                  <a:pt x="20638" y="11874"/>
                </a:cubicBezTo>
              </a:path>
              <a:path w="4668" h="1779">
                <a:moveTo>
                  <a:pt x="21114" y="11303"/>
                </a:moveTo>
                <a:cubicBezTo>
                  <a:pt x="20900" y="11515"/>
                  <a:pt x="20888" y="11614"/>
                  <a:pt x="21018" y="11874"/>
                </a:cubicBezTo>
                <a:cubicBezTo>
                  <a:pt x="21229" y="11844"/>
                  <a:pt x="21664" y="11670"/>
                  <a:pt x="21368" y="11366"/>
                </a:cubicBezTo>
                <a:cubicBezTo>
                  <a:pt x="21158" y="11276"/>
                  <a:pt x="21097" y="11240"/>
                  <a:pt x="20955" y="11335"/>
                </a:cubicBezTo>
              </a:path>
              <a:path w="4668" h="1779">
                <a:moveTo>
                  <a:pt x="19177" y="12128"/>
                </a:moveTo>
                <a:cubicBezTo>
                  <a:pt x="19142" y="12012"/>
                  <a:pt x="19147" y="11879"/>
                  <a:pt x="19114" y="11748"/>
                </a:cubicBezTo>
                <a:cubicBezTo>
                  <a:pt x="19076" y="11597"/>
                  <a:pt x="18981" y="11453"/>
                  <a:pt x="18955" y="11303"/>
                </a:cubicBezTo>
                <a:cubicBezTo>
                  <a:pt x="18945" y="11243"/>
                  <a:pt x="18955" y="11173"/>
                  <a:pt x="18955" y="11112"/>
                </a:cubicBezTo>
                <a:cubicBezTo>
                  <a:pt x="19185" y="11097"/>
                  <a:pt x="19424" y="11100"/>
                  <a:pt x="19653" y="11081"/>
                </a:cubicBezTo>
                <a:cubicBezTo>
                  <a:pt x="20384" y="11019"/>
                  <a:pt x="21109" y="10963"/>
                  <a:pt x="21844" y="10954"/>
                </a:cubicBezTo>
                <a:cubicBezTo>
                  <a:pt x="22000" y="10954"/>
                  <a:pt x="22087" y="10930"/>
                  <a:pt x="21971" y="11017"/>
                </a:cubicBezTo>
              </a:path>
              <a:path w="4668" h="1779">
                <a:moveTo>
                  <a:pt x="17812" y="11462"/>
                </a:moveTo>
                <a:cubicBezTo>
                  <a:pt x="17841" y="11332"/>
                  <a:pt x="17774" y="11182"/>
                  <a:pt x="17590" y="11208"/>
                </a:cubicBezTo>
                <a:cubicBezTo>
                  <a:pt x="17385" y="11237"/>
                  <a:pt x="17262" y="11642"/>
                  <a:pt x="17526" y="11620"/>
                </a:cubicBezTo>
                <a:cubicBezTo>
                  <a:pt x="17727" y="11603"/>
                  <a:pt x="17725" y="11484"/>
                  <a:pt x="17748" y="11335"/>
                </a:cubicBezTo>
                <a:cubicBezTo>
                  <a:pt x="17748" y="11345"/>
                  <a:pt x="17748" y="11356"/>
                  <a:pt x="17748" y="11366"/>
                </a:cubicBezTo>
                <a:cubicBezTo>
                  <a:pt x="17748" y="11578"/>
                  <a:pt x="17748" y="11790"/>
                  <a:pt x="17748" y="12002"/>
                </a:cubicBezTo>
              </a:path>
              <a:path w="4668" h="1779">
                <a:moveTo>
                  <a:pt x="18098" y="11398"/>
                </a:moveTo>
                <a:cubicBezTo>
                  <a:pt x="18013" y="11615"/>
                  <a:pt x="17963" y="11766"/>
                  <a:pt x="18066" y="11970"/>
                </a:cubicBezTo>
                <a:cubicBezTo>
                  <a:pt x="18268" y="11895"/>
                  <a:pt x="18562" y="11693"/>
                  <a:pt x="18320" y="11430"/>
                </a:cubicBezTo>
                <a:cubicBezTo>
                  <a:pt x="18198" y="11399"/>
                  <a:pt x="18161" y="11386"/>
                  <a:pt x="18098" y="11462"/>
                </a:cubicBezTo>
              </a:path>
              <a:path w="4668" h="1779">
                <a:moveTo>
                  <a:pt x="19907" y="10573"/>
                </a:moveTo>
                <a:cubicBezTo>
                  <a:pt x="19907" y="10488"/>
                  <a:pt x="19845" y="10694"/>
                  <a:pt x="19844" y="10700"/>
                </a:cubicBezTo>
                <a:cubicBezTo>
                  <a:pt x="19830" y="10807"/>
                  <a:pt x="19844" y="10891"/>
                  <a:pt x="19876" y="10986"/>
                </a:cubicBezTo>
                <a:cubicBezTo>
                  <a:pt x="19994" y="10940"/>
                  <a:pt x="20187" y="10901"/>
                  <a:pt x="20161" y="10732"/>
                </a:cubicBezTo>
                <a:cubicBezTo>
                  <a:pt x="20140" y="10597"/>
                  <a:pt x="20022" y="10611"/>
                  <a:pt x="19939" y="10573"/>
                </a:cubicBezTo>
                <a:cubicBezTo>
                  <a:pt x="19928" y="10562"/>
                  <a:pt x="19918" y="10552"/>
                  <a:pt x="19907" y="10541"/>
                </a:cubicBezTo>
              </a:path>
              <a:path w="4668" h="1779">
                <a:moveTo>
                  <a:pt x="20669" y="10382"/>
                </a:moveTo>
                <a:cubicBezTo>
                  <a:pt x="20643" y="10302"/>
                  <a:pt x="20501" y="10368"/>
                  <a:pt x="20447" y="10414"/>
                </a:cubicBezTo>
                <a:cubicBezTo>
                  <a:pt x="20436" y="10435"/>
                  <a:pt x="20426" y="10457"/>
                  <a:pt x="20415" y="10478"/>
                </a:cubicBezTo>
                <a:cubicBezTo>
                  <a:pt x="20464" y="10657"/>
                  <a:pt x="20634" y="10620"/>
                  <a:pt x="20701" y="10795"/>
                </a:cubicBezTo>
                <a:cubicBezTo>
                  <a:pt x="20701" y="10827"/>
                  <a:pt x="20701" y="10858"/>
                  <a:pt x="20701" y="10890"/>
                </a:cubicBezTo>
                <a:cubicBezTo>
                  <a:pt x="20569" y="10946"/>
                  <a:pt x="20420" y="10956"/>
                  <a:pt x="20479" y="10732"/>
                </a:cubicBezTo>
                <a:cubicBezTo>
                  <a:pt x="20506" y="10630"/>
                  <a:pt x="20566" y="10513"/>
                  <a:pt x="20606" y="104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81760" y="3633840"/>
            <a:ext cx="822240" cy="230040"/>
          </a:xfrm>
          <a:custGeom>
            <a:avLst/>
            <a:gdLst/>
            <a:ahLst/>
            <a:rect l="l" t="t" r="r" b="b"/>
            <a:pathLst>
              <a:path w="2287" h="637">
                <a:moveTo>
                  <a:pt x="21209" y="10446"/>
                </a:moveTo>
                <a:cubicBezTo>
                  <a:pt x="21241" y="10446"/>
                  <a:pt x="21272" y="10446"/>
                  <a:pt x="21304" y="10446"/>
                </a:cubicBezTo>
                <a:cubicBezTo>
                  <a:pt x="21299" y="10432"/>
                  <a:pt x="21255" y="10330"/>
                  <a:pt x="21241" y="10319"/>
                </a:cubicBezTo>
                <a:cubicBezTo>
                  <a:pt x="21194" y="10280"/>
                  <a:pt x="21139" y="10282"/>
                  <a:pt x="21082" y="10319"/>
                </a:cubicBezTo>
                <a:cubicBezTo>
                  <a:pt x="20998" y="10374"/>
                  <a:pt x="21000" y="10505"/>
                  <a:pt x="21050" y="10573"/>
                </a:cubicBezTo>
                <a:cubicBezTo>
                  <a:pt x="21061" y="10583"/>
                  <a:pt x="21071" y="10594"/>
                  <a:pt x="21082" y="10604"/>
                </a:cubicBezTo>
                <a:cubicBezTo>
                  <a:pt x="21219" y="10536"/>
                  <a:pt x="21313" y="10480"/>
                  <a:pt x="21336" y="10319"/>
                </a:cubicBezTo>
                <a:cubicBezTo>
                  <a:pt x="21336" y="10308"/>
                  <a:pt x="21336" y="10298"/>
                  <a:pt x="21336" y="10287"/>
                </a:cubicBezTo>
                <a:cubicBezTo>
                  <a:pt x="21336" y="10408"/>
                  <a:pt x="21357" y="10518"/>
                  <a:pt x="21368" y="10636"/>
                </a:cubicBezTo>
                <a:cubicBezTo>
                  <a:pt x="21368" y="10711"/>
                  <a:pt x="21347" y="10743"/>
                  <a:pt x="21400" y="10732"/>
                </a:cubicBezTo>
              </a:path>
              <a:path w="2287" h="637">
                <a:moveTo>
                  <a:pt x="19114" y="10160"/>
                </a:moveTo>
                <a:cubicBezTo>
                  <a:pt x="19228" y="10160"/>
                  <a:pt x="19361" y="10088"/>
                  <a:pt x="19463" y="10096"/>
                </a:cubicBezTo>
                <a:cubicBezTo>
                  <a:pt x="19463" y="10107"/>
                  <a:pt x="19463" y="10117"/>
                  <a:pt x="19463" y="10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4343400"/>
            <a:ext cx="892080" cy="1052640"/>
          </a:xfrm>
          <a:custGeom>
            <a:avLst/>
            <a:gdLst/>
            <a:ahLst/>
            <a:rect l="l" t="t" r="r" b="b"/>
            <a:pathLst>
              <a:path w="2477" h="2922">
                <a:moveTo>
                  <a:pt x="19494" y="12224"/>
                </a:moveTo>
                <a:cubicBezTo>
                  <a:pt x="19551" y="12167"/>
                  <a:pt x="19734" y="12167"/>
                  <a:pt x="19844" y="12160"/>
                </a:cubicBezTo>
                <a:cubicBezTo>
                  <a:pt x="19833" y="12307"/>
                  <a:pt x="19803" y="12436"/>
                  <a:pt x="19748" y="12573"/>
                </a:cubicBezTo>
              </a:path>
              <a:path w="2477" h="2922">
                <a:moveTo>
                  <a:pt x="20002" y="12192"/>
                </a:moveTo>
                <a:cubicBezTo>
                  <a:pt x="20094" y="12175"/>
                  <a:pt x="20242" y="12153"/>
                  <a:pt x="20193" y="12319"/>
                </a:cubicBezTo>
                <a:cubicBezTo>
                  <a:pt x="20166" y="12411"/>
                  <a:pt x="20095" y="12487"/>
                  <a:pt x="20066" y="12573"/>
                </a:cubicBezTo>
                <a:cubicBezTo>
                  <a:pt x="20196" y="12529"/>
                  <a:pt x="20300" y="12512"/>
                  <a:pt x="20384" y="12414"/>
                </a:cubicBezTo>
              </a:path>
              <a:path w="2477" h="2922">
                <a:moveTo>
                  <a:pt x="20510" y="12128"/>
                </a:moveTo>
                <a:cubicBezTo>
                  <a:pt x="20399" y="12185"/>
                  <a:pt x="20399" y="12326"/>
                  <a:pt x="20384" y="12446"/>
                </a:cubicBezTo>
                <a:cubicBezTo>
                  <a:pt x="20512" y="12496"/>
                  <a:pt x="20774" y="12506"/>
                  <a:pt x="20733" y="12256"/>
                </a:cubicBezTo>
                <a:cubicBezTo>
                  <a:pt x="20711" y="12122"/>
                  <a:pt x="20517" y="12181"/>
                  <a:pt x="20447" y="12192"/>
                </a:cubicBezTo>
              </a:path>
              <a:path w="2477" h="2922">
                <a:moveTo>
                  <a:pt x="19050" y="12890"/>
                </a:moveTo>
                <a:cubicBezTo>
                  <a:pt x="19337" y="12796"/>
                  <a:pt x="19609" y="12789"/>
                  <a:pt x="19907" y="12764"/>
                </a:cubicBezTo>
                <a:cubicBezTo>
                  <a:pt x="20152" y="12744"/>
                  <a:pt x="20396" y="12684"/>
                  <a:pt x="20638" y="12668"/>
                </a:cubicBezTo>
                <a:cubicBezTo>
                  <a:pt x="20648" y="12668"/>
                  <a:pt x="20659" y="12668"/>
                  <a:pt x="20669" y="12668"/>
                </a:cubicBezTo>
              </a:path>
              <a:path w="2477" h="2922">
                <a:moveTo>
                  <a:pt x="20606" y="12986"/>
                </a:moveTo>
                <a:cubicBezTo>
                  <a:pt x="20606" y="12857"/>
                  <a:pt x="20657" y="13174"/>
                  <a:pt x="20669" y="13303"/>
                </a:cubicBezTo>
                <a:cubicBezTo>
                  <a:pt x="20683" y="13453"/>
                  <a:pt x="20701" y="13462"/>
                  <a:pt x="20606" y="13430"/>
                </a:cubicBezTo>
              </a:path>
              <a:path w="2477" h="2922">
                <a:moveTo>
                  <a:pt x="20193" y="13081"/>
                </a:moveTo>
                <a:cubicBezTo>
                  <a:pt x="20185" y="13058"/>
                  <a:pt x="20115" y="12983"/>
                  <a:pt x="20066" y="12986"/>
                </a:cubicBezTo>
                <a:cubicBezTo>
                  <a:pt x="19952" y="12993"/>
                  <a:pt x="19917" y="13100"/>
                  <a:pt x="19876" y="13176"/>
                </a:cubicBezTo>
                <a:cubicBezTo>
                  <a:pt x="19971" y="13253"/>
                  <a:pt x="20233" y="13319"/>
                  <a:pt x="20193" y="13462"/>
                </a:cubicBezTo>
                <a:cubicBezTo>
                  <a:pt x="20127" y="13529"/>
                  <a:pt x="20103" y="13551"/>
                  <a:pt x="20034" y="13557"/>
                </a:cubicBezTo>
                <a:cubicBezTo>
                  <a:pt x="19979" y="13377"/>
                  <a:pt x="20051" y="13289"/>
                  <a:pt x="20098" y="13113"/>
                </a:cubicBezTo>
                <a:cubicBezTo>
                  <a:pt x="20098" y="13081"/>
                  <a:pt x="20098" y="13070"/>
                  <a:pt x="20130" y="13081"/>
                </a:cubicBezTo>
              </a:path>
              <a:path w="2477" h="2922">
                <a:moveTo>
                  <a:pt x="21209" y="12128"/>
                </a:moveTo>
                <a:cubicBezTo>
                  <a:pt x="21198" y="12107"/>
                  <a:pt x="21188" y="12086"/>
                  <a:pt x="21177" y="12065"/>
                </a:cubicBezTo>
                <a:cubicBezTo>
                  <a:pt x="21200" y="12202"/>
                  <a:pt x="21231" y="12336"/>
                  <a:pt x="21241" y="12478"/>
                </a:cubicBezTo>
              </a:path>
              <a:path w="2477" h="2922">
                <a:moveTo>
                  <a:pt x="21146" y="12510"/>
                </a:moveTo>
                <a:cubicBezTo>
                  <a:pt x="21209" y="12573"/>
                  <a:pt x="21202" y="12581"/>
                  <a:pt x="21272" y="12541"/>
                </a:cubicBezTo>
                <a:cubicBezTo>
                  <a:pt x="21367" y="12487"/>
                  <a:pt x="21402" y="12410"/>
                  <a:pt x="21463" y="12319"/>
                </a:cubicBezTo>
              </a:path>
              <a:path w="2477" h="2922">
                <a:moveTo>
                  <a:pt x="21400" y="12986"/>
                </a:moveTo>
                <a:cubicBezTo>
                  <a:pt x="21267" y="12933"/>
                  <a:pt x="21226" y="13080"/>
                  <a:pt x="21209" y="13208"/>
                </a:cubicBezTo>
                <a:cubicBezTo>
                  <a:pt x="21209" y="13303"/>
                  <a:pt x="21209" y="13314"/>
                  <a:pt x="21209" y="13367"/>
                </a:cubicBezTo>
                <a:cubicBezTo>
                  <a:pt x="21343" y="13366"/>
                  <a:pt x="21526" y="13310"/>
                  <a:pt x="21526" y="13113"/>
                </a:cubicBezTo>
                <a:cubicBezTo>
                  <a:pt x="21526" y="12947"/>
                  <a:pt x="21398" y="13002"/>
                  <a:pt x="21304" y="13018"/>
                </a:cubicBezTo>
              </a:path>
              <a:path w="2477" h="2922">
                <a:moveTo>
                  <a:pt x="20384" y="13748"/>
                </a:moveTo>
                <a:cubicBezTo>
                  <a:pt x="20394" y="13748"/>
                  <a:pt x="20405" y="13748"/>
                  <a:pt x="20415" y="13748"/>
                </a:cubicBezTo>
                <a:cubicBezTo>
                  <a:pt x="20346" y="13650"/>
                  <a:pt x="20317" y="13637"/>
                  <a:pt x="20193" y="13684"/>
                </a:cubicBezTo>
                <a:cubicBezTo>
                  <a:pt x="20127" y="13709"/>
                  <a:pt x="20112" y="13722"/>
                  <a:pt x="20098" y="13780"/>
                </a:cubicBezTo>
                <a:cubicBezTo>
                  <a:pt x="20128" y="13839"/>
                  <a:pt x="20215" y="13878"/>
                  <a:pt x="20288" y="13906"/>
                </a:cubicBezTo>
                <a:cubicBezTo>
                  <a:pt x="20410" y="13953"/>
                  <a:pt x="20402" y="14001"/>
                  <a:pt x="20479" y="14097"/>
                </a:cubicBezTo>
                <a:cubicBezTo>
                  <a:pt x="20408" y="14179"/>
                  <a:pt x="20281" y="14257"/>
                  <a:pt x="20225" y="14097"/>
                </a:cubicBezTo>
                <a:cubicBezTo>
                  <a:pt x="20190" y="13997"/>
                  <a:pt x="20335" y="13903"/>
                  <a:pt x="20352" y="13811"/>
                </a:cubicBezTo>
                <a:cubicBezTo>
                  <a:pt x="20352" y="13801"/>
                  <a:pt x="20352" y="13790"/>
                  <a:pt x="20352" y="13780"/>
                </a:cubicBezTo>
              </a:path>
              <a:path w="2477" h="2922">
                <a:moveTo>
                  <a:pt x="20733" y="13684"/>
                </a:moveTo>
                <a:cubicBezTo>
                  <a:pt x="20773" y="13807"/>
                  <a:pt x="20792" y="13940"/>
                  <a:pt x="20828" y="14065"/>
                </a:cubicBezTo>
                <a:cubicBezTo>
                  <a:pt x="20872" y="14109"/>
                  <a:pt x="20882" y="14103"/>
                  <a:pt x="20860" y="14002"/>
                </a:cubicBezTo>
              </a:path>
              <a:path w="2477" h="2922">
                <a:moveTo>
                  <a:pt x="21177" y="13621"/>
                </a:moveTo>
                <a:cubicBezTo>
                  <a:pt x="21077" y="13844"/>
                  <a:pt x="21052" y="13902"/>
                  <a:pt x="21177" y="14097"/>
                </a:cubicBezTo>
                <a:cubicBezTo>
                  <a:pt x="21298" y="14067"/>
                  <a:pt x="21678" y="13871"/>
                  <a:pt x="21431" y="13684"/>
                </a:cubicBezTo>
                <a:cubicBezTo>
                  <a:pt x="21279" y="13653"/>
                  <a:pt x="21232" y="13640"/>
                  <a:pt x="21146" y="13716"/>
                </a:cubicBezTo>
              </a:path>
              <a:path w="2477" h="2922">
                <a:moveTo>
                  <a:pt x="20034" y="14510"/>
                </a:moveTo>
                <a:cubicBezTo>
                  <a:pt x="20442" y="14405"/>
                  <a:pt x="20825" y="14344"/>
                  <a:pt x="21241" y="14288"/>
                </a:cubicBezTo>
                <a:cubicBezTo>
                  <a:pt x="21378" y="14265"/>
                  <a:pt x="21388" y="14254"/>
                  <a:pt x="21463" y="14256"/>
                </a:cubicBezTo>
              </a:path>
              <a:path w="2477" h="2922">
                <a:moveTo>
                  <a:pt x="21336" y="14478"/>
                </a:moveTo>
                <a:cubicBezTo>
                  <a:pt x="21287" y="14599"/>
                  <a:pt x="21177" y="14831"/>
                  <a:pt x="21272" y="14954"/>
                </a:cubicBezTo>
                <a:cubicBezTo>
                  <a:pt x="21304" y="14965"/>
                  <a:pt x="21336" y="14975"/>
                  <a:pt x="21368" y="14986"/>
                </a:cubicBezTo>
                <a:cubicBezTo>
                  <a:pt x="21474" y="14918"/>
                  <a:pt x="21649" y="14734"/>
                  <a:pt x="21463" y="14605"/>
                </a:cubicBezTo>
                <a:cubicBezTo>
                  <a:pt x="21341" y="14574"/>
                  <a:pt x="21304" y="14567"/>
                  <a:pt x="21241" y="14510"/>
                </a:cubicBezTo>
              </a:path>
              <a:path w="2477" h="2922">
                <a:moveTo>
                  <a:pt x="19717" y="14097"/>
                </a:moveTo>
                <a:cubicBezTo>
                  <a:pt x="19763" y="14036"/>
                  <a:pt x="19820" y="14034"/>
                  <a:pt x="19907" y="14034"/>
                </a:cubicBezTo>
              </a:path>
              <a:path w="2477" h="2922">
                <a:moveTo>
                  <a:pt x="19114" y="12478"/>
                </a:moveTo>
                <a:cubicBezTo>
                  <a:pt x="19177" y="12478"/>
                  <a:pt x="19241" y="12478"/>
                  <a:pt x="19304" y="12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3086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040" y="2286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99072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s in Alaska can be as col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.  Using the formula, convert this temperature to Fahren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14600" y="2728800"/>
                <a:ext cx="19810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76280" y="4191120"/>
            <a:ext cx="803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distributive property to rewrite and solve th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(4+7+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2617920"/>
            <a:ext cx="1211040" cy="707760"/>
          </a:xfrm>
          <a:custGeom>
            <a:avLst/>
            <a:gdLst/>
            <a:ahLst/>
            <a:rect l="l" t="t" r="r" b="b"/>
            <a:pathLst>
              <a:path w="3366" h="1969">
                <a:moveTo>
                  <a:pt x="16066" y="7588"/>
                </a:moveTo>
                <a:cubicBezTo>
                  <a:pt x="16114" y="7441"/>
                  <a:pt x="16110" y="7282"/>
                  <a:pt x="15907" y="7271"/>
                </a:cubicBezTo>
                <a:cubicBezTo>
                  <a:pt x="15670" y="7258"/>
                  <a:pt x="15548" y="7626"/>
                  <a:pt x="15780" y="7588"/>
                </a:cubicBezTo>
                <a:cubicBezTo>
                  <a:pt x="15912" y="7567"/>
                  <a:pt x="16001" y="7432"/>
                  <a:pt x="16066" y="7334"/>
                </a:cubicBezTo>
                <a:cubicBezTo>
                  <a:pt x="16088" y="7564"/>
                  <a:pt x="16072" y="7770"/>
                  <a:pt x="16066" y="8001"/>
                </a:cubicBezTo>
                <a:cubicBezTo>
                  <a:pt x="16066" y="8075"/>
                  <a:pt x="16087" y="8107"/>
                  <a:pt x="16034" y="8096"/>
                </a:cubicBezTo>
              </a:path>
              <a:path w="3366" h="1969">
                <a:moveTo>
                  <a:pt x="15558" y="8255"/>
                </a:moveTo>
                <a:cubicBezTo>
                  <a:pt x="15848" y="8210"/>
                  <a:pt x="16122" y="8160"/>
                  <a:pt x="16415" y="8160"/>
                </a:cubicBezTo>
              </a:path>
              <a:path w="3366" h="1969">
                <a:moveTo>
                  <a:pt x="16129" y="8414"/>
                </a:moveTo>
                <a:cubicBezTo>
                  <a:pt x="16101" y="8420"/>
                  <a:pt x="15801" y="8450"/>
                  <a:pt x="15780" y="8477"/>
                </a:cubicBezTo>
                <a:cubicBezTo>
                  <a:pt x="15741" y="8526"/>
                  <a:pt x="15783" y="8694"/>
                  <a:pt x="15748" y="8763"/>
                </a:cubicBezTo>
                <a:cubicBezTo>
                  <a:pt x="15890" y="8763"/>
                  <a:pt x="15983" y="8668"/>
                  <a:pt x="16129" y="8668"/>
                </a:cubicBezTo>
                <a:cubicBezTo>
                  <a:pt x="16182" y="8679"/>
                  <a:pt x="16235" y="8689"/>
                  <a:pt x="16288" y="8700"/>
                </a:cubicBezTo>
                <a:cubicBezTo>
                  <a:pt x="16301" y="8903"/>
                  <a:pt x="16214" y="9107"/>
                  <a:pt x="15938" y="9017"/>
                </a:cubicBezTo>
                <a:cubicBezTo>
                  <a:pt x="15896" y="8985"/>
                  <a:pt x="15854" y="8954"/>
                  <a:pt x="15812" y="8922"/>
                </a:cubicBezTo>
              </a:path>
              <a:path w="3366" h="1969">
                <a:moveTo>
                  <a:pt x="16954" y="7398"/>
                </a:moveTo>
                <a:cubicBezTo>
                  <a:pt x="16806" y="7398"/>
                  <a:pt x="16780" y="7680"/>
                  <a:pt x="16764" y="7779"/>
                </a:cubicBezTo>
                <a:cubicBezTo>
                  <a:pt x="16703" y="8167"/>
                  <a:pt x="16666" y="8561"/>
                  <a:pt x="16954" y="8858"/>
                </a:cubicBezTo>
                <a:cubicBezTo>
                  <a:pt x="17027" y="8907"/>
                  <a:pt x="17031" y="8928"/>
                  <a:pt x="17082" y="8922"/>
                </a:cubicBezTo>
              </a:path>
              <a:path w="3366" h="1969">
                <a:moveTo>
                  <a:pt x="17177" y="8223"/>
                </a:moveTo>
                <a:cubicBezTo>
                  <a:pt x="17220" y="8192"/>
                  <a:pt x="17314" y="8192"/>
                  <a:pt x="17399" y="8192"/>
                </a:cubicBezTo>
              </a:path>
              <a:path w="3366" h="1969">
                <a:moveTo>
                  <a:pt x="17558" y="7874"/>
                </a:moveTo>
                <a:cubicBezTo>
                  <a:pt x="17568" y="7933"/>
                  <a:pt x="17570" y="8096"/>
                  <a:pt x="17621" y="8128"/>
                </a:cubicBezTo>
                <a:cubicBezTo>
                  <a:pt x="17754" y="8210"/>
                  <a:pt x="17853" y="8147"/>
                  <a:pt x="17970" y="8096"/>
                </a:cubicBezTo>
              </a:path>
              <a:path w="3366" h="1969">
                <a:moveTo>
                  <a:pt x="17875" y="7779"/>
                </a:moveTo>
                <a:cubicBezTo>
                  <a:pt x="17891" y="7983"/>
                  <a:pt x="17967" y="8210"/>
                  <a:pt x="17939" y="8414"/>
                </a:cubicBezTo>
                <a:cubicBezTo>
                  <a:pt x="17896" y="8498"/>
                  <a:pt x="17896" y="8498"/>
                  <a:pt x="17970" y="8350"/>
                </a:cubicBezTo>
              </a:path>
              <a:path w="3366" h="1969">
                <a:moveTo>
                  <a:pt x="18288" y="7810"/>
                </a:moveTo>
                <a:cubicBezTo>
                  <a:pt x="18145" y="8024"/>
                  <a:pt x="18157" y="8164"/>
                  <a:pt x="18193" y="8414"/>
                </a:cubicBezTo>
                <a:cubicBezTo>
                  <a:pt x="18406" y="8374"/>
                  <a:pt x="18653" y="8217"/>
                  <a:pt x="18510" y="7938"/>
                </a:cubicBezTo>
                <a:cubicBezTo>
                  <a:pt x="18395" y="7851"/>
                  <a:pt x="18361" y="7832"/>
                  <a:pt x="18320" y="7747"/>
                </a:cubicBezTo>
              </a:path>
              <a:path w="3366" h="1969">
                <a:moveTo>
                  <a:pt x="18478" y="7271"/>
                </a:moveTo>
                <a:cubicBezTo>
                  <a:pt x="18782" y="7587"/>
                  <a:pt x="19029" y="7904"/>
                  <a:pt x="18891" y="8382"/>
                </a:cubicBezTo>
                <a:cubicBezTo>
                  <a:pt x="18832" y="8588"/>
                  <a:pt x="18734" y="8668"/>
                  <a:pt x="18574" y="8668"/>
                </a:cubicBezTo>
              </a:path>
              <a:path w="3366" h="1969">
                <a:moveTo>
                  <a:pt x="17621" y="8700"/>
                </a:moveTo>
                <a:cubicBezTo>
                  <a:pt x="17820" y="8671"/>
                  <a:pt x="18021" y="8619"/>
                  <a:pt x="18224" y="8604"/>
                </a:cubicBezTo>
                <a:cubicBezTo>
                  <a:pt x="18277" y="8604"/>
                  <a:pt x="18330" y="8604"/>
                  <a:pt x="18383" y="8604"/>
                </a:cubicBezTo>
              </a:path>
              <a:path w="3366" h="1969">
                <a:moveTo>
                  <a:pt x="17970" y="8922"/>
                </a:moveTo>
                <a:cubicBezTo>
                  <a:pt x="17970" y="8890"/>
                  <a:pt x="17970" y="8879"/>
                  <a:pt x="18002" y="8890"/>
                </a:cubicBezTo>
                <a:cubicBezTo>
                  <a:pt x="18002" y="9012"/>
                  <a:pt x="18022" y="9120"/>
                  <a:pt x="18034" y="9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51680" y="2708280"/>
            <a:ext cx="663480" cy="298440"/>
          </a:xfrm>
          <a:custGeom>
            <a:avLst/>
            <a:gdLst/>
            <a:ahLst/>
            <a:rect l="l" t="t" r="r" b="b"/>
            <a:pathLst>
              <a:path w="1842" h="826">
                <a:moveTo>
                  <a:pt x="19685" y="7810"/>
                </a:moveTo>
                <a:cubicBezTo>
                  <a:pt x="19708" y="7915"/>
                  <a:pt x="19856" y="8240"/>
                  <a:pt x="19780" y="8350"/>
                </a:cubicBezTo>
                <a:cubicBezTo>
                  <a:pt x="19759" y="8339"/>
                  <a:pt x="19738" y="8329"/>
                  <a:pt x="19717" y="8318"/>
                </a:cubicBezTo>
              </a:path>
              <a:path w="1842" h="826">
                <a:moveTo>
                  <a:pt x="19590" y="8064"/>
                </a:moveTo>
                <a:cubicBezTo>
                  <a:pt x="19772" y="8035"/>
                  <a:pt x="19947" y="8011"/>
                  <a:pt x="20130" y="8001"/>
                </a:cubicBezTo>
              </a:path>
              <a:path w="1842" h="826">
                <a:moveTo>
                  <a:pt x="20320" y="7556"/>
                </a:moveTo>
                <a:cubicBezTo>
                  <a:pt x="20466" y="7556"/>
                  <a:pt x="20650" y="7538"/>
                  <a:pt x="20606" y="7747"/>
                </a:cubicBezTo>
                <a:cubicBezTo>
                  <a:pt x="20555" y="7992"/>
                  <a:pt x="20373" y="7780"/>
                  <a:pt x="20542" y="7842"/>
                </a:cubicBezTo>
                <a:cubicBezTo>
                  <a:pt x="20688" y="7930"/>
                  <a:pt x="20735" y="7949"/>
                  <a:pt x="20764" y="8064"/>
                </a:cubicBezTo>
                <a:cubicBezTo>
                  <a:pt x="20604" y="8225"/>
                  <a:pt x="20520" y="8280"/>
                  <a:pt x="20352" y="8128"/>
                </a:cubicBezTo>
              </a:path>
              <a:path w="1842" h="826">
                <a:moveTo>
                  <a:pt x="21050" y="7525"/>
                </a:moveTo>
                <a:cubicBezTo>
                  <a:pt x="21224" y="7525"/>
                  <a:pt x="21415" y="7639"/>
                  <a:pt x="21431" y="7842"/>
                </a:cubicBezTo>
                <a:cubicBezTo>
                  <a:pt x="21451" y="8102"/>
                  <a:pt x="21184" y="8211"/>
                  <a:pt x="21018" y="8128"/>
                </a:cubicBezTo>
                <a:cubicBezTo>
                  <a:pt x="21119" y="8037"/>
                  <a:pt x="21348" y="7914"/>
                  <a:pt x="21400" y="8160"/>
                </a:cubicBezTo>
                <a:cubicBezTo>
                  <a:pt x="21374" y="8212"/>
                  <a:pt x="21363" y="8220"/>
                  <a:pt x="21368" y="8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07160" y="2457360"/>
            <a:ext cx="3132000" cy="2617920"/>
          </a:xfrm>
          <a:custGeom>
            <a:avLst/>
            <a:gdLst/>
            <a:ahLst/>
            <a:rect l="l" t="t" r="r" b="b"/>
            <a:pathLst>
              <a:path w="8700" h="7272">
                <a:moveTo>
                  <a:pt x="16383" y="7112"/>
                </a:moveTo>
                <a:cubicBezTo>
                  <a:pt x="16281" y="7078"/>
                  <a:pt x="16469" y="6977"/>
                  <a:pt x="16510" y="6953"/>
                </a:cubicBezTo>
                <a:cubicBezTo>
                  <a:pt x="16698" y="6844"/>
                  <a:pt x="16933" y="6831"/>
                  <a:pt x="17145" y="6826"/>
                </a:cubicBezTo>
                <a:cubicBezTo>
                  <a:pt x="17312" y="6822"/>
                  <a:pt x="17447" y="6867"/>
                  <a:pt x="17590" y="6953"/>
                </a:cubicBezTo>
                <a:cubicBezTo>
                  <a:pt x="17674" y="7003"/>
                  <a:pt x="17774" y="7083"/>
                  <a:pt x="17812" y="7176"/>
                </a:cubicBezTo>
                <a:cubicBezTo>
                  <a:pt x="17812" y="7186"/>
                  <a:pt x="17812" y="7197"/>
                  <a:pt x="17812" y="7207"/>
                </a:cubicBezTo>
              </a:path>
              <a:path w="8700" h="7272">
                <a:moveTo>
                  <a:pt x="16764" y="10096"/>
                </a:moveTo>
                <a:cubicBezTo>
                  <a:pt x="16794" y="10052"/>
                  <a:pt x="16960" y="9965"/>
                  <a:pt x="17050" y="10001"/>
                </a:cubicBezTo>
                <a:cubicBezTo>
                  <a:pt x="17182" y="10054"/>
                  <a:pt x="16964" y="10184"/>
                  <a:pt x="16954" y="10192"/>
                </a:cubicBezTo>
                <a:cubicBezTo>
                  <a:pt x="16944" y="10203"/>
                  <a:pt x="16933" y="10213"/>
                  <a:pt x="16923" y="10224"/>
                </a:cubicBezTo>
                <a:cubicBezTo>
                  <a:pt x="17031" y="10224"/>
                  <a:pt x="17170" y="10199"/>
                  <a:pt x="17177" y="10350"/>
                </a:cubicBezTo>
                <a:cubicBezTo>
                  <a:pt x="17183" y="10464"/>
                  <a:pt x="16899" y="10489"/>
                  <a:pt x="16859" y="10414"/>
                </a:cubicBezTo>
                <a:cubicBezTo>
                  <a:pt x="16870" y="10393"/>
                  <a:pt x="16880" y="10371"/>
                  <a:pt x="16891" y="10350"/>
                </a:cubicBezTo>
              </a:path>
              <a:path w="8700" h="7272">
                <a:moveTo>
                  <a:pt x="17399" y="9938"/>
                </a:moveTo>
                <a:cubicBezTo>
                  <a:pt x="17399" y="9841"/>
                  <a:pt x="17361" y="10064"/>
                  <a:pt x="17367" y="10160"/>
                </a:cubicBezTo>
                <a:cubicBezTo>
                  <a:pt x="17396" y="10277"/>
                  <a:pt x="17404" y="10310"/>
                  <a:pt x="17431" y="10382"/>
                </a:cubicBezTo>
                <a:cubicBezTo>
                  <a:pt x="17525" y="10328"/>
                  <a:pt x="17721" y="10305"/>
                  <a:pt x="17748" y="10160"/>
                </a:cubicBezTo>
                <a:cubicBezTo>
                  <a:pt x="17737" y="10139"/>
                  <a:pt x="17727" y="10117"/>
                  <a:pt x="17716" y="10096"/>
                </a:cubicBezTo>
                <a:cubicBezTo>
                  <a:pt x="17555" y="10123"/>
                  <a:pt x="17550" y="10173"/>
                  <a:pt x="17526" y="10319"/>
                </a:cubicBezTo>
              </a:path>
              <a:path w="8700" h="7272">
                <a:moveTo>
                  <a:pt x="18034" y="9874"/>
                </a:moveTo>
                <a:cubicBezTo>
                  <a:pt x="17958" y="9965"/>
                  <a:pt x="17866" y="10094"/>
                  <a:pt x="17907" y="10224"/>
                </a:cubicBezTo>
                <a:cubicBezTo>
                  <a:pt x="17973" y="10432"/>
                  <a:pt x="18160" y="10333"/>
                  <a:pt x="18256" y="10224"/>
                </a:cubicBezTo>
                <a:cubicBezTo>
                  <a:pt x="18328" y="10142"/>
                  <a:pt x="18366" y="9958"/>
                  <a:pt x="18224" y="9906"/>
                </a:cubicBezTo>
                <a:cubicBezTo>
                  <a:pt x="18150" y="9906"/>
                  <a:pt x="18140" y="9906"/>
                  <a:pt x="18098" y="9906"/>
                </a:cubicBezTo>
              </a:path>
              <a:path w="8700" h="7272">
                <a:moveTo>
                  <a:pt x="16129" y="10192"/>
                </a:moveTo>
                <a:cubicBezTo>
                  <a:pt x="16218" y="10177"/>
                  <a:pt x="16291" y="10160"/>
                  <a:pt x="16383" y="10160"/>
                </a:cubicBezTo>
              </a:path>
              <a:path w="8700" h="7272">
                <a:moveTo>
                  <a:pt x="16859" y="10700"/>
                </a:moveTo>
                <a:cubicBezTo>
                  <a:pt x="16993" y="10700"/>
                  <a:pt x="17139" y="10682"/>
                  <a:pt x="17272" y="10668"/>
                </a:cubicBezTo>
                <a:cubicBezTo>
                  <a:pt x="17600" y="10633"/>
                  <a:pt x="17927" y="10571"/>
                  <a:pt x="18256" y="10541"/>
                </a:cubicBezTo>
                <a:cubicBezTo>
                  <a:pt x="18306" y="10536"/>
                  <a:pt x="18363" y="10541"/>
                  <a:pt x="18415" y="10541"/>
                </a:cubicBezTo>
              </a:path>
              <a:path w="8700" h="7272">
                <a:moveTo>
                  <a:pt x="17844" y="10922"/>
                </a:moveTo>
                <a:cubicBezTo>
                  <a:pt x="17930" y="10922"/>
                  <a:pt x="17699" y="10953"/>
                  <a:pt x="17685" y="10954"/>
                </a:cubicBezTo>
                <a:cubicBezTo>
                  <a:pt x="17606" y="10959"/>
                  <a:pt x="17638" y="10950"/>
                  <a:pt x="17621" y="11017"/>
                </a:cubicBezTo>
                <a:cubicBezTo>
                  <a:pt x="17594" y="11101"/>
                  <a:pt x="17583" y="11120"/>
                  <a:pt x="17590" y="11176"/>
                </a:cubicBezTo>
                <a:cubicBezTo>
                  <a:pt x="17669" y="11160"/>
                  <a:pt x="17762" y="11077"/>
                  <a:pt x="17844" y="11081"/>
                </a:cubicBezTo>
                <a:cubicBezTo>
                  <a:pt x="17865" y="11091"/>
                  <a:pt x="17886" y="11102"/>
                  <a:pt x="17907" y="11112"/>
                </a:cubicBezTo>
                <a:cubicBezTo>
                  <a:pt x="17953" y="11250"/>
                  <a:pt x="17951" y="11358"/>
                  <a:pt x="17780" y="11398"/>
                </a:cubicBezTo>
                <a:cubicBezTo>
                  <a:pt x="17695" y="11398"/>
                  <a:pt x="17674" y="11398"/>
                  <a:pt x="17621" y="11398"/>
                </a:cubicBezTo>
              </a:path>
              <a:path w="8700" h="7272">
                <a:moveTo>
                  <a:pt x="21400" y="10192"/>
                </a:moveTo>
                <a:cubicBezTo>
                  <a:pt x="21481" y="10178"/>
                  <a:pt x="21671" y="10107"/>
                  <a:pt x="21685" y="10255"/>
                </a:cubicBezTo>
                <a:cubicBezTo>
                  <a:pt x="21698" y="10393"/>
                  <a:pt x="21553" y="10396"/>
                  <a:pt x="21463" y="10414"/>
                </a:cubicBezTo>
                <a:cubicBezTo>
                  <a:pt x="21510" y="10295"/>
                  <a:pt x="21675" y="10289"/>
                  <a:pt x="21749" y="10414"/>
                </a:cubicBezTo>
                <a:cubicBezTo>
                  <a:pt x="21838" y="10565"/>
                  <a:pt x="21467" y="10743"/>
                  <a:pt x="21368" y="10668"/>
                </a:cubicBezTo>
                <a:cubicBezTo>
                  <a:pt x="21368" y="10522"/>
                  <a:pt x="21407" y="10458"/>
                  <a:pt x="21558" y="10414"/>
                </a:cubicBezTo>
              </a:path>
              <a:path w="8700" h="7272">
                <a:moveTo>
                  <a:pt x="22098" y="10033"/>
                </a:moveTo>
                <a:cubicBezTo>
                  <a:pt x="22063" y="10183"/>
                  <a:pt x="22066" y="10323"/>
                  <a:pt x="22066" y="10478"/>
                </a:cubicBezTo>
                <a:cubicBezTo>
                  <a:pt x="22257" y="10515"/>
                  <a:pt x="22321" y="10449"/>
                  <a:pt x="22416" y="10287"/>
                </a:cubicBezTo>
                <a:cubicBezTo>
                  <a:pt x="22352" y="10300"/>
                  <a:pt x="22073" y="10514"/>
                  <a:pt x="22193" y="10509"/>
                </a:cubicBezTo>
                <a:cubicBezTo>
                  <a:pt x="22235" y="10488"/>
                  <a:pt x="22278" y="10467"/>
                  <a:pt x="22320" y="10446"/>
                </a:cubicBezTo>
              </a:path>
              <a:path w="8700" h="7272">
                <a:moveTo>
                  <a:pt x="22701" y="10096"/>
                </a:moveTo>
                <a:cubicBezTo>
                  <a:pt x="22691" y="10096"/>
                  <a:pt x="22680" y="10096"/>
                  <a:pt x="22670" y="10096"/>
                </a:cubicBezTo>
              </a:path>
              <a:path w="8700" h="7272">
                <a:moveTo>
                  <a:pt x="22670" y="10065"/>
                </a:moveTo>
                <a:cubicBezTo>
                  <a:pt x="22597" y="10191"/>
                  <a:pt x="22597" y="10278"/>
                  <a:pt x="22638" y="10414"/>
                </a:cubicBezTo>
                <a:cubicBezTo>
                  <a:pt x="22863" y="10430"/>
                  <a:pt x="22936" y="10382"/>
                  <a:pt x="22987" y="10160"/>
                </a:cubicBezTo>
                <a:cubicBezTo>
                  <a:pt x="22876" y="10104"/>
                  <a:pt x="22856" y="10096"/>
                  <a:pt x="22733" y="10096"/>
                </a:cubicBezTo>
              </a:path>
              <a:path w="8700" h="7272">
                <a:moveTo>
                  <a:pt x="21018" y="10795"/>
                </a:moveTo>
                <a:cubicBezTo>
                  <a:pt x="21007" y="10573"/>
                  <a:pt x="20942" y="10317"/>
                  <a:pt x="20987" y="10096"/>
                </a:cubicBezTo>
                <a:cubicBezTo>
                  <a:pt x="20997" y="10086"/>
                  <a:pt x="21008" y="10075"/>
                  <a:pt x="21018" y="10065"/>
                </a:cubicBezTo>
                <a:cubicBezTo>
                  <a:pt x="21430" y="10065"/>
                  <a:pt x="21848" y="10050"/>
                  <a:pt x="22257" y="10001"/>
                </a:cubicBezTo>
                <a:cubicBezTo>
                  <a:pt x="22526" y="9969"/>
                  <a:pt x="22780" y="9919"/>
                  <a:pt x="23050" y="9906"/>
                </a:cubicBezTo>
              </a:path>
              <a:path w="8700" h="7272">
                <a:moveTo>
                  <a:pt x="20796" y="10350"/>
                </a:moveTo>
                <a:cubicBezTo>
                  <a:pt x="20725" y="10358"/>
                  <a:pt x="20623" y="10351"/>
                  <a:pt x="20606" y="10414"/>
                </a:cubicBezTo>
                <a:cubicBezTo>
                  <a:pt x="20580" y="10514"/>
                  <a:pt x="20578" y="10616"/>
                  <a:pt x="20542" y="10700"/>
                </a:cubicBezTo>
                <a:cubicBezTo>
                  <a:pt x="20684" y="10676"/>
                  <a:pt x="20807" y="10594"/>
                  <a:pt x="20955" y="10668"/>
                </a:cubicBezTo>
                <a:cubicBezTo>
                  <a:pt x="20966" y="10689"/>
                  <a:pt x="20976" y="10711"/>
                  <a:pt x="20987" y="10732"/>
                </a:cubicBezTo>
                <a:cubicBezTo>
                  <a:pt x="20818" y="10934"/>
                  <a:pt x="20760" y="10966"/>
                  <a:pt x="20542" y="10827"/>
                </a:cubicBezTo>
              </a:path>
              <a:path w="8700" h="7272">
                <a:moveTo>
                  <a:pt x="21812" y="9462"/>
                </a:moveTo>
                <a:cubicBezTo>
                  <a:pt x="21867" y="9421"/>
                  <a:pt x="21963" y="9381"/>
                  <a:pt x="22034" y="9366"/>
                </a:cubicBezTo>
                <a:cubicBezTo>
                  <a:pt x="22087" y="9366"/>
                  <a:pt x="22098" y="9366"/>
                  <a:pt x="22130" y="9366"/>
                </a:cubicBezTo>
                <a:cubicBezTo>
                  <a:pt x="22111" y="9516"/>
                  <a:pt x="22090" y="9664"/>
                  <a:pt x="22066" y="9811"/>
                </a:cubicBezTo>
                <a:cubicBezTo>
                  <a:pt x="22066" y="9821"/>
                  <a:pt x="22066" y="9832"/>
                  <a:pt x="22066" y="9842"/>
                </a:cubicBezTo>
              </a:path>
              <a:path w="8700" h="7272">
                <a:moveTo>
                  <a:pt x="21654" y="10827"/>
                </a:moveTo>
                <a:cubicBezTo>
                  <a:pt x="21571" y="10827"/>
                  <a:pt x="21878" y="10734"/>
                  <a:pt x="21939" y="10763"/>
                </a:cubicBezTo>
                <a:cubicBezTo>
                  <a:pt x="22008" y="10796"/>
                  <a:pt x="21830" y="10966"/>
                  <a:pt x="21812" y="10986"/>
                </a:cubicBezTo>
                <a:cubicBezTo>
                  <a:pt x="21897" y="10986"/>
                  <a:pt x="21981" y="10986"/>
                  <a:pt x="22066" y="10986"/>
                </a:cubicBezTo>
                <a:cubicBezTo>
                  <a:pt x="22054" y="11036"/>
                  <a:pt x="21827" y="11432"/>
                  <a:pt x="21749" y="11240"/>
                </a:cubicBezTo>
                <a:cubicBezTo>
                  <a:pt x="21759" y="11208"/>
                  <a:pt x="21770" y="11176"/>
                  <a:pt x="21780" y="11144"/>
                </a:cubicBezTo>
              </a:path>
              <a:path w="8700" h="7272">
                <a:moveTo>
                  <a:pt x="22162" y="10827"/>
                </a:moveTo>
                <a:cubicBezTo>
                  <a:pt x="22137" y="10921"/>
                  <a:pt x="22330" y="10931"/>
                  <a:pt x="22416" y="11017"/>
                </a:cubicBezTo>
                <a:cubicBezTo>
                  <a:pt x="22554" y="11156"/>
                  <a:pt x="22264" y="11082"/>
                  <a:pt x="22257" y="11081"/>
                </a:cubicBezTo>
              </a:path>
              <a:path w="8700" h="7272">
                <a:moveTo>
                  <a:pt x="22288" y="10732"/>
                </a:moveTo>
                <a:cubicBezTo>
                  <a:pt x="22415" y="10700"/>
                  <a:pt x="22457" y="10690"/>
                  <a:pt x="22542" y="10668"/>
                </a:cubicBezTo>
              </a:path>
              <a:path w="8700" h="7272">
                <a:moveTo>
                  <a:pt x="22542" y="10668"/>
                </a:moveTo>
                <a:lnTo>
                  <a:pt x="22542" y="10668"/>
                </a:lnTo>
              </a:path>
              <a:path w="8700" h="7272">
                <a:moveTo>
                  <a:pt x="21812" y="11462"/>
                </a:moveTo>
                <a:cubicBezTo>
                  <a:pt x="22046" y="11433"/>
                  <a:pt x="22285" y="11368"/>
                  <a:pt x="22511" y="11303"/>
                </a:cubicBezTo>
                <a:cubicBezTo>
                  <a:pt x="22601" y="11277"/>
                  <a:pt x="22776" y="11228"/>
                  <a:pt x="22828" y="11176"/>
                </a:cubicBezTo>
              </a:path>
              <a:path w="8700" h="7272">
                <a:moveTo>
                  <a:pt x="22416" y="11494"/>
                </a:moveTo>
                <a:cubicBezTo>
                  <a:pt x="22455" y="11598"/>
                  <a:pt x="22463" y="11800"/>
                  <a:pt x="22542" y="11779"/>
                </a:cubicBezTo>
              </a:path>
              <a:path w="8700" h="7272">
                <a:moveTo>
                  <a:pt x="22892" y="11398"/>
                </a:moveTo>
                <a:cubicBezTo>
                  <a:pt x="22817" y="11559"/>
                  <a:pt x="22817" y="11555"/>
                  <a:pt x="22892" y="11716"/>
                </a:cubicBezTo>
                <a:cubicBezTo>
                  <a:pt x="23045" y="11639"/>
                  <a:pt x="23197" y="11530"/>
                  <a:pt x="22987" y="11398"/>
                </a:cubicBezTo>
                <a:cubicBezTo>
                  <a:pt x="22955" y="11387"/>
                  <a:pt x="22924" y="11377"/>
                  <a:pt x="22892" y="11366"/>
                </a:cubicBezTo>
              </a:path>
              <a:path w="8700" h="7272">
                <a:moveTo>
                  <a:pt x="22479" y="9366"/>
                </a:moveTo>
                <a:cubicBezTo>
                  <a:pt x="22479" y="9274"/>
                  <a:pt x="22471" y="9319"/>
                  <a:pt x="22574" y="9239"/>
                </a:cubicBezTo>
                <a:cubicBezTo>
                  <a:pt x="22813" y="9325"/>
                  <a:pt x="22798" y="9605"/>
                  <a:pt x="22574" y="9779"/>
                </a:cubicBezTo>
                <a:cubicBezTo>
                  <a:pt x="22425" y="9828"/>
                  <a:pt x="22381" y="9888"/>
                  <a:pt x="22352" y="9779"/>
                </a:cubicBezTo>
                <a:cubicBezTo>
                  <a:pt x="22505" y="9640"/>
                  <a:pt x="22613" y="9610"/>
                  <a:pt x="22796" y="9747"/>
                </a:cubicBezTo>
                <a:cubicBezTo>
                  <a:pt x="22807" y="9758"/>
                  <a:pt x="22817" y="9768"/>
                  <a:pt x="22828" y="9779"/>
                </a:cubicBezTo>
              </a:path>
              <a:path w="8700" h="7272">
                <a:moveTo>
                  <a:pt x="19082" y="10382"/>
                </a:moveTo>
                <a:cubicBezTo>
                  <a:pt x="19186" y="10442"/>
                  <a:pt x="19263" y="10466"/>
                  <a:pt x="19368" y="10414"/>
                </a:cubicBezTo>
              </a:path>
              <a:path w="8700" h="7272">
                <a:moveTo>
                  <a:pt x="19177" y="10668"/>
                </a:moveTo>
                <a:cubicBezTo>
                  <a:pt x="19326" y="10638"/>
                  <a:pt x="19369" y="10630"/>
                  <a:pt x="19463" y="10604"/>
                </a:cubicBezTo>
              </a:path>
              <a:path w="8700" h="7272">
                <a:moveTo>
                  <a:pt x="21114" y="9588"/>
                </a:moveTo>
                <a:cubicBezTo>
                  <a:pt x="21177" y="9588"/>
                  <a:pt x="21241" y="9588"/>
                  <a:pt x="21304" y="9588"/>
                </a:cubicBezTo>
              </a:path>
              <a:path w="8700" h="7272">
                <a:moveTo>
                  <a:pt x="18098" y="12541"/>
                </a:moveTo>
                <a:cubicBezTo>
                  <a:pt x="18218" y="12567"/>
                  <a:pt x="18323" y="12573"/>
                  <a:pt x="18447" y="12573"/>
                </a:cubicBezTo>
              </a:path>
              <a:path w="8700" h="7272">
                <a:moveTo>
                  <a:pt x="18732" y="12256"/>
                </a:moveTo>
                <a:cubicBezTo>
                  <a:pt x="18886" y="12274"/>
                  <a:pt x="19114" y="12185"/>
                  <a:pt x="19114" y="12414"/>
                </a:cubicBezTo>
                <a:cubicBezTo>
                  <a:pt x="19114" y="12514"/>
                  <a:pt x="19064" y="12633"/>
                  <a:pt x="19050" y="12732"/>
                </a:cubicBezTo>
              </a:path>
              <a:path w="8700" h="7272">
                <a:moveTo>
                  <a:pt x="19368" y="12192"/>
                </a:moveTo>
                <a:cubicBezTo>
                  <a:pt x="19478" y="12242"/>
                  <a:pt x="19904" y="12416"/>
                  <a:pt x="19590" y="12573"/>
                </a:cubicBezTo>
                <a:cubicBezTo>
                  <a:pt x="19426" y="12655"/>
                  <a:pt x="19385" y="12616"/>
                  <a:pt x="19399" y="12510"/>
                </a:cubicBezTo>
                <a:cubicBezTo>
                  <a:pt x="19553" y="12500"/>
                  <a:pt x="19599" y="12515"/>
                  <a:pt x="19748" y="12573"/>
                </a:cubicBezTo>
              </a:path>
              <a:path w="8700" h="7272">
                <a:moveTo>
                  <a:pt x="20130" y="12256"/>
                </a:moveTo>
                <a:cubicBezTo>
                  <a:pt x="20160" y="12345"/>
                  <a:pt x="20197" y="12427"/>
                  <a:pt x="20225" y="12510"/>
                </a:cubicBezTo>
              </a:path>
              <a:path w="8700" h="7272">
                <a:moveTo>
                  <a:pt x="19939" y="12382"/>
                </a:moveTo>
                <a:cubicBezTo>
                  <a:pt x="20087" y="12348"/>
                  <a:pt x="20213" y="12313"/>
                  <a:pt x="20352" y="12256"/>
                </a:cubicBezTo>
              </a:path>
              <a:path w="8700" h="7272">
                <a:moveTo>
                  <a:pt x="20796" y="12128"/>
                </a:moveTo>
                <a:cubicBezTo>
                  <a:pt x="20856" y="12128"/>
                  <a:pt x="21070" y="12105"/>
                  <a:pt x="21082" y="12192"/>
                </a:cubicBezTo>
                <a:cubicBezTo>
                  <a:pt x="21094" y="12274"/>
                  <a:pt x="20944" y="12296"/>
                  <a:pt x="20892" y="12319"/>
                </a:cubicBezTo>
                <a:cubicBezTo>
                  <a:pt x="20940" y="12312"/>
                  <a:pt x="21199" y="12235"/>
                  <a:pt x="21177" y="12382"/>
                </a:cubicBezTo>
                <a:cubicBezTo>
                  <a:pt x="21145" y="12601"/>
                  <a:pt x="20939" y="12601"/>
                  <a:pt x="20923" y="12414"/>
                </a:cubicBezTo>
              </a:path>
              <a:path w="8700" h="7272">
                <a:moveTo>
                  <a:pt x="21336" y="12065"/>
                </a:moveTo>
                <a:cubicBezTo>
                  <a:pt x="21456" y="11993"/>
                  <a:pt x="21620" y="12053"/>
                  <a:pt x="21717" y="12160"/>
                </a:cubicBezTo>
                <a:cubicBezTo>
                  <a:pt x="21820" y="12275"/>
                  <a:pt x="21721" y="12555"/>
                  <a:pt x="21558" y="12446"/>
                </a:cubicBezTo>
                <a:cubicBezTo>
                  <a:pt x="21558" y="12425"/>
                  <a:pt x="21558" y="12403"/>
                  <a:pt x="21558" y="12382"/>
                </a:cubicBezTo>
                <a:cubicBezTo>
                  <a:pt x="21668" y="12382"/>
                  <a:pt x="21748" y="12374"/>
                  <a:pt x="21812" y="12446"/>
                </a:cubicBezTo>
                <a:cubicBezTo>
                  <a:pt x="21823" y="12457"/>
                  <a:pt x="21833" y="12467"/>
                  <a:pt x="21844" y="12478"/>
                </a:cubicBezTo>
              </a:path>
              <a:path w="8700" h="7272">
                <a:moveTo>
                  <a:pt x="23590" y="12033"/>
                </a:moveTo>
                <a:cubicBezTo>
                  <a:pt x="23702" y="11989"/>
                  <a:pt x="23819" y="11948"/>
                  <a:pt x="23940" y="11938"/>
                </a:cubicBezTo>
                <a:cubicBezTo>
                  <a:pt x="23950" y="11938"/>
                  <a:pt x="23961" y="11938"/>
                  <a:pt x="23971" y="11938"/>
                </a:cubicBezTo>
                <a:cubicBezTo>
                  <a:pt x="23958" y="12084"/>
                  <a:pt x="23930" y="12215"/>
                  <a:pt x="23876" y="12351"/>
                </a:cubicBezTo>
              </a:path>
              <a:path w="8700" h="7272">
                <a:moveTo>
                  <a:pt x="24162" y="11906"/>
                </a:moveTo>
                <a:cubicBezTo>
                  <a:pt x="24191" y="11877"/>
                  <a:pt x="24197" y="11867"/>
                  <a:pt x="24225" y="11874"/>
                </a:cubicBezTo>
                <a:cubicBezTo>
                  <a:pt x="24299" y="11923"/>
                  <a:pt x="24254" y="12050"/>
                  <a:pt x="24194" y="12128"/>
                </a:cubicBezTo>
                <a:cubicBezTo>
                  <a:pt x="24122" y="12200"/>
                  <a:pt x="24090" y="12197"/>
                  <a:pt x="24098" y="12256"/>
                </a:cubicBezTo>
                <a:cubicBezTo>
                  <a:pt x="24193" y="12256"/>
                  <a:pt x="24289" y="12256"/>
                  <a:pt x="24384" y="12256"/>
                </a:cubicBezTo>
              </a:path>
              <a:path w="8700" h="7272">
                <a:moveTo>
                  <a:pt x="23336" y="12764"/>
                </a:moveTo>
                <a:cubicBezTo>
                  <a:pt x="23428" y="12764"/>
                  <a:pt x="23498" y="12740"/>
                  <a:pt x="23590" y="12732"/>
                </a:cubicBezTo>
              </a:path>
              <a:path w="8700" h="7272">
                <a:moveTo>
                  <a:pt x="24035" y="12573"/>
                </a:moveTo>
                <a:cubicBezTo>
                  <a:pt x="23931" y="12538"/>
                  <a:pt x="24126" y="12520"/>
                  <a:pt x="24162" y="12510"/>
                </a:cubicBezTo>
                <a:cubicBezTo>
                  <a:pt x="24141" y="12634"/>
                  <a:pt x="24089" y="12677"/>
                  <a:pt x="24003" y="12764"/>
                </a:cubicBezTo>
                <a:cubicBezTo>
                  <a:pt x="24038" y="12764"/>
                  <a:pt x="24188" y="12737"/>
                  <a:pt x="24162" y="12827"/>
                </a:cubicBezTo>
                <a:cubicBezTo>
                  <a:pt x="24126" y="12953"/>
                  <a:pt x="23973" y="13055"/>
                  <a:pt x="23844" y="13018"/>
                </a:cubicBezTo>
                <a:cubicBezTo>
                  <a:pt x="23844" y="13007"/>
                  <a:pt x="23844" y="12997"/>
                  <a:pt x="23844" y="12986"/>
                </a:cubicBezTo>
              </a:path>
              <a:path w="8700" h="7272">
                <a:moveTo>
                  <a:pt x="24320" y="12573"/>
                </a:moveTo>
                <a:cubicBezTo>
                  <a:pt x="24403" y="12573"/>
                  <a:pt x="24486" y="12537"/>
                  <a:pt x="24511" y="12636"/>
                </a:cubicBezTo>
                <a:cubicBezTo>
                  <a:pt x="24544" y="12769"/>
                  <a:pt x="24398" y="12854"/>
                  <a:pt x="24352" y="12954"/>
                </a:cubicBezTo>
                <a:cubicBezTo>
                  <a:pt x="24352" y="12965"/>
                  <a:pt x="24352" y="12975"/>
                  <a:pt x="24352" y="12986"/>
                </a:cubicBezTo>
                <a:cubicBezTo>
                  <a:pt x="24444" y="12986"/>
                  <a:pt x="24517" y="12969"/>
                  <a:pt x="24606" y="12954"/>
                </a:cubicBezTo>
              </a:path>
              <a:path w="8700" h="7272">
                <a:moveTo>
                  <a:pt x="23527" y="13398"/>
                </a:moveTo>
                <a:cubicBezTo>
                  <a:pt x="23856" y="13377"/>
                  <a:pt x="24184" y="13319"/>
                  <a:pt x="24511" y="13272"/>
                </a:cubicBezTo>
                <a:cubicBezTo>
                  <a:pt x="24654" y="13252"/>
                  <a:pt x="24716" y="13215"/>
                  <a:pt x="24828" y="13272"/>
                </a:cubicBezTo>
              </a:path>
              <a:path w="8700" h="7272">
                <a:moveTo>
                  <a:pt x="24606" y="13589"/>
                </a:moveTo>
                <a:cubicBezTo>
                  <a:pt x="24716" y="13516"/>
                  <a:pt x="24549" y="13727"/>
                  <a:pt x="24543" y="13748"/>
                </a:cubicBezTo>
                <a:cubicBezTo>
                  <a:pt x="24529" y="13799"/>
                  <a:pt x="24543" y="13883"/>
                  <a:pt x="24543" y="13938"/>
                </a:cubicBezTo>
                <a:cubicBezTo>
                  <a:pt x="24653" y="13920"/>
                  <a:pt x="24843" y="13882"/>
                  <a:pt x="24797" y="13716"/>
                </a:cubicBezTo>
                <a:cubicBezTo>
                  <a:pt x="24787" y="13680"/>
                  <a:pt x="24671" y="13670"/>
                  <a:pt x="24638" y="13652"/>
                </a:cubicBezTo>
                <a:cubicBezTo>
                  <a:pt x="24600" y="13615"/>
                  <a:pt x="24582" y="13608"/>
                  <a:pt x="24543" y="13652"/>
                </a:cubicBezTo>
              </a:path>
              <a:path w="8700" h="7272">
                <a:moveTo>
                  <a:pt x="23971" y="13684"/>
                </a:moveTo>
                <a:cubicBezTo>
                  <a:pt x="23911" y="13664"/>
                  <a:pt x="23957" y="13663"/>
                  <a:pt x="23971" y="13621"/>
                </a:cubicBezTo>
                <a:cubicBezTo>
                  <a:pt x="23950" y="13704"/>
                  <a:pt x="23886" y="13791"/>
                  <a:pt x="23844" y="13875"/>
                </a:cubicBezTo>
                <a:cubicBezTo>
                  <a:pt x="23960" y="13892"/>
                  <a:pt x="23991" y="13904"/>
                  <a:pt x="24098" y="13843"/>
                </a:cubicBezTo>
              </a:path>
              <a:path w="8700" h="7272">
                <a:moveTo>
                  <a:pt x="24098" y="13494"/>
                </a:moveTo>
                <a:cubicBezTo>
                  <a:pt x="24058" y="13664"/>
                  <a:pt x="24031" y="13833"/>
                  <a:pt x="24003" y="14002"/>
                </a:cubicBezTo>
                <a:cubicBezTo>
                  <a:pt x="23998" y="14031"/>
                  <a:pt x="24003" y="14067"/>
                  <a:pt x="24003" y="14097"/>
                </a:cubicBezTo>
              </a:path>
              <a:path w="8700" h="7272">
                <a:moveTo>
                  <a:pt x="17748" y="12668"/>
                </a:moveTo>
                <a:cubicBezTo>
                  <a:pt x="17758" y="12698"/>
                  <a:pt x="17833" y="12766"/>
                  <a:pt x="17875" y="12795"/>
                </a:cubicBezTo>
                <a:cubicBezTo>
                  <a:pt x="17956" y="12852"/>
                  <a:pt x="18070" y="12876"/>
                  <a:pt x="18161" y="12890"/>
                </a:cubicBezTo>
                <a:cubicBezTo>
                  <a:pt x="18216" y="12899"/>
                  <a:pt x="18364" y="12875"/>
                  <a:pt x="18415" y="12859"/>
                </a:cubicBezTo>
                <a:cubicBezTo>
                  <a:pt x="18464" y="12844"/>
                  <a:pt x="18582" y="12774"/>
                  <a:pt x="18606" y="12732"/>
                </a:cubicBezTo>
                <a:cubicBezTo>
                  <a:pt x="18651" y="12653"/>
                  <a:pt x="18669" y="12597"/>
                  <a:pt x="18669" y="12510"/>
                </a:cubicBezTo>
                <a:cubicBezTo>
                  <a:pt x="18669" y="12414"/>
                  <a:pt x="18689" y="12348"/>
                  <a:pt x="18606" y="12287"/>
                </a:cubicBezTo>
                <a:cubicBezTo>
                  <a:pt x="18515" y="12220"/>
                  <a:pt x="18398" y="12198"/>
                  <a:pt x="18288" y="12192"/>
                </a:cubicBezTo>
                <a:cubicBezTo>
                  <a:pt x="18206" y="12187"/>
                  <a:pt x="18073" y="12216"/>
                  <a:pt x="18002" y="12256"/>
                </a:cubicBezTo>
                <a:cubicBezTo>
                  <a:pt x="17897" y="12315"/>
                  <a:pt x="17849" y="12394"/>
                  <a:pt x="17812" y="12510"/>
                </a:cubicBezTo>
                <a:cubicBezTo>
                  <a:pt x="17770" y="12643"/>
                  <a:pt x="17764" y="12743"/>
                  <a:pt x="17844" y="12859"/>
                </a:cubicBezTo>
                <a:cubicBezTo>
                  <a:pt x="17880" y="12895"/>
                  <a:pt x="17897" y="12905"/>
                  <a:pt x="17939" y="12890"/>
                </a:cubicBezTo>
              </a:path>
              <a:path w="8700" h="7272">
                <a:moveTo>
                  <a:pt x="23178" y="13589"/>
                </a:moveTo>
                <a:cubicBezTo>
                  <a:pt x="23260" y="13589"/>
                  <a:pt x="23530" y="13580"/>
                  <a:pt x="23495" y="13589"/>
                </a:cubicBezTo>
                <a:cubicBezTo>
                  <a:pt x="23368" y="13621"/>
                  <a:pt x="23326" y="13632"/>
                  <a:pt x="23241" y="13652"/>
                </a:cubicBezTo>
                <a:cubicBezTo>
                  <a:pt x="23311" y="13638"/>
                  <a:pt x="23443" y="13610"/>
                  <a:pt x="23495" y="13557"/>
                </a:cubicBezTo>
                <a:cubicBezTo>
                  <a:pt x="23550" y="13501"/>
                  <a:pt x="23346" y="13593"/>
                  <a:pt x="23273" y="13621"/>
                </a:cubicBezTo>
                <a:cubicBezTo>
                  <a:pt x="23106" y="13621"/>
                  <a:pt x="23411" y="13573"/>
                  <a:pt x="23463" y="135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5240" y="5578560"/>
            <a:ext cx="2949840" cy="604800"/>
          </a:xfrm>
          <a:custGeom>
            <a:avLst/>
            <a:gdLst/>
            <a:ahLst/>
            <a:rect l="l" t="t" r="r" b="b"/>
            <a:pathLst>
              <a:path w="8192" h="1684">
                <a:moveTo>
                  <a:pt x="5715" y="15621"/>
                </a:moveTo>
                <a:cubicBezTo>
                  <a:pt x="5609" y="15594"/>
                  <a:pt x="5490" y="15905"/>
                  <a:pt x="5461" y="16034"/>
                </a:cubicBezTo>
                <a:cubicBezTo>
                  <a:pt x="5426" y="16190"/>
                  <a:pt x="5479" y="16304"/>
                  <a:pt x="5620" y="16351"/>
                </a:cubicBezTo>
              </a:path>
              <a:path w="8192" h="1684">
                <a:moveTo>
                  <a:pt x="5842" y="15812"/>
                </a:moveTo>
                <a:cubicBezTo>
                  <a:pt x="5799" y="15910"/>
                  <a:pt x="5771" y="16024"/>
                  <a:pt x="5906" y="16034"/>
                </a:cubicBezTo>
                <a:cubicBezTo>
                  <a:pt x="6034" y="16034"/>
                  <a:pt x="6078" y="16034"/>
                  <a:pt x="6160" y="16002"/>
                </a:cubicBezTo>
              </a:path>
              <a:path w="8192" h="1684">
                <a:moveTo>
                  <a:pt x="6001" y="15684"/>
                </a:moveTo>
                <a:cubicBezTo>
                  <a:pt x="6050" y="15859"/>
                  <a:pt x="6064" y="16010"/>
                  <a:pt x="6064" y="16192"/>
                </a:cubicBezTo>
              </a:path>
              <a:path w="8192" h="1684">
                <a:moveTo>
                  <a:pt x="6414" y="15843"/>
                </a:moveTo>
                <a:cubicBezTo>
                  <a:pt x="6495" y="15965"/>
                  <a:pt x="6563" y="16033"/>
                  <a:pt x="6668" y="16129"/>
                </a:cubicBezTo>
                <a:cubicBezTo>
                  <a:pt x="6712" y="16174"/>
                  <a:pt x="6728" y="16167"/>
                  <a:pt x="6731" y="16066"/>
                </a:cubicBezTo>
              </a:path>
              <a:path w="8192" h="1684">
                <a:moveTo>
                  <a:pt x="6731" y="15780"/>
                </a:moveTo>
                <a:cubicBezTo>
                  <a:pt x="6648" y="15909"/>
                  <a:pt x="6359" y="16258"/>
                  <a:pt x="6477" y="16161"/>
                </a:cubicBezTo>
                <a:cubicBezTo>
                  <a:pt x="6498" y="16140"/>
                  <a:pt x="6519" y="16118"/>
                  <a:pt x="6540" y="16097"/>
                </a:cubicBezTo>
              </a:path>
              <a:path w="8192" h="1684">
                <a:moveTo>
                  <a:pt x="6985" y="15875"/>
                </a:moveTo>
                <a:cubicBezTo>
                  <a:pt x="6985" y="15941"/>
                  <a:pt x="6984" y="15964"/>
                  <a:pt x="6953" y="16002"/>
                </a:cubicBezTo>
                <a:cubicBezTo>
                  <a:pt x="7005" y="16002"/>
                  <a:pt x="7214" y="16051"/>
                  <a:pt x="7239" y="16034"/>
                </a:cubicBezTo>
                <a:cubicBezTo>
                  <a:pt x="7239" y="16023"/>
                  <a:pt x="7239" y="16013"/>
                  <a:pt x="7239" y="16002"/>
                </a:cubicBezTo>
              </a:path>
              <a:path w="8192" h="1684">
                <a:moveTo>
                  <a:pt x="7207" y="15716"/>
                </a:moveTo>
                <a:cubicBezTo>
                  <a:pt x="7170" y="15884"/>
                  <a:pt x="7129" y="16054"/>
                  <a:pt x="7112" y="16224"/>
                </a:cubicBezTo>
              </a:path>
              <a:path w="8192" h="1684">
                <a:moveTo>
                  <a:pt x="7271" y="15589"/>
                </a:moveTo>
                <a:cubicBezTo>
                  <a:pt x="7470" y="15820"/>
                  <a:pt x="7643" y="15994"/>
                  <a:pt x="7525" y="16320"/>
                </a:cubicBezTo>
                <a:cubicBezTo>
                  <a:pt x="7465" y="16410"/>
                  <a:pt x="7450" y="16441"/>
                  <a:pt x="7366" y="16415"/>
                </a:cubicBezTo>
              </a:path>
              <a:path w="8192" h="1684">
                <a:moveTo>
                  <a:pt x="6414" y="16637"/>
                </a:moveTo>
                <a:cubicBezTo>
                  <a:pt x="6414" y="16776"/>
                  <a:pt x="6380" y="16915"/>
                  <a:pt x="6350" y="17050"/>
                </a:cubicBezTo>
                <a:cubicBezTo>
                  <a:pt x="6326" y="17145"/>
                  <a:pt x="6315" y="17220"/>
                  <a:pt x="6318" y="17145"/>
                </a:cubicBezTo>
              </a:path>
              <a:path w="8192" h="1684">
                <a:moveTo>
                  <a:pt x="6699" y="16700"/>
                </a:moveTo>
                <a:cubicBezTo>
                  <a:pt x="6660" y="16821"/>
                  <a:pt x="6642" y="16958"/>
                  <a:pt x="6699" y="17082"/>
                </a:cubicBezTo>
                <a:cubicBezTo>
                  <a:pt x="6790" y="17279"/>
                  <a:pt x="7019" y="17153"/>
                  <a:pt x="7112" y="17018"/>
                </a:cubicBezTo>
                <a:cubicBezTo>
                  <a:pt x="7123" y="16986"/>
                  <a:pt x="7133" y="16955"/>
                  <a:pt x="7144" y="16923"/>
                </a:cubicBezTo>
                <a:cubicBezTo>
                  <a:pt x="7014" y="16894"/>
                  <a:pt x="6964" y="16904"/>
                  <a:pt x="6953" y="17050"/>
                </a:cubicBezTo>
                <a:cubicBezTo>
                  <a:pt x="6953" y="17095"/>
                  <a:pt x="6965" y="17100"/>
                  <a:pt x="7017" y="17050"/>
                </a:cubicBezTo>
              </a:path>
              <a:path w="8192" h="1684">
                <a:moveTo>
                  <a:pt x="7842" y="15812"/>
                </a:moveTo>
                <a:cubicBezTo>
                  <a:pt x="7918" y="15916"/>
                  <a:pt x="8068" y="16244"/>
                  <a:pt x="7969" y="16161"/>
                </a:cubicBezTo>
                <a:cubicBezTo>
                  <a:pt x="7959" y="16140"/>
                  <a:pt x="7948" y="16118"/>
                  <a:pt x="7938" y="16097"/>
                </a:cubicBezTo>
              </a:path>
              <a:path w="8192" h="1684">
                <a:moveTo>
                  <a:pt x="7747" y="16066"/>
                </a:moveTo>
                <a:cubicBezTo>
                  <a:pt x="7932" y="16057"/>
                  <a:pt x="8103" y="16033"/>
                  <a:pt x="8287" y="16002"/>
                </a:cubicBezTo>
              </a:path>
              <a:path w="8192" h="1684">
                <a:moveTo>
                  <a:pt x="8700" y="15526"/>
                </a:moveTo>
                <a:cubicBezTo>
                  <a:pt x="8649" y="15628"/>
                  <a:pt x="8393" y="16016"/>
                  <a:pt x="8604" y="16097"/>
                </a:cubicBezTo>
                <a:cubicBezTo>
                  <a:pt x="8753" y="16154"/>
                  <a:pt x="8860" y="16018"/>
                  <a:pt x="8954" y="15938"/>
                </a:cubicBezTo>
              </a:path>
              <a:path w="8192" h="1684">
                <a:moveTo>
                  <a:pt x="8890" y="15748"/>
                </a:moveTo>
                <a:cubicBezTo>
                  <a:pt x="8922" y="15843"/>
                  <a:pt x="8896" y="15984"/>
                  <a:pt x="9049" y="15938"/>
                </a:cubicBezTo>
                <a:cubicBezTo>
                  <a:pt x="9160" y="15883"/>
                  <a:pt x="9190" y="15874"/>
                  <a:pt x="9239" y="15812"/>
                </a:cubicBezTo>
              </a:path>
              <a:path w="8192" h="1684">
                <a:moveTo>
                  <a:pt x="9208" y="15684"/>
                </a:moveTo>
                <a:cubicBezTo>
                  <a:pt x="9182" y="15832"/>
                  <a:pt x="9177" y="15920"/>
                  <a:pt x="9208" y="16066"/>
                </a:cubicBezTo>
              </a:path>
              <a:path w="8192" h="1684">
                <a:moveTo>
                  <a:pt x="9366" y="15812"/>
                </a:moveTo>
                <a:cubicBezTo>
                  <a:pt x="9438" y="15956"/>
                  <a:pt x="9470" y="16141"/>
                  <a:pt x="9620" y="16034"/>
                </a:cubicBezTo>
              </a:path>
              <a:path w="8192" h="1684">
                <a:moveTo>
                  <a:pt x="9588" y="15843"/>
                </a:moveTo>
                <a:cubicBezTo>
                  <a:pt x="9564" y="15991"/>
                  <a:pt x="9554" y="16011"/>
                  <a:pt x="9557" y="16097"/>
                </a:cubicBezTo>
              </a:path>
              <a:path w="8192" h="1684">
                <a:moveTo>
                  <a:pt x="9779" y="15748"/>
                </a:moveTo>
                <a:cubicBezTo>
                  <a:pt x="9910" y="15740"/>
                  <a:pt x="10004" y="15729"/>
                  <a:pt x="10128" y="15748"/>
                </a:cubicBezTo>
                <a:cubicBezTo>
                  <a:pt x="10115" y="15880"/>
                  <a:pt x="10019" y="16069"/>
                  <a:pt x="10033" y="16192"/>
                </a:cubicBezTo>
                <a:cubicBezTo>
                  <a:pt x="10044" y="16182"/>
                  <a:pt x="10054" y="16171"/>
                  <a:pt x="10065" y="16161"/>
                </a:cubicBezTo>
              </a:path>
              <a:path w="8192" h="1684">
                <a:moveTo>
                  <a:pt x="10287" y="15526"/>
                </a:moveTo>
                <a:cubicBezTo>
                  <a:pt x="10484" y="15931"/>
                  <a:pt x="10606" y="16072"/>
                  <a:pt x="10255" y="16383"/>
                </a:cubicBezTo>
              </a:path>
              <a:path w="8192" h="1684">
                <a:moveTo>
                  <a:pt x="9080" y="16700"/>
                </a:moveTo>
                <a:cubicBezTo>
                  <a:pt x="9161" y="16720"/>
                  <a:pt x="9441" y="16800"/>
                  <a:pt x="9398" y="16954"/>
                </a:cubicBezTo>
                <a:cubicBezTo>
                  <a:pt x="9335" y="17180"/>
                  <a:pt x="9034" y="17133"/>
                  <a:pt x="8922" y="17050"/>
                </a:cubicBezTo>
                <a:cubicBezTo>
                  <a:pt x="9145" y="16962"/>
                  <a:pt x="9217" y="16944"/>
                  <a:pt x="9398" y="17050"/>
                </a:cubicBezTo>
                <a:cubicBezTo>
                  <a:pt x="9409" y="17050"/>
                  <a:pt x="9419" y="17050"/>
                  <a:pt x="9430" y="17050"/>
                </a:cubicBezTo>
              </a:path>
              <a:path w="8192" h="1684">
                <a:moveTo>
                  <a:pt x="9811" y="16637"/>
                </a:moveTo>
                <a:cubicBezTo>
                  <a:pt x="9682" y="16663"/>
                  <a:pt x="9643" y="16646"/>
                  <a:pt x="9620" y="16732"/>
                </a:cubicBezTo>
                <a:cubicBezTo>
                  <a:pt x="9643" y="16801"/>
                  <a:pt x="9860" y="16987"/>
                  <a:pt x="9842" y="17050"/>
                </a:cubicBezTo>
                <a:cubicBezTo>
                  <a:pt x="9821" y="17061"/>
                  <a:pt x="9800" y="17071"/>
                  <a:pt x="9779" y="17082"/>
                </a:cubicBezTo>
                <a:cubicBezTo>
                  <a:pt x="9662" y="16944"/>
                  <a:pt x="9751" y="16887"/>
                  <a:pt x="9842" y="16732"/>
                </a:cubicBezTo>
              </a:path>
              <a:path w="8192" h="1684">
                <a:moveTo>
                  <a:pt x="11017" y="15938"/>
                </a:moveTo>
                <a:cubicBezTo>
                  <a:pt x="10990" y="16103"/>
                  <a:pt x="11017" y="16352"/>
                  <a:pt x="10954" y="16415"/>
                </a:cubicBezTo>
              </a:path>
              <a:path w="8192" h="1684">
                <a:moveTo>
                  <a:pt x="10795" y="16192"/>
                </a:moveTo>
                <a:cubicBezTo>
                  <a:pt x="10995" y="16183"/>
                  <a:pt x="11142" y="16153"/>
                  <a:pt x="11335" y="16097"/>
                </a:cubicBezTo>
              </a:path>
              <a:path w="8192" h="1684">
                <a:moveTo>
                  <a:pt x="11684" y="15780"/>
                </a:moveTo>
                <a:cubicBezTo>
                  <a:pt x="11660" y="15973"/>
                  <a:pt x="11524" y="16130"/>
                  <a:pt x="11589" y="16320"/>
                </a:cubicBezTo>
                <a:cubicBezTo>
                  <a:pt x="11662" y="16393"/>
                  <a:pt x="11696" y="16410"/>
                  <a:pt x="11779" y="16351"/>
                </a:cubicBezTo>
              </a:path>
              <a:path w="8192" h="1684">
                <a:moveTo>
                  <a:pt x="11843" y="15907"/>
                </a:moveTo>
                <a:cubicBezTo>
                  <a:pt x="11819" y="16002"/>
                  <a:pt x="11808" y="16011"/>
                  <a:pt x="11811" y="16066"/>
                </a:cubicBezTo>
                <a:cubicBezTo>
                  <a:pt x="11975" y="16134"/>
                  <a:pt x="12098" y="16044"/>
                  <a:pt x="12256" y="15970"/>
                </a:cubicBezTo>
              </a:path>
              <a:path w="8192" h="1684">
                <a:moveTo>
                  <a:pt x="12128" y="15970"/>
                </a:moveTo>
                <a:cubicBezTo>
                  <a:pt x="12128" y="16075"/>
                  <a:pt x="12116" y="16229"/>
                  <a:pt x="12160" y="16288"/>
                </a:cubicBezTo>
              </a:path>
              <a:path w="8192" h="1684">
                <a:moveTo>
                  <a:pt x="12541" y="16002"/>
                </a:moveTo>
                <a:cubicBezTo>
                  <a:pt x="12629" y="16125"/>
                  <a:pt x="12616" y="16181"/>
                  <a:pt x="12764" y="16161"/>
                </a:cubicBezTo>
              </a:path>
              <a:path w="8192" h="1684">
                <a:moveTo>
                  <a:pt x="12668" y="16066"/>
                </a:moveTo>
                <a:cubicBezTo>
                  <a:pt x="12614" y="16210"/>
                  <a:pt x="12544" y="16297"/>
                  <a:pt x="12668" y="16192"/>
                </a:cubicBezTo>
              </a:path>
              <a:path w="8192" h="1684">
                <a:moveTo>
                  <a:pt x="13176" y="15938"/>
                </a:moveTo>
                <a:cubicBezTo>
                  <a:pt x="13176" y="15827"/>
                  <a:pt x="13113" y="15789"/>
                  <a:pt x="12986" y="15875"/>
                </a:cubicBezTo>
                <a:cubicBezTo>
                  <a:pt x="12775" y="16018"/>
                  <a:pt x="12826" y="16175"/>
                  <a:pt x="13049" y="16002"/>
                </a:cubicBezTo>
                <a:cubicBezTo>
                  <a:pt x="13070" y="15970"/>
                  <a:pt x="13092" y="15939"/>
                  <a:pt x="13113" y="15907"/>
                </a:cubicBezTo>
                <a:cubicBezTo>
                  <a:pt x="13133" y="15907"/>
                  <a:pt x="13110" y="16111"/>
                  <a:pt x="13208" y="16224"/>
                </a:cubicBezTo>
                <a:cubicBezTo>
                  <a:pt x="13219" y="16224"/>
                  <a:pt x="13229" y="16224"/>
                  <a:pt x="13240" y="16224"/>
                </a:cubicBezTo>
              </a:path>
              <a:path w="8192" h="1684">
                <a:moveTo>
                  <a:pt x="13303" y="15494"/>
                </a:moveTo>
                <a:cubicBezTo>
                  <a:pt x="13471" y="15745"/>
                  <a:pt x="13840" y="16107"/>
                  <a:pt x="13557" y="16415"/>
                </a:cubicBezTo>
                <a:cubicBezTo>
                  <a:pt x="13504" y="16436"/>
                  <a:pt x="13451" y="16457"/>
                  <a:pt x="13398" y="16478"/>
                </a:cubicBezTo>
              </a:path>
              <a:path w="8192" h="1684">
                <a:moveTo>
                  <a:pt x="10763" y="16986"/>
                </a:moveTo>
                <a:cubicBezTo>
                  <a:pt x="10790" y="17091"/>
                  <a:pt x="10800" y="17111"/>
                  <a:pt x="10795" y="17177"/>
                </a:cubicBezTo>
              </a:path>
              <a:path w="8192" h="1684">
                <a:moveTo>
                  <a:pt x="10636" y="16986"/>
                </a:moveTo>
                <a:cubicBezTo>
                  <a:pt x="10762" y="16950"/>
                  <a:pt x="10889" y="16921"/>
                  <a:pt x="11017" y="16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35360" y="6068880"/>
            <a:ext cx="228600" cy="127080"/>
          </a:xfrm>
          <a:custGeom>
            <a:avLst/>
            <a:gdLst/>
            <a:ahLst/>
            <a:rect l="l" t="t" r="r" b="b"/>
            <a:pathLst>
              <a:path w="636" h="350">
                <a:moveTo>
                  <a:pt x="8033" y="16859"/>
                </a:moveTo>
                <a:cubicBezTo>
                  <a:pt x="8087" y="16914"/>
                  <a:pt x="8136" y="17104"/>
                  <a:pt x="8096" y="17208"/>
                </a:cubicBezTo>
                <a:cubicBezTo>
                  <a:pt x="8085" y="17208"/>
                  <a:pt x="8075" y="17208"/>
                  <a:pt x="8064" y="17208"/>
                </a:cubicBezTo>
              </a:path>
              <a:path w="636" h="350">
                <a:moveTo>
                  <a:pt x="7874" y="17113"/>
                </a:moveTo>
                <a:cubicBezTo>
                  <a:pt x="8104" y="17104"/>
                  <a:pt x="8283" y="17071"/>
                  <a:pt x="8509" y="170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4560" y="6046920"/>
            <a:ext cx="320760" cy="171360"/>
          </a:xfrm>
          <a:custGeom>
            <a:avLst/>
            <a:gdLst/>
            <a:ahLst/>
            <a:rect l="l" t="t" r="r" b="b"/>
            <a:pathLst>
              <a:path w="890" h="477">
                <a:moveTo>
                  <a:pt x="12097" y="16891"/>
                </a:moveTo>
                <a:cubicBezTo>
                  <a:pt x="12119" y="16822"/>
                  <a:pt x="12261" y="16784"/>
                  <a:pt x="12351" y="16796"/>
                </a:cubicBezTo>
                <a:cubicBezTo>
                  <a:pt x="12372" y="16807"/>
                  <a:pt x="12393" y="16817"/>
                  <a:pt x="12414" y="16828"/>
                </a:cubicBezTo>
                <a:cubicBezTo>
                  <a:pt x="12407" y="16852"/>
                  <a:pt x="12306" y="16973"/>
                  <a:pt x="12319" y="16986"/>
                </a:cubicBezTo>
                <a:cubicBezTo>
                  <a:pt x="12408" y="17031"/>
                  <a:pt x="12453" y="17060"/>
                  <a:pt x="12510" y="17113"/>
                </a:cubicBezTo>
                <a:cubicBezTo>
                  <a:pt x="12475" y="17218"/>
                  <a:pt x="12266" y="17413"/>
                  <a:pt x="12160" y="17208"/>
                </a:cubicBezTo>
                <a:cubicBezTo>
                  <a:pt x="12160" y="17155"/>
                  <a:pt x="12160" y="17103"/>
                  <a:pt x="12160" y="17050"/>
                </a:cubicBezTo>
              </a:path>
              <a:path w="890" h="477">
                <a:moveTo>
                  <a:pt x="12732" y="16796"/>
                </a:moveTo>
                <a:cubicBezTo>
                  <a:pt x="12732" y="16862"/>
                  <a:pt x="12701" y="17243"/>
                  <a:pt x="12764" y="17240"/>
                </a:cubicBezTo>
                <a:cubicBezTo>
                  <a:pt x="12936" y="17232"/>
                  <a:pt x="12935" y="17117"/>
                  <a:pt x="12986" y="16986"/>
                </a:cubicBezTo>
                <a:cubicBezTo>
                  <a:pt x="12848" y="17024"/>
                  <a:pt x="12818" y="17163"/>
                  <a:pt x="12764" y="171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040" y="6012000"/>
            <a:ext cx="777960" cy="241200"/>
          </a:xfrm>
          <a:custGeom>
            <a:avLst/>
            <a:gdLst/>
            <a:ahLst/>
            <a:rect l="l" t="t" r="r" b="b"/>
            <a:pathLst>
              <a:path w="2160" h="668">
                <a:moveTo>
                  <a:pt x="13716" y="16859"/>
                </a:moveTo>
                <a:cubicBezTo>
                  <a:pt x="13854" y="16859"/>
                  <a:pt x="13991" y="16859"/>
                  <a:pt x="14129" y="16859"/>
                </a:cubicBezTo>
              </a:path>
              <a:path w="2160" h="668">
                <a:moveTo>
                  <a:pt x="13970" y="17082"/>
                </a:moveTo>
                <a:cubicBezTo>
                  <a:pt x="14192" y="17050"/>
                  <a:pt x="14266" y="17039"/>
                  <a:pt x="14414" y="17018"/>
                </a:cubicBezTo>
              </a:path>
              <a:path w="2160" h="668">
                <a:moveTo>
                  <a:pt x="15208" y="16732"/>
                </a:moveTo>
                <a:cubicBezTo>
                  <a:pt x="15008" y="16708"/>
                  <a:pt x="14988" y="16712"/>
                  <a:pt x="14827" y="16828"/>
                </a:cubicBezTo>
                <a:cubicBezTo>
                  <a:pt x="14900" y="17060"/>
                  <a:pt x="15065" y="17098"/>
                  <a:pt x="15240" y="17272"/>
                </a:cubicBezTo>
                <a:cubicBezTo>
                  <a:pt x="15156" y="17326"/>
                  <a:pt x="14791" y="17454"/>
                  <a:pt x="14922" y="17208"/>
                </a:cubicBezTo>
                <a:cubicBezTo>
                  <a:pt x="15000" y="17061"/>
                  <a:pt x="15275" y="16962"/>
                  <a:pt x="15113" y="16828"/>
                </a:cubicBezTo>
              </a:path>
              <a:path w="2160" h="668">
                <a:moveTo>
                  <a:pt x="15653" y="16764"/>
                </a:moveTo>
                <a:cubicBezTo>
                  <a:pt x="15445" y="16833"/>
                  <a:pt x="15429" y="16974"/>
                  <a:pt x="15399" y="17177"/>
                </a:cubicBezTo>
                <a:cubicBezTo>
                  <a:pt x="15508" y="17220"/>
                  <a:pt x="15933" y="17334"/>
                  <a:pt x="15875" y="17050"/>
                </a:cubicBezTo>
                <a:cubicBezTo>
                  <a:pt x="15841" y="16882"/>
                  <a:pt x="15651" y="16880"/>
                  <a:pt x="15526" y="16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na has $14.82 left in her wallet.  The book she wishes to purchase costs $21.77.  How much extra money does she need?  Use an addition equation to represent this situation, and then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8006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724280"/>
            <a:ext cx="780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distributive property to rewrite and solve the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(m+n+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7400" y="2206800"/>
            <a:ext cx="2685960" cy="479160"/>
          </a:xfrm>
          <a:custGeom>
            <a:avLst/>
            <a:gdLst/>
            <a:ahLst/>
            <a:rect l="l" t="t" r="r" b="b"/>
            <a:pathLst>
              <a:path w="7462" h="1334">
                <a:moveTo>
                  <a:pt x="9716" y="6509"/>
                </a:moveTo>
                <a:cubicBezTo>
                  <a:pt x="10073" y="6509"/>
                  <a:pt x="10412" y="6495"/>
                  <a:pt x="10763" y="6445"/>
                </a:cubicBezTo>
                <a:cubicBezTo>
                  <a:pt x="10903" y="6425"/>
                  <a:pt x="11040" y="6422"/>
                  <a:pt x="11176" y="6382"/>
                </a:cubicBezTo>
                <a:cubicBezTo>
                  <a:pt x="11366" y="6326"/>
                  <a:pt x="11551" y="6271"/>
                  <a:pt x="11748" y="6255"/>
                </a:cubicBezTo>
                <a:cubicBezTo>
                  <a:pt x="11890" y="6244"/>
                  <a:pt x="12029" y="6277"/>
                  <a:pt x="12160" y="6286"/>
                </a:cubicBezTo>
                <a:cubicBezTo>
                  <a:pt x="12298" y="6295"/>
                  <a:pt x="12437" y="6296"/>
                  <a:pt x="12573" y="6318"/>
                </a:cubicBezTo>
                <a:cubicBezTo>
                  <a:pt x="12717" y="6341"/>
                  <a:pt x="12839" y="6379"/>
                  <a:pt x="12986" y="6382"/>
                </a:cubicBezTo>
                <a:cubicBezTo>
                  <a:pt x="13182" y="6386"/>
                  <a:pt x="13369" y="6364"/>
                  <a:pt x="13557" y="6350"/>
                </a:cubicBezTo>
                <a:cubicBezTo>
                  <a:pt x="13686" y="6340"/>
                  <a:pt x="13811" y="6337"/>
                  <a:pt x="13938" y="6318"/>
                </a:cubicBezTo>
                <a:cubicBezTo>
                  <a:pt x="14151" y="6286"/>
                  <a:pt x="14360" y="6279"/>
                  <a:pt x="14573" y="6255"/>
                </a:cubicBezTo>
                <a:cubicBezTo>
                  <a:pt x="14826" y="6226"/>
                  <a:pt x="15084" y="6201"/>
                  <a:pt x="15335" y="6160"/>
                </a:cubicBezTo>
                <a:cubicBezTo>
                  <a:pt x="15488" y="6135"/>
                  <a:pt x="15626" y="6128"/>
                  <a:pt x="15780" y="6128"/>
                </a:cubicBezTo>
              </a:path>
              <a:path w="7462" h="1334">
                <a:moveTo>
                  <a:pt x="15494" y="7461"/>
                </a:moveTo>
                <a:cubicBezTo>
                  <a:pt x="15739" y="7444"/>
                  <a:pt x="15976" y="7430"/>
                  <a:pt x="16224" y="7430"/>
                </a:cubicBezTo>
                <a:cubicBezTo>
                  <a:pt x="16486" y="7430"/>
                  <a:pt x="16729" y="7418"/>
                  <a:pt x="16986" y="7430"/>
                </a:cubicBezTo>
                <a:cubicBezTo>
                  <a:pt x="17049" y="7433"/>
                  <a:pt x="17056" y="7448"/>
                  <a:pt x="17082" y="7461"/>
                </a:cubicBezTo>
                <a:cubicBezTo>
                  <a:pt x="17101" y="7470"/>
                  <a:pt x="17156" y="7461"/>
                  <a:pt x="17177" y="7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6680" y="2822400"/>
            <a:ext cx="800280" cy="298800"/>
          </a:xfrm>
          <a:custGeom>
            <a:avLst/>
            <a:gdLst/>
            <a:ahLst/>
            <a:rect l="l" t="t" r="r" b="b"/>
            <a:pathLst>
              <a:path w="2223" h="827">
                <a:moveTo>
                  <a:pt x="9462" y="8096"/>
                </a:moveTo>
                <a:cubicBezTo>
                  <a:pt x="9462" y="8246"/>
                  <a:pt x="9471" y="8425"/>
                  <a:pt x="9493" y="8572"/>
                </a:cubicBezTo>
                <a:cubicBezTo>
                  <a:pt x="9504" y="8604"/>
                  <a:pt x="9514" y="8636"/>
                  <a:pt x="9525" y="8668"/>
                </a:cubicBezTo>
              </a:path>
              <a:path w="2223" h="827">
                <a:moveTo>
                  <a:pt x="9779" y="8128"/>
                </a:moveTo>
                <a:cubicBezTo>
                  <a:pt x="9779" y="8201"/>
                  <a:pt x="9757" y="8262"/>
                  <a:pt x="9811" y="8287"/>
                </a:cubicBezTo>
                <a:cubicBezTo>
                  <a:pt x="9915" y="8334"/>
                  <a:pt x="10047" y="8463"/>
                  <a:pt x="10128" y="8382"/>
                </a:cubicBezTo>
                <a:cubicBezTo>
                  <a:pt x="10128" y="8361"/>
                  <a:pt x="10128" y="8339"/>
                  <a:pt x="10128" y="8318"/>
                </a:cubicBezTo>
              </a:path>
              <a:path w="2223" h="827">
                <a:moveTo>
                  <a:pt x="10033" y="7842"/>
                </a:moveTo>
                <a:cubicBezTo>
                  <a:pt x="10074" y="8107"/>
                  <a:pt x="10119" y="8371"/>
                  <a:pt x="10160" y="8636"/>
                </a:cubicBezTo>
                <a:cubicBezTo>
                  <a:pt x="10160" y="8647"/>
                  <a:pt x="10160" y="8657"/>
                  <a:pt x="10160" y="8668"/>
                </a:cubicBezTo>
              </a:path>
              <a:path w="2223" h="827">
                <a:moveTo>
                  <a:pt x="10478" y="8541"/>
                </a:moveTo>
                <a:cubicBezTo>
                  <a:pt x="10520" y="8583"/>
                  <a:pt x="10541" y="8582"/>
                  <a:pt x="10573" y="8509"/>
                </a:cubicBezTo>
              </a:path>
              <a:path w="2223" h="827">
                <a:moveTo>
                  <a:pt x="10954" y="7969"/>
                </a:moveTo>
                <a:cubicBezTo>
                  <a:pt x="10811" y="7958"/>
                  <a:pt x="10814" y="7963"/>
                  <a:pt x="10700" y="8064"/>
                </a:cubicBezTo>
                <a:cubicBezTo>
                  <a:pt x="10749" y="8245"/>
                  <a:pt x="10934" y="8241"/>
                  <a:pt x="11017" y="8414"/>
                </a:cubicBezTo>
                <a:cubicBezTo>
                  <a:pt x="11017" y="8511"/>
                  <a:pt x="11015" y="8543"/>
                  <a:pt x="10922" y="8541"/>
                </a:cubicBezTo>
                <a:cubicBezTo>
                  <a:pt x="10810" y="8393"/>
                  <a:pt x="10888" y="8279"/>
                  <a:pt x="10954" y="8096"/>
                </a:cubicBezTo>
              </a:path>
              <a:path w="2223" h="827">
                <a:moveTo>
                  <a:pt x="11271" y="7969"/>
                </a:moveTo>
                <a:cubicBezTo>
                  <a:pt x="11469" y="7937"/>
                  <a:pt x="11507" y="7973"/>
                  <a:pt x="11589" y="8192"/>
                </a:cubicBezTo>
                <a:cubicBezTo>
                  <a:pt x="11680" y="8434"/>
                  <a:pt x="11537" y="8510"/>
                  <a:pt x="11335" y="8541"/>
                </a:cubicBezTo>
                <a:cubicBezTo>
                  <a:pt x="11335" y="8447"/>
                  <a:pt x="11385" y="8293"/>
                  <a:pt x="11525" y="8382"/>
                </a:cubicBezTo>
                <a:cubicBezTo>
                  <a:pt x="11613" y="8438"/>
                  <a:pt x="11605" y="8625"/>
                  <a:pt x="11684" y="8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4560" y="2914560"/>
            <a:ext cx="160200" cy="138240"/>
          </a:xfrm>
          <a:custGeom>
            <a:avLst/>
            <a:gdLst/>
            <a:ahLst/>
            <a:rect l="l" t="t" r="r" b="b"/>
            <a:pathLst>
              <a:path w="445" h="382">
                <a:moveTo>
                  <a:pt x="12287" y="8096"/>
                </a:moveTo>
                <a:cubicBezTo>
                  <a:pt x="12309" y="8204"/>
                  <a:pt x="12346" y="8299"/>
                  <a:pt x="12351" y="8414"/>
                </a:cubicBezTo>
                <a:cubicBezTo>
                  <a:pt x="12351" y="8435"/>
                  <a:pt x="12351" y="8456"/>
                  <a:pt x="12351" y="8477"/>
                </a:cubicBezTo>
              </a:path>
              <a:path w="445" h="382">
                <a:moveTo>
                  <a:pt x="12097" y="8287"/>
                </a:moveTo>
                <a:cubicBezTo>
                  <a:pt x="12221" y="8287"/>
                  <a:pt x="12325" y="8242"/>
                  <a:pt x="12446" y="8223"/>
                </a:cubicBezTo>
                <a:cubicBezTo>
                  <a:pt x="12499" y="8223"/>
                  <a:pt x="12509" y="8223"/>
                  <a:pt x="12541" y="82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892600"/>
            <a:ext cx="285840" cy="171360"/>
          </a:xfrm>
          <a:custGeom>
            <a:avLst/>
            <a:gdLst/>
            <a:ahLst/>
            <a:rect l="l" t="t" r="r" b="b"/>
            <a:pathLst>
              <a:path w="795" h="477">
                <a:moveTo>
                  <a:pt x="13335" y="8096"/>
                </a:moveTo>
                <a:cubicBezTo>
                  <a:pt x="13335" y="8215"/>
                  <a:pt x="13361" y="8326"/>
                  <a:pt x="13367" y="8446"/>
                </a:cubicBezTo>
                <a:cubicBezTo>
                  <a:pt x="13367" y="8456"/>
                  <a:pt x="13367" y="8467"/>
                  <a:pt x="13367" y="8477"/>
                </a:cubicBezTo>
                <a:cubicBezTo>
                  <a:pt x="13367" y="8341"/>
                  <a:pt x="13369" y="8227"/>
                  <a:pt x="13398" y="8096"/>
                </a:cubicBezTo>
                <a:cubicBezTo>
                  <a:pt x="13547" y="8006"/>
                  <a:pt x="13647" y="8177"/>
                  <a:pt x="13684" y="8318"/>
                </a:cubicBezTo>
                <a:cubicBezTo>
                  <a:pt x="13684" y="8424"/>
                  <a:pt x="13684" y="8445"/>
                  <a:pt x="13684" y="8509"/>
                </a:cubicBezTo>
                <a:cubicBezTo>
                  <a:pt x="13684" y="8395"/>
                  <a:pt x="13663" y="8266"/>
                  <a:pt x="13716" y="8160"/>
                </a:cubicBezTo>
                <a:cubicBezTo>
                  <a:pt x="13770" y="8053"/>
                  <a:pt x="13875" y="8049"/>
                  <a:pt x="13970" y="8033"/>
                </a:cubicBezTo>
                <a:cubicBezTo>
                  <a:pt x="14064" y="8185"/>
                  <a:pt x="14119" y="8297"/>
                  <a:pt x="14129" y="8477"/>
                </a:cubicBezTo>
                <a:cubicBezTo>
                  <a:pt x="14129" y="8488"/>
                  <a:pt x="14129" y="8498"/>
                  <a:pt x="14129" y="8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2914560"/>
            <a:ext cx="160560" cy="81000"/>
          </a:xfrm>
          <a:custGeom>
            <a:avLst/>
            <a:gdLst/>
            <a:ahLst/>
            <a:rect l="l" t="t" r="r" b="b"/>
            <a:pathLst>
              <a:path w="446" h="223">
                <a:moveTo>
                  <a:pt x="14573" y="8160"/>
                </a:moveTo>
                <a:cubicBezTo>
                  <a:pt x="14729" y="8112"/>
                  <a:pt x="14854" y="8096"/>
                  <a:pt x="15018" y="8096"/>
                </a:cubicBezTo>
              </a:path>
              <a:path w="446" h="223">
                <a:moveTo>
                  <a:pt x="14637" y="8318"/>
                </a:moveTo>
                <a:cubicBezTo>
                  <a:pt x="14760" y="8318"/>
                  <a:pt x="14868" y="8306"/>
                  <a:pt x="14986" y="82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9720" y="2789280"/>
            <a:ext cx="993600" cy="252360"/>
          </a:xfrm>
          <a:custGeom>
            <a:avLst/>
            <a:gdLst/>
            <a:ahLst/>
            <a:rect l="l" t="t" r="r" b="b"/>
            <a:pathLst>
              <a:path w="2763" h="700">
                <a:moveTo>
                  <a:pt x="15526" y="7938"/>
                </a:moveTo>
                <a:cubicBezTo>
                  <a:pt x="15679" y="7919"/>
                  <a:pt x="16015" y="7927"/>
                  <a:pt x="15970" y="8192"/>
                </a:cubicBezTo>
                <a:cubicBezTo>
                  <a:pt x="15932" y="8417"/>
                  <a:pt x="15677" y="8458"/>
                  <a:pt x="15558" y="8382"/>
                </a:cubicBezTo>
                <a:cubicBezTo>
                  <a:pt x="15677" y="8263"/>
                  <a:pt x="15788" y="8199"/>
                  <a:pt x="15938" y="8350"/>
                </a:cubicBezTo>
                <a:cubicBezTo>
                  <a:pt x="15966" y="8406"/>
                  <a:pt x="15971" y="8421"/>
                  <a:pt x="16002" y="8446"/>
                </a:cubicBezTo>
              </a:path>
              <a:path w="2763" h="700">
                <a:moveTo>
                  <a:pt x="16256" y="7874"/>
                </a:moveTo>
                <a:cubicBezTo>
                  <a:pt x="16298" y="8041"/>
                  <a:pt x="16353" y="8208"/>
                  <a:pt x="16383" y="8382"/>
                </a:cubicBezTo>
                <a:cubicBezTo>
                  <a:pt x="16383" y="8393"/>
                  <a:pt x="16383" y="8403"/>
                  <a:pt x="16383" y="8414"/>
                </a:cubicBezTo>
              </a:path>
              <a:path w="2763" h="700">
                <a:moveTo>
                  <a:pt x="16700" y="8350"/>
                </a:moveTo>
                <a:cubicBezTo>
                  <a:pt x="16739" y="8441"/>
                  <a:pt x="16713" y="8467"/>
                  <a:pt x="16764" y="8382"/>
                </a:cubicBezTo>
              </a:path>
              <a:path w="2763" h="700">
                <a:moveTo>
                  <a:pt x="16891" y="7842"/>
                </a:moveTo>
                <a:cubicBezTo>
                  <a:pt x="17018" y="7842"/>
                  <a:pt x="17145" y="7842"/>
                  <a:pt x="17272" y="7842"/>
                </a:cubicBezTo>
                <a:cubicBezTo>
                  <a:pt x="17307" y="8016"/>
                  <a:pt x="17336" y="8173"/>
                  <a:pt x="17336" y="8350"/>
                </a:cubicBezTo>
              </a:path>
              <a:path w="2763" h="700">
                <a:moveTo>
                  <a:pt x="17653" y="7779"/>
                </a:moveTo>
                <a:cubicBezTo>
                  <a:pt x="17801" y="7749"/>
                  <a:pt x="17940" y="7747"/>
                  <a:pt x="18098" y="7747"/>
                </a:cubicBezTo>
                <a:cubicBezTo>
                  <a:pt x="18197" y="7747"/>
                  <a:pt x="18220" y="7728"/>
                  <a:pt x="18256" y="7779"/>
                </a:cubicBezTo>
                <a:cubicBezTo>
                  <a:pt x="18290" y="7880"/>
                  <a:pt x="18228" y="8158"/>
                  <a:pt x="18224" y="8318"/>
                </a:cubicBezTo>
                <a:cubicBezTo>
                  <a:pt x="18224" y="8393"/>
                  <a:pt x="18224" y="8403"/>
                  <a:pt x="18224" y="8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3000" y="2629080"/>
            <a:ext cx="1017720" cy="353880"/>
          </a:xfrm>
          <a:custGeom>
            <a:avLst/>
            <a:gdLst/>
            <a:ahLst/>
            <a:rect l="l" t="t" r="r" b="b"/>
            <a:pathLst>
              <a:path w="2827" h="986">
                <a:moveTo>
                  <a:pt x="21526" y="7556"/>
                </a:moveTo>
                <a:cubicBezTo>
                  <a:pt x="21555" y="7528"/>
                  <a:pt x="21561" y="7518"/>
                  <a:pt x="21590" y="7525"/>
                </a:cubicBezTo>
                <a:cubicBezTo>
                  <a:pt x="21558" y="7429"/>
                  <a:pt x="21364" y="7496"/>
                  <a:pt x="21272" y="7525"/>
                </a:cubicBezTo>
                <a:cubicBezTo>
                  <a:pt x="21114" y="7575"/>
                  <a:pt x="21495" y="7839"/>
                  <a:pt x="21558" y="7906"/>
                </a:cubicBezTo>
                <a:cubicBezTo>
                  <a:pt x="21409" y="8022"/>
                  <a:pt x="21346" y="8015"/>
                  <a:pt x="21177" y="7938"/>
                </a:cubicBezTo>
              </a:path>
              <a:path w="2827" h="986">
                <a:moveTo>
                  <a:pt x="21400" y="7493"/>
                </a:moveTo>
                <a:cubicBezTo>
                  <a:pt x="21425" y="7684"/>
                  <a:pt x="21482" y="7873"/>
                  <a:pt x="21526" y="8064"/>
                </a:cubicBezTo>
              </a:path>
              <a:path w="2827" h="986">
                <a:moveTo>
                  <a:pt x="21908" y="7398"/>
                </a:moveTo>
                <a:cubicBezTo>
                  <a:pt x="22003" y="7462"/>
                  <a:pt x="21914" y="7762"/>
                  <a:pt x="21908" y="7874"/>
                </a:cubicBezTo>
                <a:cubicBezTo>
                  <a:pt x="21900" y="8025"/>
                  <a:pt x="21905" y="8354"/>
                  <a:pt x="22162" y="8192"/>
                </a:cubicBezTo>
                <a:cubicBezTo>
                  <a:pt x="22305" y="8102"/>
                  <a:pt x="22313" y="8052"/>
                  <a:pt x="22257" y="7938"/>
                </a:cubicBezTo>
                <a:cubicBezTo>
                  <a:pt x="22166" y="7996"/>
                  <a:pt x="21989" y="8139"/>
                  <a:pt x="22034" y="8287"/>
                </a:cubicBezTo>
                <a:cubicBezTo>
                  <a:pt x="22045" y="8287"/>
                  <a:pt x="22055" y="8287"/>
                  <a:pt x="22066" y="8287"/>
                </a:cubicBezTo>
              </a:path>
              <a:path w="2827" h="986">
                <a:moveTo>
                  <a:pt x="22416" y="8096"/>
                </a:moveTo>
                <a:cubicBezTo>
                  <a:pt x="22453" y="8134"/>
                  <a:pt x="22472" y="8141"/>
                  <a:pt x="22511" y="8096"/>
                </a:cubicBezTo>
              </a:path>
              <a:path w="2827" h="986">
                <a:moveTo>
                  <a:pt x="22955" y="7556"/>
                </a:moveTo>
                <a:cubicBezTo>
                  <a:pt x="23036" y="7556"/>
                  <a:pt x="23053" y="7485"/>
                  <a:pt x="23019" y="7398"/>
                </a:cubicBezTo>
                <a:cubicBezTo>
                  <a:pt x="22998" y="7366"/>
                  <a:pt x="22976" y="7334"/>
                  <a:pt x="22955" y="7302"/>
                </a:cubicBezTo>
                <a:cubicBezTo>
                  <a:pt x="22799" y="7328"/>
                  <a:pt x="22593" y="7477"/>
                  <a:pt x="22701" y="7684"/>
                </a:cubicBezTo>
                <a:cubicBezTo>
                  <a:pt x="22785" y="7846"/>
                  <a:pt x="22989" y="7527"/>
                  <a:pt x="23019" y="7493"/>
                </a:cubicBezTo>
                <a:cubicBezTo>
                  <a:pt x="23029" y="7472"/>
                  <a:pt x="23040" y="7451"/>
                  <a:pt x="23050" y="7430"/>
                </a:cubicBezTo>
                <a:cubicBezTo>
                  <a:pt x="23050" y="7656"/>
                  <a:pt x="23059" y="7872"/>
                  <a:pt x="23082" y="8096"/>
                </a:cubicBezTo>
                <a:cubicBezTo>
                  <a:pt x="23082" y="8128"/>
                  <a:pt x="23082" y="8139"/>
                  <a:pt x="23082" y="8160"/>
                </a:cubicBezTo>
              </a:path>
              <a:path w="2827" h="986">
                <a:moveTo>
                  <a:pt x="23876" y="7302"/>
                </a:moveTo>
                <a:cubicBezTo>
                  <a:pt x="23797" y="7310"/>
                  <a:pt x="23610" y="7312"/>
                  <a:pt x="23590" y="7366"/>
                </a:cubicBezTo>
                <a:cubicBezTo>
                  <a:pt x="23561" y="7444"/>
                  <a:pt x="23539" y="7534"/>
                  <a:pt x="23527" y="7620"/>
                </a:cubicBezTo>
                <a:cubicBezTo>
                  <a:pt x="23645" y="7620"/>
                  <a:pt x="23722" y="7525"/>
                  <a:pt x="23844" y="7525"/>
                </a:cubicBezTo>
                <a:cubicBezTo>
                  <a:pt x="24097" y="7524"/>
                  <a:pt x="24000" y="7906"/>
                  <a:pt x="23876" y="8001"/>
                </a:cubicBezTo>
                <a:cubicBezTo>
                  <a:pt x="23712" y="8127"/>
                  <a:pt x="23561" y="8026"/>
                  <a:pt x="23400" y="79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8360" y="4994280"/>
            <a:ext cx="331560" cy="160200"/>
          </a:xfrm>
          <a:custGeom>
            <a:avLst/>
            <a:gdLst/>
            <a:ahLst/>
            <a:rect l="l" t="t" r="r" b="b"/>
            <a:pathLst>
              <a:path w="922" h="445">
                <a:moveTo>
                  <a:pt x="11049" y="14097"/>
                </a:moveTo>
                <a:cubicBezTo>
                  <a:pt x="11074" y="13973"/>
                  <a:pt x="11132" y="13957"/>
                  <a:pt x="11240" y="13906"/>
                </a:cubicBezTo>
                <a:cubicBezTo>
                  <a:pt x="11317" y="13870"/>
                  <a:pt x="11439" y="13855"/>
                  <a:pt x="11525" y="13875"/>
                </a:cubicBezTo>
                <a:cubicBezTo>
                  <a:pt x="11617" y="13896"/>
                  <a:pt x="11681" y="13902"/>
                  <a:pt x="11748" y="13970"/>
                </a:cubicBezTo>
                <a:cubicBezTo>
                  <a:pt x="11821" y="14044"/>
                  <a:pt x="11823" y="14126"/>
                  <a:pt x="11843" y="14224"/>
                </a:cubicBezTo>
              </a:path>
              <a:path w="922" h="445">
                <a:moveTo>
                  <a:pt x="11906" y="14034"/>
                </a:moveTo>
                <a:cubicBezTo>
                  <a:pt x="11959" y="14139"/>
                  <a:pt x="11970" y="14200"/>
                  <a:pt x="11970" y="14319"/>
                </a:cubicBezTo>
                <a:cubicBezTo>
                  <a:pt x="11886" y="14292"/>
                  <a:pt x="11862" y="14166"/>
                  <a:pt x="11716" y="14160"/>
                </a:cubicBezTo>
                <a:cubicBezTo>
                  <a:pt x="11664" y="14186"/>
                  <a:pt x="11656" y="14197"/>
                  <a:pt x="11620" y="1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8280" y="5600880"/>
            <a:ext cx="2378160" cy="377640"/>
          </a:xfrm>
          <a:custGeom>
            <a:avLst/>
            <a:gdLst/>
            <a:ahLst/>
            <a:rect l="l" t="t" r="r" b="b"/>
            <a:pathLst>
              <a:path w="6605" h="1048">
                <a:moveTo>
                  <a:pt x="7620" y="15970"/>
                </a:moveTo>
                <a:cubicBezTo>
                  <a:pt x="7643" y="16114"/>
                  <a:pt x="7652" y="16238"/>
                  <a:pt x="7652" y="16383"/>
                </a:cubicBezTo>
                <a:cubicBezTo>
                  <a:pt x="7652" y="16372"/>
                  <a:pt x="7652" y="16362"/>
                  <a:pt x="7652" y="16351"/>
                </a:cubicBezTo>
              </a:path>
              <a:path w="6605" h="1048">
                <a:moveTo>
                  <a:pt x="8223" y="15812"/>
                </a:moveTo>
                <a:cubicBezTo>
                  <a:pt x="8154" y="15909"/>
                  <a:pt x="8094" y="15929"/>
                  <a:pt x="7969" y="15938"/>
                </a:cubicBezTo>
                <a:cubicBezTo>
                  <a:pt x="7923" y="15941"/>
                  <a:pt x="7925" y="16046"/>
                  <a:pt x="7906" y="16097"/>
                </a:cubicBezTo>
                <a:cubicBezTo>
                  <a:pt x="8019" y="16069"/>
                  <a:pt x="8047" y="15991"/>
                  <a:pt x="8192" y="16002"/>
                </a:cubicBezTo>
                <a:cubicBezTo>
                  <a:pt x="8384" y="16017"/>
                  <a:pt x="8530" y="16226"/>
                  <a:pt x="8318" y="16351"/>
                </a:cubicBezTo>
                <a:cubicBezTo>
                  <a:pt x="8155" y="16447"/>
                  <a:pt x="8107" y="16363"/>
                  <a:pt x="8064" y="16256"/>
                </a:cubicBezTo>
              </a:path>
              <a:path w="6605" h="1048">
                <a:moveTo>
                  <a:pt x="8668" y="15970"/>
                </a:moveTo>
                <a:cubicBezTo>
                  <a:pt x="8722" y="16100"/>
                  <a:pt x="8764" y="16193"/>
                  <a:pt x="8890" y="16256"/>
                </a:cubicBezTo>
              </a:path>
              <a:path w="6605" h="1048">
                <a:moveTo>
                  <a:pt x="8890" y="15938"/>
                </a:moveTo>
                <a:cubicBezTo>
                  <a:pt x="8821" y="16100"/>
                  <a:pt x="8732" y="16249"/>
                  <a:pt x="8668" y="16415"/>
                </a:cubicBezTo>
              </a:path>
              <a:path w="6605" h="1048">
                <a:moveTo>
                  <a:pt x="9080" y="16097"/>
                </a:moveTo>
                <a:cubicBezTo>
                  <a:pt x="9080" y="16129"/>
                  <a:pt x="9080" y="16160"/>
                  <a:pt x="9080" y="16192"/>
                </a:cubicBezTo>
                <a:cubicBezTo>
                  <a:pt x="9080" y="16237"/>
                  <a:pt x="9041" y="15967"/>
                  <a:pt x="9208" y="16034"/>
                </a:cubicBezTo>
                <a:cubicBezTo>
                  <a:pt x="9316" y="16077"/>
                  <a:pt x="9543" y="16316"/>
                  <a:pt x="9430" y="16288"/>
                </a:cubicBezTo>
                <a:cubicBezTo>
                  <a:pt x="9419" y="16277"/>
                  <a:pt x="9409" y="16267"/>
                  <a:pt x="9398" y="16256"/>
                </a:cubicBezTo>
                <a:cubicBezTo>
                  <a:pt x="9403" y="16184"/>
                  <a:pt x="9388" y="15933"/>
                  <a:pt x="9557" y="16034"/>
                </a:cubicBezTo>
                <a:cubicBezTo>
                  <a:pt x="9681" y="16109"/>
                  <a:pt x="9674" y="16198"/>
                  <a:pt x="9684" y="16320"/>
                </a:cubicBezTo>
              </a:path>
              <a:path w="6605" h="1048">
                <a:moveTo>
                  <a:pt x="10224" y="15970"/>
                </a:moveTo>
                <a:cubicBezTo>
                  <a:pt x="10251" y="16073"/>
                  <a:pt x="10276" y="16160"/>
                  <a:pt x="10319" y="16256"/>
                </a:cubicBezTo>
              </a:path>
              <a:path w="6605" h="1048">
                <a:moveTo>
                  <a:pt x="10065" y="16066"/>
                </a:moveTo>
                <a:cubicBezTo>
                  <a:pt x="10207" y="16018"/>
                  <a:pt x="10293" y="15987"/>
                  <a:pt x="10446" y="15970"/>
                </a:cubicBezTo>
              </a:path>
              <a:path w="6605" h="1048">
                <a:moveTo>
                  <a:pt x="9779" y="15780"/>
                </a:moveTo>
                <a:cubicBezTo>
                  <a:pt x="9887" y="15987"/>
                  <a:pt x="10071" y="16323"/>
                  <a:pt x="9779" y="16510"/>
                </a:cubicBezTo>
                <a:cubicBezTo>
                  <a:pt x="9726" y="16521"/>
                  <a:pt x="9673" y="16531"/>
                  <a:pt x="9620" y="16542"/>
                </a:cubicBezTo>
              </a:path>
              <a:path w="6605" h="1048">
                <a:moveTo>
                  <a:pt x="7779" y="15748"/>
                </a:moveTo>
                <a:cubicBezTo>
                  <a:pt x="7651" y="15904"/>
                  <a:pt x="7481" y="16164"/>
                  <a:pt x="7525" y="16383"/>
                </a:cubicBezTo>
                <a:cubicBezTo>
                  <a:pt x="7582" y="16668"/>
                  <a:pt x="7900" y="16594"/>
                  <a:pt x="8096" y="16605"/>
                </a:cubicBezTo>
              </a:path>
              <a:path w="6605" h="1048">
                <a:moveTo>
                  <a:pt x="10795" y="15653"/>
                </a:moveTo>
                <a:cubicBezTo>
                  <a:pt x="10806" y="15632"/>
                  <a:pt x="10816" y="15610"/>
                  <a:pt x="10827" y="15589"/>
                </a:cubicBezTo>
                <a:cubicBezTo>
                  <a:pt x="10771" y="15480"/>
                  <a:pt x="10640" y="16036"/>
                  <a:pt x="10636" y="16066"/>
                </a:cubicBezTo>
                <a:cubicBezTo>
                  <a:pt x="10587" y="16449"/>
                  <a:pt x="10751" y="16464"/>
                  <a:pt x="10986" y="16288"/>
                </a:cubicBezTo>
              </a:path>
              <a:path w="6605" h="1048">
                <a:moveTo>
                  <a:pt x="11081" y="16002"/>
                </a:moveTo>
                <a:cubicBezTo>
                  <a:pt x="11103" y="16103"/>
                  <a:pt x="11100" y="16396"/>
                  <a:pt x="11176" y="16192"/>
                </a:cubicBezTo>
              </a:path>
              <a:path w="6605" h="1048">
                <a:moveTo>
                  <a:pt x="11366" y="15875"/>
                </a:moveTo>
                <a:cubicBezTo>
                  <a:pt x="11378" y="15907"/>
                  <a:pt x="11388" y="16057"/>
                  <a:pt x="11430" y="16066"/>
                </a:cubicBezTo>
                <a:cubicBezTo>
                  <a:pt x="11474" y="16076"/>
                  <a:pt x="11794" y="16034"/>
                  <a:pt x="11684" y="16192"/>
                </a:cubicBezTo>
                <a:cubicBezTo>
                  <a:pt x="11594" y="16237"/>
                  <a:pt x="11550" y="16230"/>
                  <a:pt x="11494" y="16129"/>
                </a:cubicBezTo>
              </a:path>
              <a:path w="6605" h="1048">
                <a:moveTo>
                  <a:pt x="11494" y="15843"/>
                </a:moveTo>
                <a:cubicBezTo>
                  <a:pt x="11693" y="15815"/>
                  <a:pt x="11783" y="15813"/>
                  <a:pt x="11970" y="15875"/>
                </a:cubicBezTo>
              </a:path>
              <a:path w="6605" h="1048">
                <a:moveTo>
                  <a:pt x="12002" y="16097"/>
                </a:moveTo>
                <a:cubicBezTo>
                  <a:pt x="12012" y="16118"/>
                  <a:pt x="12023" y="16140"/>
                  <a:pt x="12033" y="16161"/>
                </a:cubicBezTo>
                <a:cubicBezTo>
                  <a:pt x="12033" y="16220"/>
                  <a:pt x="11936" y="16040"/>
                  <a:pt x="12002" y="15970"/>
                </a:cubicBezTo>
                <a:cubicBezTo>
                  <a:pt x="12142" y="15821"/>
                  <a:pt x="12370" y="16081"/>
                  <a:pt x="12446" y="16161"/>
                </a:cubicBezTo>
                <a:cubicBezTo>
                  <a:pt x="12457" y="16171"/>
                  <a:pt x="12467" y="16182"/>
                  <a:pt x="12478" y="16192"/>
                </a:cubicBezTo>
              </a:path>
              <a:path w="6605" h="1048">
                <a:moveTo>
                  <a:pt x="11970" y="15970"/>
                </a:moveTo>
                <a:cubicBezTo>
                  <a:pt x="12101" y="16080"/>
                  <a:pt x="12237" y="16076"/>
                  <a:pt x="12382" y="16161"/>
                </a:cubicBezTo>
                <a:cubicBezTo>
                  <a:pt x="12403" y="16182"/>
                  <a:pt x="12425" y="16203"/>
                  <a:pt x="12446" y="16224"/>
                </a:cubicBezTo>
              </a:path>
              <a:path w="6605" h="1048">
                <a:moveTo>
                  <a:pt x="12382" y="15938"/>
                </a:moveTo>
                <a:cubicBezTo>
                  <a:pt x="12285" y="16079"/>
                  <a:pt x="12185" y="16199"/>
                  <a:pt x="12065" y="16320"/>
                </a:cubicBezTo>
              </a:path>
              <a:path w="6605" h="1048">
                <a:moveTo>
                  <a:pt x="12700" y="15970"/>
                </a:moveTo>
                <a:cubicBezTo>
                  <a:pt x="12700" y="16093"/>
                  <a:pt x="12703" y="16182"/>
                  <a:pt x="12764" y="16288"/>
                </a:cubicBezTo>
                <a:cubicBezTo>
                  <a:pt x="12721" y="16217"/>
                  <a:pt x="12713" y="16124"/>
                  <a:pt x="12700" y="16034"/>
                </a:cubicBezTo>
                <a:cubicBezTo>
                  <a:pt x="12841" y="16023"/>
                  <a:pt x="13000" y="16043"/>
                  <a:pt x="13081" y="16192"/>
                </a:cubicBezTo>
                <a:cubicBezTo>
                  <a:pt x="13081" y="16224"/>
                  <a:pt x="13081" y="16235"/>
                  <a:pt x="13081" y="16192"/>
                </a:cubicBezTo>
              </a:path>
              <a:path w="6605" h="1048">
                <a:moveTo>
                  <a:pt x="13018" y="15589"/>
                </a:moveTo>
                <a:cubicBezTo>
                  <a:pt x="13216" y="15815"/>
                  <a:pt x="13478" y="16031"/>
                  <a:pt x="13335" y="16351"/>
                </a:cubicBezTo>
                <a:cubicBezTo>
                  <a:pt x="13314" y="16372"/>
                  <a:pt x="13293" y="16394"/>
                  <a:pt x="13272" y="16415"/>
                </a:cubicBezTo>
              </a:path>
              <a:path w="6605" h="1048">
                <a:moveTo>
                  <a:pt x="13875" y="15875"/>
                </a:moveTo>
                <a:cubicBezTo>
                  <a:pt x="13884" y="15908"/>
                  <a:pt x="14044" y="16303"/>
                  <a:pt x="13938" y="16129"/>
                </a:cubicBezTo>
              </a:path>
              <a:path w="6605" h="1048">
                <a:moveTo>
                  <a:pt x="13748" y="16034"/>
                </a:moveTo>
                <a:cubicBezTo>
                  <a:pt x="13917" y="16034"/>
                  <a:pt x="14002" y="16034"/>
                  <a:pt x="14129" y="16034"/>
                </a:cubicBezTo>
              </a:path>
              <a:path w="6605" h="1048">
                <a:moveTo>
                  <a:pt x="14129" y="16034"/>
                </a:moveTo>
                <a:lnTo>
                  <a:pt x="14129" y="160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589720"/>
            <a:ext cx="446040" cy="274680"/>
          </a:xfrm>
          <a:custGeom>
            <a:avLst/>
            <a:gdLst/>
            <a:ahLst/>
            <a:rect l="l" t="t" r="r" b="b"/>
            <a:pathLst>
              <a:path w="1239" h="763">
                <a:moveTo>
                  <a:pt x="14796" y="15526"/>
                </a:moveTo>
                <a:cubicBezTo>
                  <a:pt x="14674" y="15717"/>
                  <a:pt x="14443" y="16051"/>
                  <a:pt x="14700" y="16256"/>
                </a:cubicBezTo>
                <a:cubicBezTo>
                  <a:pt x="14852" y="16287"/>
                  <a:pt x="14900" y="16300"/>
                  <a:pt x="14986" y="16224"/>
                </a:cubicBezTo>
              </a:path>
              <a:path w="1239" h="763">
                <a:moveTo>
                  <a:pt x="15081" y="15843"/>
                </a:moveTo>
                <a:cubicBezTo>
                  <a:pt x="15109" y="15918"/>
                  <a:pt x="15181" y="16187"/>
                  <a:pt x="15208" y="16161"/>
                </a:cubicBezTo>
              </a:path>
              <a:path w="1239" h="763">
                <a:moveTo>
                  <a:pt x="15558" y="15716"/>
                </a:moveTo>
                <a:cubicBezTo>
                  <a:pt x="15438" y="15716"/>
                  <a:pt x="15395" y="15704"/>
                  <a:pt x="15367" y="15843"/>
                </a:cubicBezTo>
                <a:cubicBezTo>
                  <a:pt x="15367" y="15896"/>
                  <a:pt x="15367" y="15906"/>
                  <a:pt x="15367" y="15938"/>
                </a:cubicBezTo>
                <a:cubicBezTo>
                  <a:pt x="15501" y="15890"/>
                  <a:pt x="15650" y="15782"/>
                  <a:pt x="15780" y="15907"/>
                </a:cubicBezTo>
                <a:cubicBezTo>
                  <a:pt x="15836" y="16020"/>
                  <a:pt x="15857" y="16047"/>
                  <a:pt x="15843" y="16129"/>
                </a:cubicBezTo>
                <a:cubicBezTo>
                  <a:pt x="15695" y="16174"/>
                  <a:pt x="15673" y="16153"/>
                  <a:pt x="15526" y="16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51440" y="5578560"/>
            <a:ext cx="503280" cy="331560"/>
          </a:xfrm>
          <a:custGeom>
            <a:avLst/>
            <a:gdLst/>
            <a:ahLst/>
            <a:rect l="l" t="t" r="r" b="b"/>
            <a:pathLst>
              <a:path w="1398" h="922">
                <a:moveTo>
                  <a:pt x="16256" y="15812"/>
                </a:moveTo>
                <a:cubicBezTo>
                  <a:pt x="16277" y="15842"/>
                  <a:pt x="16515" y="16146"/>
                  <a:pt x="16542" y="16129"/>
                </a:cubicBezTo>
                <a:cubicBezTo>
                  <a:pt x="16542" y="16108"/>
                  <a:pt x="16542" y="16087"/>
                  <a:pt x="16542" y="16066"/>
                </a:cubicBezTo>
              </a:path>
              <a:path w="1398" h="922">
                <a:moveTo>
                  <a:pt x="16415" y="15875"/>
                </a:moveTo>
                <a:cubicBezTo>
                  <a:pt x="16370" y="15970"/>
                  <a:pt x="16286" y="16064"/>
                  <a:pt x="16351" y="16066"/>
                </a:cubicBezTo>
              </a:path>
              <a:path w="1398" h="922">
                <a:moveTo>
                  <a:pt x="16796" y="15780"/>
                </a:moveTo>
                <a:cubicBezTo>
                  <a:pt x="16835" y="15888"/>
                  <a:pt x="16892" y="16020"/>
                  <a:pt x="16923" y="16129"/>
                </a:cubicBezTo>
              </a:path>
              <a:path w="1398" h="922">
                <a:moveTo>
                  <a:pt x="17082" y="15684"/>
                </a:moveTo>
                <a:cubicBezTo>
                  <a:pt x="17022" y="15803"/>
                  <a:pt x="17009" y="15841"/>
                  <a:pt x="16923" y="15875"/>
                </a:cubicBezTo>
                <a:cubicBezTo>
                  <a:pt x="16951" y="15790"/>
                  <a:pt x="17096" y="15928"/>
                  <a:pt x="17145" y="15970"/>
                </a:cubicBezTo>
                <a:cubicBezTo>
                  <a:pt x="17253" y="16063"/>
                  <a:pt x="17263" y="16084"/>
                  <a:pt x="17208" y="16192"/>
                </a:cubicBezTo>
              </a:path>
              <a:path w="1398" h="922">
                <a:moveTo>
                  <a:pt x="17240" y="15494"/>
                </a:moveTo>
                <a:cubicBezTo>
                  <a:pt x="17449" y="15643"/>
                  <a:pt x="17586" y="15966"/>
                  <a:pt x="17653" y="16224"/>
                </a:cubicBezTo>
                <a:cubicBezTo>
                  <a:pt x="17714" y="16461"/>
                  <a:pt x="17476" y="16403"/>
                  <a:pt x="17336" y="16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60600" y="6046920"/>
            <a:ext cx="1497240" cy="274680"/>
          </a:xfrm>
          <a:custGeom>
            <a:avLst/>
            <a:gdLst/>
            <a:ahLst/>
            <a:rect l="l" t="t" r="r" b="b"/>
            <a:pathLst>
              <a:path w="4161" h="763">
                <a:moveTo>
                  <a:pt x="9334" y="16986"/>
                </a:moveTo>
                <a:cubicBezTo>
                  <a:pt x="9348" y="17157"/>
                  <a:pt x="9185" y="17408"/>
                  <a:pt x="9334" y="17494"/>
                </a:cubicBezTo>
                <a:cubicBezTo>
                  <a:pt x="9355" y="17473"/>
                  <a:pt x="9377" y="17452"/>
                  <a:pt x="9398" y="17431"/>
                </a:cubicBezTo>
              </a:path>
              <a:path w="4161" h="763">
                <a:moveTo>
                  <a:pt x="9747" y="16954"/>
                </a:moveTo>
                <a:cubicBezTo>
                  <a:pt x="9696" y="16993"/>
                  <a:pt x="9672" y="16987"/>
                  <a:pt x="9652" y="17050"/>
                </a:cubicBezTo>
                <a:cubicBezTo>
                  <a:pt x="9628" y="17125"/>
                  <a:pt x="9601" y="17196"/>
                  <a:pt x="9588" y="17272"/>
                </a:cubicBezTo>
                <a:cubicBezTo>
                  <a:pt x="9694" y="17211"/>
                  <a:pt x="9898" y="17144"/>
                  <a:pt x="10001" y="17272"/>
                </a:cubicBezTo>
                <a:cubicBezTo>
                  <a:pt x="10157" y="17465"/>
                  <a:pt x="9899" y="17580"/>
                  <a:pt x="9747" y="17526"/>
                </a:cubicBezTo>
                <a:cubicBezTo>
                  <a:pt x="9715" y="17505"/>
                  <a:pt x="9684" y="17483"/>
                  <a:pt x="9652" y="17462"/>
                </a:cubicBezTo>
              </a:path>
              <a:path w="4161" h="763">
                <a:moveTo>
                  <a:pt x="10319" y="17367"/>
                </a:moveTo>
                <a:cubicBezTo>
                  <a:pt x="10374" y="17450"/>
                  <a:pt x="10389" y="17469"/>
                  <a:pt x="10414" y="17526"/>
                </a:cubicBezTo>
                <a:cubicBezTo>
                  <a:pt x="10397" y="17397"/>
                  <a:pt x="10380" y="17173"/>
                  <a:pt x="10604" y="17304"/>
                </a:cubicBezTo>
                <a:cubicBezTo>
                  <a:pt x="10685" y="17384"/>
                  <a:pt x="10707" y="17396"/>
                  <a:pt x="10732" y="17462"/>
                </a:cubicBezTo>
                <a:cubicBezTo>
                  <a:pt x="10732" y="17390"/>
                  <a:pt x="10700" y="17240"/>
                  <a:pt x="10795" y="17208"/>
                </a:cubicBezTo>
                <a:cubicBezTo>
                  <a:pt x="10943" y="17158"/>
                  <a:pt x="11005" y="17377"/>
                  <a:pt x="11017" y="17462"/>
                </a:cubicBezTo>
              </a:path>
              <a:path w="4161" h="763">
                <a:moveTo>
                  <a:pt x="11430" y="17082"/>
                </a:moveTo>
                <a:cubicBezTo>
                  <a:pt x="11457" y="17151"/>
                  <a:pt x="11616" y="17429"/>
                  <a:pt x="11525" y="17399"/>
                </a:cubicBezTo>
              </a:path>
              <a:path w="4161" h="763">
                <a:moveTo>
                  <a:pt x="11366" y="17208"/>
                </a:moveTo>
                <a:cubicBezTo>
                  <a:pt x="11552" y="17199"/>
                  <a:pt x="11667" y="17175"/>
                  <a:pt x="11843" y="17113"/>
                </a:cubicBezTo>
              </a:path>
              <a:path w="4161" h="763">
                <a:moveTo>
                  <a:pt x="12065" y="16859"/>
                </a:moveTo>
                <a:cubicBezTo>
                  <a:pt x="12141" y="17025"/>
                  <a:pt x="12236" y="17548"/>
                  <a:pt x="12256" y="17367"/>
                </a:cubicBezTo>
                <a:cubicBezTo>
                  <a:pt x="12256" y="17335"/>
                  <a:pt x="12256" y="17304"/>
                  <a:pt x="12256" y="17272"/>
                </a:cubicBezTo>
              </a:path>
              <a:path w="4161" h="763">
                <a:moveTo>
                  <a:pt x="12636" y="16796"/>
                </a:moveTo>
                <a:cubicBezTo>
                  <a:pt x="12534" y="16796"/>
                  <a:pt x="12464" y="16893"/>
                  <a:pt x="12382" y="16954"/>
                </a:cubicBezTo>
                <a:cubicBezTo>
                  <a:pt x="12484" y="16954"/>
                  <a:pt x="12400" y="16982"/>
                  <a:pt x="12446" y="17018"/>
                </a:cubicBezTo>
                <a:cubicBezTo>
                  <a:pt x="12497" y="17059"/>
                  <a:pt x="12629" y="17002"/>
                  <a:pt x="12700" y="17050"/>
                </a:cubicBezTo>
                <a:cubicBezTo>
                  <a:pt x="12835" y="17140"/>
                  <a:pt x="12887" y="17332"/>
                  <a:pt x="12700" y="17399"/>
                </a:cubicBezTo>
                <a:cubicBezTo>
                  <a:pt x="12580" y="17442"/>
                  <a:pt x="12508" y="17343"/>
                  <a:pt x="12446" y="17272"/>
                </a:cubicBezTo>
              </a:path>
              <a:path w="4161" h="763">
                <a:moveTo>
                  <a:pt x="12922" y="17050"/>
                </a:moveTo>
                <a:cubicBezTo>
                  <a:pt x="12984" y="17142"/>
                  <a:pt x="12970" y="17336"/>
                  <a:pt x="13081" y="17336"/>
                </a:cubicBezTo>
                <a:cubicBezTo>
                  <a:pt x="13081" y="17325"/>
                  <a:pt x="13081" y="17315"/>
                  <a:pt x="13081" y="17304"/>
                </a:cubicBezTo>
                <a:cubicBezTo>
                  <a:pt x="13007" y="17207"/>
                  <a:pt x="12929" y="17050"/>
                  <a:pt x="13144" y="17050"/>
                </a:cubicBezTo>
                <a:cubicBezTo>
                  <a:pt x="13338" y="17050"/>
                  <a:pt x="13456" y="17168"/>
                  <a:pt x="13494" y="17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978520"/>
            <a:ext cx="892080" cy="239760"/>
          </a:xfrm>
          <a:custGeom>
            <a:avLst/>
            <a:gdLst/>
            <a:ahLst/>
            <a:rect l="l" t="t" r="r" b="b"/>
            <a:pathLst>
              <a:path w="2477" h="668">
                <a:moveTo>
                  <a:pt x="14097" y="16732"/>
                </a:moveTo>
                <a:cubicBezTo>
                  <a:pt x="14125" y="16826"/>
                  <a:pt x="14158" y="17082"/>
                  <a:pt x="14224" y="17145"/>
                </a:cubicBezTo>
                <a:cubicBezTo>
                  <a:pt x="14224" y="17134"/>
                  <a:pt x="14224" y="17124"/>
                  <a:pt x="14224" y="17113"/>
                </a:cubicBezTo>
              </a:path>
              <a:path w="2477" h="668">
                <a:moveTo>
                  <a:pt x="13970" y="16954"/>
                </a:moveTo>
                <a:cubicBezTo>
                  <a:pt x="14194" y="16928"/>
                  <a:pt x="14411" y="16923"/>
                  <a:pt x="14637" y="16923"/>
                </a:cubicBezTo>
              </a:path>
              <a:path w="2477" h="668">
                <a:moveTo>
                  <a:pt x="14891" y="16700"/>
                </a:moveTo>
                <a:cubicBezTo>
                  <a:pt x="14908" y="16877"/>
                  <a:pt x="14960" y="17033"/>
                  <a:pt x="14986" y="17208"/>
                </a:cubicBezTo>
              </a:path>
              <a:path w="2477" h="668">
                <a:moveTo>
                  <a:pt x="15494" y="16637"/>
                </a:moveTo>
                <a:cubicBezTo>
                  <a:pt x="15421" y="16637"/>
                  <a:pt x="15267" y="16630"/>
                  <a:pt x="15208" y="16669"/>
                </a:cubicBezTo>
                <a:cubicBezTo>
                  <a:pt x="15139" y="16714"/>
                  <a:pt x="15144" y="16814"/>
                  <a:pt x="15113" y="16891"/>
                </a:cubicBezTo>
                <a:cubicBezTo>
                  <a:pt x="15113" y="16902"/>
                  <a:pt x="15113" y="16912"/>
                  <a:pt x="15113" y="16923"/>
                </a:cubicBezTo>
                <a:cubicBezTo>
                  <a:pt x="15205" y="16904"/>
                  <a:pt x="15368" y="16846"/>
                  <a:pt x="15462" y="16891"/>
                </a:cubicBezTo>
                <a:cubicBezTo>
                  <a:pt x="15668" y="16990"/>
                  <a:pt x="15593" y="17227"/>
                  <a:pt x="15399" y="17272"/>
                </a:cubicBezTo>
                <a:cubicBezTo>
                  <a:pt x="15260" y="17272"/>
                  <a:pt x="15213" y="17291"/>
                  <a:pt x="15208" y="17177"/>
                </a:cubicBezTo>
              </a:path>
              <a:path w="2477" h="668">
                <a:moveTo>
                  <a:pt x="15812" y="16605"/>
                </a:moveTo>
                <a:cubicBezTo>
                  <a:pt x="15858" y="16810"/>
                  <a:pt x="15908" y="16989"/>
                  <a:pt x="16002" y="17177"/>
                </a:cubicBezTo>
              </a:path>
              <a:path w="2477" h="668">
                <a:moveTo>
                  <a:pt x="16192" y="16796"/>
                </a:moveTo>
                <a:cubicBezTo>
                  <a:pt x="16094" y="16949"/>
                  <a:pt x="16110" y="16958"/>
                  <a:pt x="15938" y="16986"/>
                </a:cubicBezTo>
                <a:cubicBezTo>
                  <a:pt x="15977" y="16868"/>
                  <a:pt x="16171" y="17052"/>
                  <a:pt x="16224" y="17082"/>
                </a:cubicBezTo>
                <a:cubicBezTo>
                  <a:pt x="16343" y="17141"/>
                  <a:pt x="16377" y="17157"/>
                  <a:pt x="16446" y="172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distributive property to rewrite and solve the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(9 +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245120"/>
            <a:ext cx="737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mean of the inte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8, 7, 2, -14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2400" y="2320920"/>
            <a:ext cx="3132360" cy="1085760"/>
          </a:xfrm>
          <a:custGeom>
            <a:avLst/>
            <a:gdLst/>
            <a:ahLst/>
            <a:rect l="l" t="t" r="r" b="b"/>
            <a:pathLst>
              <a:path w="8701" h="3018">
                <a:moveTo>
                  <a:pt x="8350" y="7779"/>
                </a:moveTo>
                <a:cubicBezTo>
                  <a:pt x="8284" y="7932"/>
                  <a:pt x="8303" y="8170"/>
                  <a:pt x="8287" y="8350"/>
                </a:cubicBezTo>
                <a:cubicBezTo>
                  <a:pt x="8287" y="8371"/>
                  <a:pt x="8287" y="8393"/>
                  <a:pt x="8287" y="8414"/>
                </a:cubicBezTo>
              </a:path>
              <a:path w="8701" h="3018">
                <a:moveTo>
                  <a:pt x="9049" y="7556"/>
                </a:moveTo>
                <a:cubicBezTo>
                  <a:pt x="8997" y="7598"/>
                  <a:pt x="8774" y="7667"/>
                  <a:pt x="8763" y="7684"/>
                </a:cubicBezTo>
                <a:cubicBezTo>
                  <a:pt x="8711" y="7762"/>
                  <a:pt x="8709" y="7880"/>
                  <a:pt x="8700" y="7969"/>
                </a:cubicBezTo>
                <a:cubicBezTo>
                  <a:pt x="8828" y="7944"/>
                  <a:pt x="8923" y="7797"/>
                  <a:pt x="9049" y="7938"/>
                </a:cubicBezTo>
                <a:cubicBezTo>
                  <a:pt x="9238" y="8149"/>
                  <a:pt x="9045" y="8362"/>
                  <a:pt x="8826" y="8350"/>
                </a:cubicBezTo>
                <a:cubicBezTo>
                  <a:pt x="8719" y="8323"/>
                  <a:pt x="8669" y="8330"/>
                  <a:pt x="8731" y="8255"/>
                </a:cubicBezTo>
              </a:path>
              <a:path w="8701" h="3018">
                <a:moveTo>
                  <a:pt x="8668" y="7620"/>
                </a:moveTo>
                <a:cubicBezTo>
                  <a:pt x="8641" y="7728"/>
                  <a:pt x="8639" y="7752"/>
                  <a:pt x="8604" y="7810"/>
                </a:cubicBezTo>
                <a:cubicBezTo>
                  <a:pt x="8653" y="7690"/>
                  <a:pt x="8749" y="7556"/>
                  <a:pt x="8890" y="7684"/>
                </a:cubicBezTo>
                <a:cubicBezTo>
                  <a:pt x="9086" y="7863"/>
                  <a:pt x="8941" y="8263"/>
                  <a:pt x="8700" y="8318"/>
                </a:cubicBezTo>
                <a:cubicBezTo>
                  <a:pt x="8626" y="8294"/>
                  <a:pt x="8617" y="8284"/>
                  <a:pt x="8572" y="8287"/>
                </a:cubicBezTo>
                <a:cubicBezTo>
                  <a:pt x="8675" y="8150"/>
                  <a:pt x="8857" y="8084"/>
                  <a:pt x="9017" y="8223"/>
                </a:cubicBezTo>
                <a:cubicBezTo>
                  <a:pt x="9066" y="8265"/>
                  <a:pt x="9112" y="8534"/>
                  <a:pt x="9112" y="8382"/>
                </a:cubicBezTo>
              </a:path>
              <a:path w="8701" h="3018">
                <a:moveTo>
                  <a:pt x="9366" y="7747"/>
                </a:moveTo>
                <a:cubicBezTo>
                  <a:pt x="9471" y="7887"/>
                  <a:pt x="9547" y="8050"/>
                  <a:pt x="9652" y="8192"/>
                </a:cubicBezTo>
                <a:cubicBezTo>
                  <a:pt x="9663" y="8202"/>
                  <a:pt x="9673" y="8213"/>
                  <a:pt x="9684" y="8223"/>
                </a:cubicBezTo>
              </a:path>
              <a:path w="8701" h="3018">
                <a:moveTo>
                  <a:pt x="9652" y="7779"/>
                </a:moveTo>
                <a:cubicBezTo>
                  <a:pt x="9628" y="7833"/>
                  <a:pt x="9362" y="8473"/>
                  <a:pt x="9462" y="8223"/>
                </a:cubicBezTo>
              </a:path>
              <a:path w="8701" h="3018">
                <a:moveTo>
                  <a:pt x="10478" y="7684"/>
                </a:moveTo>
                <a:cubicBezTo>
                  <a:pt x="10478" y="7581"/>
                  <a:pt x="10470" y="7595"/>
                  <a:pt x="10414" y="7493"/>
                </a:cubicBezTo>
                <a:cubicBezTo>
                  <a:pt x="10317" y="7500"/>
                  <a:pt x="9929" y="7764"/>
                  <a:pt x="10160" y="7906"/>
                </a:cubicBezTo>
                <a:cubicBezTo>
                  <a:pt x="10295" y="7990"/>
                  <a:pt x="10410" y="7684"/>
                  <a:pt x="10446" y="7620"/>
                </a:cubicBezTo>
                <a:cubicBezTo>
                  <a:pt x="10446" y="7757"/>
                  <a:pt x="10511" y="8352"/>
                  <a:pt x="10414" y="8160"/>
                </a:cubicBezTo>
              </a:path>
              <a:path w="8701" h="3018">
                <a:moveTo>
                  <a:pt x="8477" y="7779"/>
                </a:moveTo>
                <a:cubicBezTo>
                  <a:pt x="8488" y="7779"/>
                  <a:pt x="8498" y="7779"/>
                  <a:pt x="8509" y="7779"/>
                </a:cubicBezTo>
                <a:cubicBezTo>
                  <a:pt x="8522" y="7739"/>
                  <a:pt x="8532" y="7729"/>
                  <a:pt x="8572" y="7715"/>
                </a:cubicBezTo>
              </a:path>
              <a:path w="8701" h="3018">
                <a:moveTo>
                  <a:pt x="8636" y="7684"/>
                </a:moveTo>
                <a:cubicBezTo>
                  <a:pt x="8734" y="7708"/>
                  <a:pt x="8698" y="7763"/>
                  <a:pt x="8668" y="7842"/>
                </a:cubicBezTo>
                <a:cubicBezTo>
                  <a:pt x="8694" y="7714"/>
                  <a:pt x="8790" y="7663"/>
                  <a:pt x="8890" y="7588"/>
                </a:cubicBezTo>
                <a:cubicBezTo>
                  <a:pt x="9013" y="7781"/>
                  <a:pt x="9012" y="7992"/>
                  <a:pt x="8858" y="8192"/>
                </a:cubicBezTo>
                <a:cubicBezTo>
                  <a:pt x="8757" y="8268"/>
                  <a:pt x="8746" y="8300"/>
                  <a:pt x="8668" y="8287"/>
                </a:cubicBezTo>
                <a:cubicBezTo>
                  <a:pt x="8680" y="8187"/>
                  <a:pt x="8721" y="8080"/>
                  <a:pt x="8858" y="8128"/>
                </a:cubicBezTo>
                <a:cubicBezTo>
                  <a:pt x="8935" y="8155"/>
                  <a:pt x="8981" y="8228"/>
                  <a:pt x="9049" y="8255"/>
                </a:cubicBezTo>
              </a:path>
              <a:path w="8701" h="3018">
                <a:moveTo>
                  <a:pt x="8858" y="8858"/>
                </a:moveTo>
                <a:cubicBezTo>
                  <a:pt x="8872" y="9042"/>
                  <a:pt x="8832" y="9292"/>
                  <a:pt x="8858" y="9462"/>
                </a:cubicBezTo>
                <a:cubicBezTo>
                  <a:pt x="8869" y="9451"/>
                  <a:pt x="8879" y="9441"/>
                  <a:pt x="8890" y="9430"/>
                </a:cubicBezTo>
              </a:path>
              <a:path w="8701" h="3018">
                <a:moveTo>
                  <a:pt x="9366" y="8922"/>
                </a:moveTo>
                <a:cubicBezTo>
                  <a:pt x="9304" y="9109"/>
                  <a:pt x="9281" y="9206"/>
                  <a:pt x="9303" y="9398"/>
                </a:cubicBezTo>
                <a:cubicBezTo>
                  <a:pt x="9432" y="9390"/>
                  <a:pt x="9794" y="9249"/>
                  <a:pt x="9620" y="9017"/>
                </a:cubicBezTo>
                <a:cubicBezTo>
                  <a:pt x="9526" y="8891"/>
                  <a:pt x="9424" y="9069"/>
                  <a:pt x="9525" y="8890"/>
                </a:cubicBezTo>
              </a:path>
              <a:path w="8701" h="3018">
                <a:moveTo>
                  <a:pt x="10192" y="8826"/>
                </a:moveTo>
                <a:cubicBezTo>
                  <a:pt x="10061" y="8905"/>
                  <a:pt x="10030" y="8915"/>
                  <a:pt x="9970" y="8985"/>
                </a:cubicBezTo>
                <a:cubicBezTo>
                  <a:pt x="10083" y="9046"/>
                  <a:pt x="10501" y="9134"/>
                  <a:pt x="10350" y="9334"/>
                </a:cubicBezTo>
                <a:cubicBezTo>
                  <a:pt x="10308" y="9355"/>
                  <a:pt x="10266" y="9377"/>
                  <a:pt x="10224" y="9398"/>
                </a:cubicBezTo>
                <a:cubicBezTo>
                  <a:pt x="10107" y="9224"/>
                  <a:pt x="10155" y="9111"/>
                  <a:pt x="10255" y="8890"/>
                </a:cubicBezTo>
                <a:cubicBezTo>
                  <a:pt x="10266" y="8869"/>
                  <a:pt x="10276" y="8847"/>
                  <a:pt x="10287" y="8826"/>
                </a:cubicBezTo>
              </a:path>
              <a:path w="8701" h="3018">
                <a:moveTo>
                  <a:pt x="10795" y="7017"/>
                </a:moveTo>
                <a:cubicBezTo>
                  <a:pt x="11085" y="7398"/>
                  <a:pt x="11318" y="7784"/>
                  <a:pt x="10890" y="8192"/>
                </a:cubicBezTo>
                <a:cubicBezTo>
                  <a:pt x="10616" y="8344"/>
                  <a:pt x="10534" y="8398"/>
                  <a:pt x="10319" y="8318"/>
                </a:cubicBezTo>
              </a:path>
              <a:path w="8701" h="3018">
                <a:moveTo>
                  <a:pt x="7938" y="7302"/>
                </a:moveTo>
                <a:cubicBezTo>
                  <a:pt x="7879" y="7571"/>
                  <a:pt x="7684" y="8147"/>
                  <a:pt x="7938" y="8382"/>
                </a:cubicBezTo>
                <a:cubicBezTo>
                  <a:pt x="8301" y="8503"/>
                  <a:pt x="8478" y="8520"/>
                  <a:pt x="8763" y="8382"/>
                </a:cubicBezTo>
              </a:path>
              <a:path w="8701" h="3018">
                <a:moveTo>
                  <a:pt x="11335" y="7588"/>
                </a:moveTo>
                <a:cubicBezTo>
                  <a:pt x="11368" y="7726"/>
                  <a:pt x="11438" y="7880"/>
                  <a:pt x="11462" y="8033"/>
                </a:cubicBezTo>
                <a:cubicBezTo>
                  <a:pt x="11462" y="8054"/>
                  <a:pt x="11462" y="8075"/>
                  <a:pt x="11462" y="8096"/>
                </a:cubicBezTo>
              </a:path>
              <a:path w="8701" h="3018">
                <a:moveTo>
                  <a:pt x="11271" y="7874"/>
                </a:moveTo>
                <a:cubicBezTo>
                  <a:pt x="11504" y="7807"/>
                  <a:pt x="11587" y="7784"/>
                  <a:pt x="11748" y="7747"/>
                </a:cubicBezTo>
              </a:path>
              <a:path w="8701" h="3018">
                <a:moveTo>
                  <a:pt x="12510" y="7112"/>
                </a:moveTo>
                <a:cubicBezTo>
                  <a:pt x="12305" y="7315"/>
                  <a:pt x="12275" y="7684"/>
                  <a:pt x="12382" y="7969"/>
                </a:cubicBezTo>
                <a:cubicBezTo>
                  <a:pt x="12493" y="8264"/>
                  <a:pt x="12641" y="8133"/>
                  <a:pt x="12795" y="8033"/>
                </a:cubicBezTo>
              </a:path>
              <a:path w="8701" h="3018">
                <a:moveTo>
                  <a:pt x="12795" y="7493"/>
                </a:moveTo>
                <a:cubicBezTo>
                  <a:pt x="12832" y="7622"/>
                  <a:pt x="12907" y="8001"/>
                  <a:pt x="12954" y="8001"/>
                </a:cubicBezTo>
              </a:path>
              <a:path w="8701" h="3018">
                <a:moveTo>
                  <a:pt x="13303" y="7493"/>
                </a:moveTo>
                <a:cubicBezTo>
                  <a:pt x="13447" y="7554"/>
                  <a:pt x="13815" y="7802"/>
                  <a:pt x="13526" y="8001"/>
                </a:cubicBezTo>
                <a:cubicBezTo>
                  <a:pt x="13411" y="8001"/>
                  <a:pt x="13377" y="8010"/>
                  <a:pt x="13335" y="7938"/>
                </a:cubicBezTo>
                <a:cubicBezTo>
                  <a:pt x="13387" y="7778"/>
                  <a:pt x="13481" y="7969"/>
                  <a:pt x="13621" y="7969"/>
                </a:cubicBezTo>
                <a:cubicBezTo>
                  <a:pt x="13663" y="7959"/>
                  <a:pt x="13706" y="7948"/>
                  <a:pt x="13748" y="7938"/>
                </a:cubicBezTo>
              </a:path>
              <a:path w="8701" h="3018">
                <a:moveTo>
                  <a:pt x="14097" y="7461"/>
                </a:moveTo>
                <a:cubicBezTo>
                  <a:pt x="14208" y="7621"/>
                  <a:pt x="14314" y="7763"/>
                  <a:pt x="14446" y="7906"/>
                </a:cubicBezTo>
              </a:path>
              <a:path w="8701" h="3018">
                <a:moveTo>
                  <a:pt x="14446" y="7461"/>
                </a:moveTo>
                <a:cubicBezTo>
                  <a:pt x="14439" y="7479"/>
                  <a:pt x="14156" y="8080"/>
                  <a:pt x="14288" y="7906"/>
                </a:cubicBezTo>
              </a:path>
              <a:path w="8701" h="3018">
                <a:moveTo>
                  <a:pt x="14954" y="7271"/>
                </a:moveTo>
                <a:cubicBezTo>
                  <a:pt x="14855" y="7418"/>
                  <a:pt x="14813" y="7598"/>
                  <a:pt x="14827" y="7779"/>
                </a:cubicBezTo>
                <a:cubicBezTo>
                  <a:pt x="14846" y="8025"/>
                  <a:pt x="15175" y="7868"/>
                  <a:pt x="15272" y="7779"/>
                </a:cubicBezTo>
                <a:cubicBezTo>
                  <a:pt x="15283" y="7758"/>
                  <a:pt x="15293" y="7736"/>
                  <a:pt x="15304" y="7715"/>
                </a:cubicBezTo>
                <a:cubicBezTo>
                  <a:pt x="15233" y="7708"/>
                  <a:pt x="14893" y="7903"/>
                  <a:pt x="15018" y="8001"/>
                </a:cubicBezTo>
                <a:cubicBezTo>
                  <a:pt x="15060" y="7990"/>
                  <a:pt x="15103" y="7980"/>
                  <a:pt x="15145" y="7969"/>
                </a:cubicBezTo>
              </a:path>
              <a:path w="8701" h="3018">
                <a:moveTo>
                  <a:pt x="15653" y="6922"/>
                </a:moveTo>
                <a:cubicBezTo>
                  <a:pt x="15940" y="7267"/>
                  <a:pt x="16193" y="7591"/>
                  <a:pt x="15748" y="7969"/>
                </a:cubicBezTo>
                <a:cubicBezTo>
                  <a:pt x="15663" y="8011"/>
                  <a:pt x="15579" y="8054"/>
                  <a:pt x="15494" y="8096"/>
                </a:cubicBezTo>
              </a:path>
              <a:path w="8701" h="3018">
                <a:moveTo>
                  <a:pt x="13780" y="8636"/>
                </a:moveTo>
                <a:cubicBezTo>
                  <a:pt x="13769" y="8678"/>
                  <a:pt x="13759" y="8721"/>
                  <a:pt x="13748" y="8763"/>
                </a:cubicBezTo>
                <a:cubicBezTo>
                  <a:pt x="13765" y="8660"/>
                  <a:pt x="13767" y="8580"/>
                  <a:pt x="13875" y="8572"/>
                </a:cubicBezTo>
                <a:cubicBezTo>
                  <a:pt x="13994" y="8563"/>
                  <a:pt x="14195" y="8528"/>
                  <a:pt x="14256" y="8541"/>
                </a:cubicBezTo>
                <a:cubicBezTo>
                  <a:pt x="14165" y="8767"/>
                  <a:pt x="14103" y="8969"/>
                  <a:pt x="13970" y="9176"/>
                </a:cubicBezTo>
              </a:path>
              <a:path w="8701" h="3018">
                <a:moveTo>
                  <a:pt x="14573" y="8477"/>
                </a:moveTo>
                <a:cubicBezTo>
                  <a:pt x="14716" y="8383"/>
                  <a:pt x="14895" y="8444"/>
                  <a:pt x="14954" y="8636"/>
                </a:cubicBezTo>
                <a:cubicBezTo>
                  <a:pt x="15048" y="8942"/>
                  <a:pt x="14832" y="9081"/>
                  <a:pt x="14605" y="9017"/>
                </a:cubicBezTo>
                <a:cubicBezTo>
                  <a:pt x="14739" y="8826"/>
                  <a:pt x="14846" y="8894"/>
                  <a:pt x="14986" y="9080"/>
                </a:cubicBezTo>
                <a:cubicBezTo>
                  <a:pt x="14993" y="9090"/>
                  <a:pt x="15081" y="9270"/>
                  <a:pt x="14986" y="9112"/>
                </a:cubicBezTo>
              </a:path>
              <a:path w="8701" h="3018">
                <a:moveTo>
                  <a:pt x="12605" y="6540"/>
                </a:moveTo>
                <a:cubicBezTo>
                  <a:pt x="12619" y="6497"/>
                  <a:pt x="12683" y="6484"/>
                  <a:pt x="12732" y="6445"/>
                </a:cubicBezTo>
                <a:cubicBezTo>
                  <a:pt x="12580" y="6613"/>
                  <a:pt x="12410" y="6759"/>
                  <a:pt x="12256" y="6922"/>
                </a:cubicBezTo>
                <a:cubicBezTo>
                  <a:pt x="12151" y="7033"/>
                  <a:pt x="12051" y="7105"/>
                  <a:pt x="11938" y="7207"/>
                </a:cubicBezTo>
                <a:cubicBezTo>
                  <a:pt x="11906" y="7239"/>
                  <a:pt x="11895" y="7250"/>
                  <a:pt x="11874" y="7271"/>
                </a:cubicBezTo>
              </a:path>
              <a:path w="8701" h="3018">
                <a:moveTo>
                  <a:pt x="11779" y="7080"/>
                </a:moveTo>
                <a:cubicBezTo>
                  <a:pt x="11809" y="7168"/>
                  <a:pt x="11833" y="7243"/>
                  <a:pt x="11843" y="7334"/>
                </a:cubicBezTo>
                <a:cubicBezTo>
                  <a:pt x="11987" y="7334"/>
                  <a:pt x="12114" y="7268"/>
                  <a:pt x="12256" y="7239"/>
                </a:cubicBezTo>
                <a:cubicBezTo>
                  <a:pt x="12266" y="7239"/>
                  <a:pt x="12277" y="7239"/>
                  <a:pt x="12287" y="7239"/>
                </a:cubicBezTo>
              </a:path>
              <a:path w="8701" h="3018">
                <a:moveTo>
                  <a:pt x="11589" y="8318"/>
                </a:moveTo>
                <a:cubicBezTo>
                  <a:pt x="11537" y="8251"/>
                  <a:pt x="11535" y="8251"/>
                  <a:pt x="11557" y="8382"/>
                </a:cubicBezTo>
                <a:cubicBezTo>
                  <a:pt x="11572" y="8472"/>
                  <a:pt x="11589" y="8496"/>
                  <a:pt x="11589" y="8572"/>
                </a:cubicBezTo>
              </a:path>
              <a:path w="8701" h="3018">
                <a:moveTo>
                  <a:pt x="11462" y="8509"/>
                </a:moveTo>
                <a:cubicBezTo>
                  <a:pt x="11514" y="8604"/>
                  <a:pt x="11535" y="8628"/>
                  <a:pt x="11620" y="8700"/>
                </a:cubicBezTo>
                <a:cubicBezTo>
                  <a:pt x="11670" y="8640"/>
                  <a:pt x="11730" y="8579"/>
                  <a:pt x="11748" y="8509"/>
                </a:cubicBezTo>
              </a:path>
              <a:path w="8701" h="3018">
                <a:moveTo>
                  <a:pt x="11652" y="8954"/>
                </a:moveTo>
                <a:cubicBezTo>
                  <a:pt x="11669" y="9036"/>
                  <a:pt x="11751" y="9152"/>
                  <a:pt x="11716" y="9239"/>
                </a:cubicBezTo>
                <a:cubicBezTo>
                  <a:pt x="11705" y="9239"/>
                  <a:pt x="11695" y="9239"/>
                  <a:pt x="11684" y="9239"/>
                </a:cubicBezTo>
              </a:path>
              <a:path w="8701" h="3018">
                <a:moveTo>
                  <a:pt x="11494" y="9080"/>
                </a:moveTo>
                <a:cubicBezTo>
                  <a:pt x="11600" y="9080"/>
                  <a:pt x="11705" y="9080"/>
                  <a:pt x="11811" y="9080"/>
                </a:cubicBezTo>
              </a:path>
              <a:path w="8701" h="3018">
                <a:moveTo>
                  <a:pt x="16224" y="8668"/>
                </a:moveTo>
                <a:cubicBezTo>
                  <a:pt x="16309" y="8668"/>
                  <a:pt x="16393" y="8668"/>
                  <a:pt x="16478" y="8668"/>
                </a:cubicBezTo>
              </a:path>
              <a:path w="8701" h="3018">
                <a:moveTo>
                  <a:pt x="16256" y="8826"/>
                </a:moveTo>
                <a:cubicBezTo>
                  <a:pt x="16355" y="8818"/>
                  <a:pt x="16443" y="8795"/>
                  <a:pt x="16542" y="87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51400" y="2960640"/>
            <a:ext cx="584280" cy="285840"/>
          </a:xfrm>
          <a:custGeom>
            <a:avLst/>
            <a:gdLst/>
            <a:ahLst/>
            <a:rect l="l" t="t" r="r" b="b"/>
            <a:pathLst>
              <a:path w="1620" h="795">
                <a:moveTo>
                  <a:pt x="17367" y="8223"/>
                </a:moveTo>
                <a:cubicBezTo>
                  <a:pt x="17390" y="8491"/>
                  <a:pt x="17431" y="8745"/>
                  <a:pt x="17431" y="9017"/>
                </a:cubicBezTo>
              </a:path>
              <a:path w="1620" h="795">
                <a:moveTo>
                  <a:pt x="18161" y="8287"/>
                </a:moveTo>
                <a:cubicBezTo>
                  <a:pt x="18043" y="8318"/>
                  <a:pt x="17597" y="8374"/>
                  <a:pt x="17844" y="8541"/>
                </a:cubicBezTo>
                <a:cubicBezTo>
                  <a:pt x="18045" y="8676"/>
                  <a:pt x="18117" y="8655"/>
                  <a:pt x="18224" y="8858"/>
                </a:cubicBezTo>
                <a:cubicBezTo>
                  <a:pt x="18069" y="8921"/>
                  <a:pt x="18019" y="8943"/>
                  <a:pt x="17907" y="8890"/>
                </a:cubicBezTo>
                <a:cubicBezTo>
                  <a:pt x="17934" y="8686"/>
                  <a:pt x="18317" y="8598"/>
                  <a:pt x="18224" y="8414"/>
                </a:cubicBezTo>
                <a:cubicBezTo>
                  <a:pt x="18137" y="8414"/>
                  <a:pt x="18113" y="8418"/>
                  <a:pt x="18066" y="8382"/>
                </a:cubicBezTo>
              </a:path>
              <a:path w="1620" h="795">
                <a:moveTo>
                  <a:pt x="18669" y="8255"/>
                </a:moveTo>
                <a:cubicBezTo>
                  <a:pt x="18487" y="8345"/>
                  <a:pt x="18497" y="8482"/>
                  <a:pt x="18478" y="8668"/>
                </a:cubicBezTo>
                <a:cubicBezTo>
                  <a:pt x="18624" y="8755"/>
                  <a:pt x="18978" y="8867"/>
                  <a:pt x="18986" y="8541"/>
                </a:cubicBezTo>
                <a:cubicBezTo>
                  <a:pt x="18992" y="8314"/>
                  <a:pt x="18784" y="8335"/>
                  <a:pt x="18637" y="83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983120"/>
            <a:ext cx="3668760" cy="892080"/>
          </a:xfrm>
          <a:custGeom>
            <a:avLst/>
            <a:gdLst/>
            <a:ahLst/>
            <a:rect l="l" t="t" r="r" b="b"/>
            <a:pathLst>
              <a:path w="10193" h="2478">
                <a:moveTo>
                  <a:pt x="9525" y="14065"/>
                </a:moveTo>
                <a:cubicBezTo>
                  <a:pt x="9525" y="14192"/>
                  <a:pt x="9525" y="14319"/>
                  <a:pt x="9525" y="14446"/>
                </a:cubicBezTo>
                <a:cubicBezTo>
                  <a:pt x="9709" y="14470"/>
                  <a:pt x="9877" y="14478"/>
                  <a:pt x="10065" y="14478"/>
                </a:cubicBezTo>
                <a:cubicBezTo>
                  <a:pt x="10413" y="14478"/>
                  <a:pt x="10765" y="14483"/>
                  <a:pt x="11112" y="14510"/>
                </a:cubicBezTo>
                <a:cubicBezTo>
                  <a:pt x="11473" y="14538"/>
                  <a:pt x="11831" y="14589"/>
                  <a:pt x="12192" y="14605"/>
                </a:cubicBezTo>
                <a:cubicBezTo>
                  <a:pt x="12454" y="14617"/>
                  <a:pt x="12727" y="14601"/>
                  <a:pt x="12986" y="14573"/>
                </a:cubicBezTo>
                <a:cubicBezTo>
                  <a:pt x="13226" y="14547"/>
                  <a:pt x="13482" y="14492"/>
                  <a:pt x="13716" y="14446"/>
                </a:cubicBezTo>
                <a:cubicBezTo>
                  <a:pt x="13818" y="14426"/>
                  <a:pt x="13898" y="14391"/>
                  <a:pt x="14002" y="14383"/>
                </a:cubicBezTo>
                <a:cubicBezTo>
                  <a:pt x="13977" y="14268"/>
                  <a:pt x="13970" y="14158"/>
                  <a:pt x="13970" y="14034"/>
                </a:cubicBezTo>
                <a:cubicBezTo>
                  <a:pt x="13970" y="14023"/>
                  <a:pt x="13970" y="14013"/>
                  <a:pt x="13970" y="14002"/>
                </a:cubicBezTo>
              </a:path>
              <a:path w="10193" h="2478">
                <a:moveTo>
                  <a:pt x="9779" y="15018"/>
                </a:moveTo>
                <a:cubicBezTo>
                  <a:pt x="9825" y="14925"/>
                  <a:pt x="9930" y="14954"/>
                  <a:pt x="10033" y="14954"/>
                </a:cubicBezTo>
                <a:cubicBezTo>
                  <a:pt x="10044" y="14954"/>
                  <a:pt x="10054" y="14954"/>
                  <a:pt x="10065" y="14954"/>
                </a:cubicBezTo>
              </a:path>
              <a:path w="10193" h="2478">
                <a:moveTo>
                  <a:pt x="10414" y="14764"/>
                </a:moveTo>
                <a:cubicBezTo>
                  <a:pt x="10471" y="14688"/>
                  <a:pt x="10655" y="14678"/>
                  <a:pt x="10668" y="14827"/>
                </a:cubicBezTo>
                <a:cubicBezTo>
                  <a:pt x="10679" y="14957"/>
                  <a:pt x="10531" y="14982"/>
                  <a:pt x="10446" y="15018"/>
                </a:cubicBezTo>
                <a:cubicBezTo>
                  <a:pt x="10606" y="15018"/>
                  <a:pt x="10694" y="15086"/>
                  <a:pt x="10604" y="15272"/>
                </a:cubicBezTo>
                <a:cubicBezTo>
                  <a:pt x="10541" y="15401"/>
                  <a:pt x="10195" y="15426"/>
                  <a:pt x="10255" y="15272"/>
                </a:cubicBezTo>
                <a:cubicBezTo>
                  <a:pt x="10287" y="15240"/>
                  <a:pt x="10318" y="15208"/>
                  <a:pt x="10350" y="15176"/>
                </a:cubicBezTo>
              </a:path>
              <a:path w="10193" h="2478">
                <a:moveTo>
                  <a:pt x="11017" y="14827"/>
                </a:moveTo>
                <a:cubicBezTo>
                  <a:pt x="11221" y="14791"/>
                  <a:pt x="11415" y="14848"/>
                  <a:pt x="11398" y="15113"/>
                </a:cubicBezTo>
                <a:cubicBezTo>
                  <a:pt x="11381" y="15378"/>
                  <a:pt x="11138" y="15378"/>
                  <a:pt x="10954" y="15335"/>
                </a:cubicBezTo>
                <a:cubicBezTo>
                  <a:pt x="11031" y="15208"/>
                  <a:pt x="11137" y="15153"/>
                  <a:pt x="11303" y="15240"/>
                </a:cubicBezTo>
                <a:cubicBezTo>
                  <a:pt x="11361" y="15270"/>
                  <a:pt x="11391" y="15351"/>
                  <a:pt x="11430" y="15399"/>
                </a:cubicBezTo>
              </a:path>
              <a:path w="10193" h="2478">
                <a:moveTo>
                  <a:pt x="11081" y="13938"/>
                </a:moveTo>
                <a:cubicBezTo>
                  <a:pt x="11081" y="13862"/>
                  <a:pt x="11108" y="14016"/>
                  <a:pt x="11112" y="14034"/>
                </a:cubicBezTo>
                <a:cubicBezTo>
                  <a:pt x="11128" y="14116"/>
                  <a:pt x="11161" y="14116"/>
                  <a:pt x="11271" y="14097"/>
                </a:cubicBezTo>
                <a:cubicBezTo>
                  <a:pt x="11454" y="14066"/>
                  <a:pt x="11624" y="14065"/>
                  <a:pt x="11811" y="14065"/>
                </a:cubicBezTo>
                <a:cubicBezTo>
                  <a:pt x="11967" y="14065"/>
                  <a:pt x="12103" y="14091"/>
                  <a:pt x="12256" y="14097"/>
                </a:cubicBezTo>
                <a:cubicBezTo>
                  <a:pt x="12342" y="14100"/>
                  <a:pt x="12410" y="14083"/>
                  <a:pt x="12446" y="14065"/>
                </a:cubicBezTo>
                <a:cubicBezTo>
                  <a:pt x="12478" y="14065"/>
                  <a:pt x="12489" y="14065"/>
                  <a:pt x="12510" y="14065"/>
                </a:cubicBezTo>
                <a:cubicBezTo>
                  <a:pt x="12494" y="14001"/>
                  <a:pt x="12476" y="13935"/>
                  <a:pt x="12446" y="13875"/>
                </a:cubicBezTo>
                <a:cubicBezTo>
                  <a:pt x="12446" y="13956"/>
                  <a:pt x="12460" y="14030"/>
                  <a:pt x="12478" y="14065"/>
                </a:cubicBezTo>
                <a:cubicBezTo>
                  <a:pt x="12478" y="14097"/>
                  <a:pt x="12478" y="14108"/>
                  <a:pt x="12510" y="14097"/>
                </a:cubicBezTo>
              </a:path>
              <a:path w="10193" h="2478">
                <a:moveTo>
                  <a:pt x="12573" y="14097"/>
                </a:moveTo>
                <a:cubicBezTo>
                  <a:pt x="12523" y="14130"/>
                  <a:pt x="12591" y="14130"/>
                  <a:pt x="12541" y="14097"/>
                </a:cubicBezTo>
                <a:cubicBezTo>
                  <a:pt x="12757" y="14097"/>
                  <a:pt x="12971" y="14096"/>
                  <a:pt x="13176" y="14129"/>
                </a:cubicBezTo>
                <a:cubicBezTo>
                  <a:pt x="13345" y="14156"/>
                  <a:pt x="13520" y="14109"/>
                  <a:pt x="13684" y="14097"/>
                </a:cubicBezTo>
                <a:cubicBezTo>
                  <a:pt x="13886" y="14082"/>
                  <a:pt x="14088" y="14097"/>
                  <a:pt x="14288" y="14065"/>
                </a:cubicBezTo>
                <a:cubicBezTo>
                  <a:pt x="14480" y="14034"/>
                  <a:pt x="14663" y="14034"/>
                  <a:pt x="14859" y="14034"/>
                </a:cubicBezTo>
                <a:cubicBezTo>
                  <a:pt x="15023" y="14034"/>
                  <a:pt x="15173" y="14007"/>
                  <a:pt x="15335" y="14002"/>
                </a:cubicBezTo>
                <a:cubicBezTo>
                  <a:pt x="15499" y="13997"/>
                  <a:pt x="16391" y="14064"/>
                  <a:pt x="16383" y="13938"/>
                </a:cubicBezTo>
                <a:cubicBezTo>
                  <a:pt x="16372" y="13917"/>
                  <a:pt x="16362" y="13896"/>
                  <a:pt x="16351" y="13875"/>
                </a:cubicBezTo>
                <a:cubicBezTo>
                  <a:pt x="16351" y="13939"/>
                  <a:pt x="16319" y="13947"/>
                  <a:pt x="16351" y="14002"/>
                </a:cubicBezTo>
                <a:cubicBezTo>
                  <a:pt x="16351" y="14045"/>
                  <a:pt x="16362" y="14055"/>
                  <a:pt x="16415" y="14034"/>
                </a:cubicBezTo>
              </a:path>
              <a:path w="10193" h="2478">
                <a:moveTo>
                  <a:pt x="12033" y="14922"/>
                </a:moveTo>
                <a:cubicBezTo>
                  <a:pt x="12051" y="15029"/>
                  <a:pt x="12086" y="15131"/>
                  <a:pt x="12097" y="15240"/>
                </a:cubicBezTo>
              </a:path>
              <a:path w="10193" h="2478">
                <a:moveTo>
                  <a:pt x="11906" y="15113"/>
                </a:moveTo>
                <a:cubicBezTo>
                  <a:pt x="12033" y="15113"/>
                  <a:pt x="12160" y="15113"/>
                  <a:pt x="12287" y="15113"/>
                </a:cubicBezTo>
              </a:path>
              <a:path w="10193" h="2478">
                <a:moveTo>
                  <a:pt x="12605" y="14827"/>
                </a:moveTo>
                <a:cubicBezTo>
                  <a:pt x="12625" y="14969"/>
                  <a:pt x="12636" y="15095"/>
                  <a:pt x="12636" y="15240"/>
                </a:cubicBezTo>
                <a:cubicBezTo>
                  <a:pt x="12636" y="15272"/>
                  <a:pt x="12636" y="15283"/>
                  <a:pt x="12636" y="15240"/>
                </a:cubicBezTo>
              </a:path>
              <a:path w="10193" h="2478">
                <a:moveTo>
                  <a:pt x="12890" y="14827"/>
                </a:moveTo>
                <a:cubicBezTo>
                  <a:pt x="13024" y="14784"/>
                  <a:pt x="13185" y="14793"/>
                  <a:pt x="13208" y="14986"/>
                </a:cubicBezTo>
                <a:cubicBezTo>
                  <a:pt x="13220" y="15090"/>
                  <a:pt x="13102" y="15377"/>
                  <a:pt x="12954" y="15240"/>
                </a:cubicBezTo>
                <a:cubicBezTo>
                  <a:pt x="12954" y="15219"/>
                  <a:pt x="12954" y="15197"/>
                  <a:pt x="12954" y="15176"/>
                </a:cubicBezTo>
                <a:cubicBezTo>
                  <a:pt x="12976" y="15113"/>
                  <a:pt x="13083" y="15134"/>
                  <a:pt x="13144" y="15176"/>
                </a:cubicBezTo>
                <a:cubicBezTo>
                  <a:pt x="13218" y="15227"/>
                  <a:pt x="13208" y="15237"/>
                  <a:pt x="13208" y="15304"/>
                </a:cubicBezTo>
              </a:path>
              <a:path w="10193" h="2478">
                <a:moveTo>
                  <a:pt x="14002" y="14891"/>
                </a:moveTo>
                <a:cubicBezTo>
                  <a:pt x="13917" y="14891"/>
                  <a:pt x="14107" y="14891"/>
                  <a:pt x="14192" y="14891"/>
                </a:cubicBezTo>
                <a:cubicBezTo>
                  <a:pt x="14287" y="14891"/>
                  <a:pt x="14298" y="14891"/>
                  <a:pt x="14351" y="14891"/>
                </a:cubicBezTo>
              </a:path>
              <a:path w="10193" h="2478">
                <a:moveTo>
                  <a:pt x="14034" y="15113"/>
                </a:moveTo>
                <a:cubicBezTo>
                  <a:pt x="14144" y="15094"/>
                  <a:pt x="14212" y="15081"/>
                  <a:pt x="14319" y="15081"/>
                </a:cubicBezTo>
              </a:path>
              <a:path w="10193" h="2478">
                <a:moveTo>
                  <a:pt x="14796" y="14732"/>
                </a:moveTo>
                <a:cubicBezTo>
                  <a:pt x="14881" y="14732"/>
                  <a:pt x="14965" y="14732"/>
                  <a:pt x="15050" y="14732"/>
                </a:cubicBezTo>
              </a:path>
              <a:path w="10193" h="2478">
                <a:moveTo>
                  <a:pt x="15526" y="14764"/>
                </a:moveTo>
                <a:cubicBezTo>
                  <a:pt x="15565" y="14646"/>
                  <a:pt x="15462" y="14815"/>
                  <a:pt x="15462" y="14827"/>
                </a:cubicBezTo>
                <a:cubicBezTo>
                  <a:pt x="15473" y="14817"/>
                  <a:pt x="15483" y="14806"/>
                  <a:pt x="15494" y="14796"/>
                </a:cubicBezTo>
                <a:cubicBezTo>
                  <a:pt x="15547" y="14778"/>
                  <a:pt x="15513" y="14716"/>
                  <a:pt x="15589" y="14700"/>
                </a:cubicBezTo>
                <a:cubicBezTo>
                  <a:pt x="15682" y="14680"/>
                  <a:pt x="15834" y="14798"/>
                  <a:pt x="15843" y="14891"/>
                </a:cubicBezTo>
                <a:cubicBezTo>
                  <a:pt x="15867" y="15130"/>
                  <a:pt x="15619" y="15270"/>
                  <a:pt x="15430" y="15304"/>
                </a:cubicBezTo>
                <a:cubicBezTo>
                  <a:pt x="15398" y="15304"/>
                  <a:pt x="15367" y="15304"/>
                  <a:pt x="15335" y="15304"/>
                </a:cubicBezTo>
                <a:cubicBezTo>
                  <a:pt x="15335" y="15224"/>
                  <a:pt x="15393" y="15120"/>
                  <a:pt x="15494" y="15145"/>
                </a:cubicBezTo>
                <a:cubicBezTo>
                  <a:pt x="15615" y="15175"/>
                  <a:pt x="15618" y="15287"/>
                  <a:pt x="15716" y="15304"/>
                </a:cubicBezTo>
              </a:path>
              <a:path w="10193" h="2478">
                <a:moveTo>
                  <a:pt x="16256" y="14859"/>
                </a:moveTo>
                <a:cubicBezTo>
                  <a:pt x="16103" y="14978"/>
                  <a:pt x="16051" y="15057"/>
                  <a:pt x="16066" y="15240"/>
                </a:cubicBezTo>
                <a:cubicBezTo>
                  <a:pt x="16277" y="15322"/>
                  <a:pt x="16465" y="15258"/>
                  <a:pt x="16510" y="14986"/>
                </a:cubicBezTo>
                <a:cubicBezTo>
                  <a:pt x="16536" y="14831"/>
                  <a:pt x="16334" y="14864"/>
                  <a:pt x="16256" y="14859"/>
                </a:cubicBezTo>
              </a:path>
              <a:path w="10193" h="2478">
                <a:moveTo>
                  <a:pt x="15367" y="15589"/>
                </a:moveTo>
                <a:cubicBezTo>
                  <a:pt x="15531" y="15562"/>
                  <a:pt x="15671" y="15558"/>
                  <a:pt x="15843" y="15558"/>
                </a:cubicBezTo>
                <a:cubicBezTo>
                  <a:pt x="16061" y="15558"/>
                  <a:pt x="16267" y="15564"/>
                  <a:pt x="16478" y="15526"/>
                </a:cubicBezTo>
              </a:path>
              <a:path w="10193" h="2478">
                <a:moveTo>
                  <a:pt x="16192" y="15716"/>
                </a:moveTo>
                <a:cubicBezTo>
                  <a:pt x="16086" y="15770"/>
                  <a:pt x="15954" y="15705"/>
                  <a:pt x="15843" y="15748"/>
                </a:cubicBezTo>
                <a:cubicBezTo>
                  <a:pt x="15791" y="15768"/>
                  <a:pt x="15812" y="15985"/>
                  <a:pt x="15812" y="16034"/>
                </a:cubicBezTo>
                <a:cubicBezTo>
                  <a:pt x="15812" y="16045"/>
                  <a:pt x="15812" y="16055"/>
                  <a:pt x="15812" y="16066"/>
                </a:cubicBezTo>
                <a:cubicBezTo>
                  <a:pt x="15926" y="15988"/>
                  <a:pt x="16085" y="15933"/>
                  <a:pt x="16224" y="16002"/>
                </a:cubicBezTo>
                <a:cubicBezTo>
                  <a:pt x="16311" y="16088"/>
                  <a:pt x="16343" y="16106"/>
                  <a:pt x="16320" y="16192"/>
                </a:cubicBezTo>
                <a:cubicBezTo>
                  <a:pt x="16135" y="16361"/>
                  <a:pt x="16044" y="16337"/>
                  <a:pt x="15843" y="16192"/>
                </a:cubicBezTo>
              </a:path>
              <a:path w="10193" h="2478">
                <a:moveTo>
                  <a:pt x="17177" y="15335"/>
                </a:moveTo>
                <a:cubicBezTo>
                  <a:pt x="17272" y="15335"/>
                  <a:pt x="17367" y="15335"/>
                  <a:pt x="17462" y="15335"/>
                </a:cubicBezTo>
              </a:path>
              <a:path w="10193" h="2478">
                <a:moveTo>
                  <a:pt x="17177" y="15589"/>
                </a:moveTo>
                <a:cubicBezTo>
                  <a:pt x="17286" y="15584"/>
                  <a:pt x="17507" y="15603"/>
                  <a:pt x="17558" y="15526"/>
                </a:cubicBezTo>
              </a:path>
              <a:path w="10193" h="2478">
                <a:moveTo>
                  <a:pt x="18447" y="15335"/>
                </a:moveTo>
                <a:cubicBezTo>
                  <a:pt x="18527" y="15395"/>
                  <a:pt x="18699" y="15344"/>
                  <a:pt x="18828" y="15335"/>
                </a:cubicBezTo>
              </a:path>
              <a:path w="10193" h="2478">
                <a:moveTo>
                  <a:pt x="19240" y="15272"/>
                </a:moveTo>
                <a:cubicBezTo>
                  <a:pt x="19221" y="15418"/>
                  <a:pt x="19188" y="15497"/>
                  <a:pt x="19240" y="15621"/>
                </a:cubicBezTo>
                <a:cubicBezTo>
                  <a:pt x="19433" y="15607"/>
                  <a:pt x="19562" y="15575"/>
                  <a:pt x="19717" y="15462"/>
                </a:cubicBezTo>
              </a:path>
              <a:path w="10193" h="2478">
                <a:moveTo>
                  <a:pt x="19590" y="15145"/>
                </a:moveTo>
                <a:cubicBezTo>
                  <a:pt x="19590" y="15332"/>
                  <a:pt x="19458" y="16088"/>
                  <a:pt x="19685" y="15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review Expressions/Equations/Integers in preparation for tomorrow’s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15 ÷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42760" y="25146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4a       when a = 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680" y="4343400"/>
            <a:ext cx="5118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er the integers from least to grea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, 3, -3, -4,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982800"/>
            <a:ext cx="1280880" cy="1566720"/>
          </a:xfrm>
          <a:custGeom>
            <a:avLst/>
            <a:gdLst/>
            <a:ahLst/>
            <a:rect l="l" t="t" r="r" b="b"/>
            <a:pathLst>
              <a:path w="3557" h="4351">
                <a:moveTo>
                  <a:pt x="18860" y="3651"/>
                </a:moveTo>
                <a:cubicBezTo>
                  <a:pt x="18733" y="3719"/>
                  <a:pt x="18600" y="3670"/>
                  <a:pt x="18510" y="3715"/>
                </a:cubicBezTo>
                <a:cubicBezTo>
                  <a:pt x="18400" y="3770"/>
                  <a:pt x="18370" y="3956"/>
                  <a:pt x="18352" y="4064"/>
                </a:cubicBezTo>
                <a:cubicBezTo>
                  <a:pt x="18537" y="4007"/>
                  <a:pt x="18767" y="3949"/>
                  <a:pt x="18860" y="4191"/>
                </a:cubicBezTo>
                <a:cubicBezTo>
                  <a:pt x="18946" y="4415"/>
                  <a:pt x="18554" y="4647"/>
                  <a:pt x="18415" y="4477"/>
                </a:cubicBezTo>
                <a:cubicBezTo>
                  <a:pt x="18415" y="4435"/>
                  <a:pt x="18415" y="4392"/>
                  <a:pt x="18415" y="4350"/>
                </a:cubicBezTo>
              </a:path>
              <a:path w="3557" h="4351">
                <a:moveTo>
                  <a:pt x="19145" y="3715"/>
                </a:moveTo>
                <a:cubicBezTo>
                  <a:pt x="19156" y="3961"/>
                  <a:pt x="19177" y="4203"/>
                  <a:pt x="19209" y="4445"/>
                </a:cubicBezTo>
                <a:cubicBezTo>
                  <a:pt x="19209" y="4477"/>
                  <a:pt x="19209" y="4488"/>
                  <a:pt x="19209" y="4445"/>
                </a:cubicBezTo>
              </a:path>
              <a:path w="3557" h="4351">
                <a:moveTo>
                  <a:pt x="20002" y="3651"/>
                </a:moveTo>
                <a:cubicBezTo>
                  <a:pt x="19879" y="3797"/>
                  <a:pt x="19833" y="3657"/>
                  <a:pt x="19685" y="3715"/>
                </a:cubicBezTo>
                <a:cubicBezTo>
                  <a:pt x="19638" y="3733"/>
                  <a:pt x="19580" y="3942"/>
                  <a:pt x="19558" y="4000"/>
                </a:cubicBezTo>
                <a:cubicBezTo>
                  <a:pt x="19684" y="3986"/>
                  <a:pt x="19887" y="3875"/>
                  <a:pt x="20002" y="3969"/>
                </a:cubicBezTo>
                <a:cubicBezTo>
                  <a:pt x="20138" y="4080"/>
                  <a:pt x="20085" y="4416"/>
                  <a:pt x="19876" y="4413"/>
                </a:cubicBezTo>
                <a:cubicBezTo>
                  <a:pt x="19781" y="4392"/>
                  <a:pt x="19685" y="4371"/>
                  <a:pt x="19590" y="4350"/>
                </a:cubicBezTo>
              </a:path>
              <a:path w="3557" h="4351">
                <a:moveTo>
                  <a:pt x="17844" y="4667"/>
                </a:moveTo>
                <a:cubicBezTo>
                  <a:pt x="17819" y="4425"/>
                  <a:pt x="17792" y="4180"/>
                  <a:pt x="17780" y="3937"/>
                </a:cubicBezTo>
                <a:cubicBezTo>
                  <a:pt x="17774" y="3812"/>
                  <a:pt x="17756" y="3661"/>
                  <a:pt x="17812" y="3556"/>
                </a:cubicBezTo>
                <a:cubicBezTo>
                  <a:pt x="17843" y="3498"/>
                  <a:pt x="17877" y="3494"/>
                  <a:pt x="17970" y="3492"/>
                </a:cubicBezTo>
                <a:cubicBezTo>
                  <a:pt x="18541" y="3478"/>
                  <a:pt x="19115" y="3487"/>
                  <a:pt x="19685" y="3461"/>
                </a:cubicBezTo>
                <a:cubicBezTo>
                  <a:pt x="19882" y="3452"/>
                  <a:pt x="20062" y="3436"/>
                  <a:pt x="20256" y="3429"/>
                </a:cubicBezTo>
              </a:path>
              <a:path w="3557" h="4351">
                <a:moveTo>
                  <a:pt x="17145" y="3778"/>
                </a:moveTo>
                <a:cubicBezTo>
                  <a:pt x="17128" y="3828"/>
                  <a:pt x="17021" y="3826"/>
                  <a:pt x="16954" y="3842"/>
                </a:cubicBezTo>
                <a:cubicBezTo>
                  <a:pt x="16778" y="3885"/>
                  <a:pt x="16798" y="3971"/>
                  <a:pt x="16764" y="4128"/>
                </a:cubicBezTo>
                <a:cubicBezTo>
                  <a:pt x="16764" y="4138"/>
                  <a:pt x="16764" y="4149"/>
                  <a:pt x="16764" y="4159"/>
                </a:cubicBezTo>
                <a:cubicBezTo>
                  <a:pt x="16869" y="4159"/>
                  <a:pt x="16976" y="4083"/>
                  <a:pt x="17082" y="4128"/>
                </a:cubicBezTo>
                <a:cubicBezTo>
                  <a:pt x="17318" y="4228"/>
                  <a:pt x="17186" y="4503"/>
                  <a:pt x="17018" y="4572"/>
                </a:cubicBezTo>
                <a:cubicBezTo>
                  <a:pt x="16876" y="4630"/>
                  <a:pt x="16820" y="4594"/>
                  <a:pt x="16700" y="4540"/>
                </a:cubicBezTo>
              </a:path>
              <a:path w="3557" h="4351">
                <a:moveTo>
                  <a:pt x="18542" y="2762"/>
                </a:moveTo>
                <a:cubicBezTo>
                  <a:pt x="18542" y="2916"/>
                  <a:pt x="18554" y="3057"/>
                  <a:pt x="18574" y="3207"/>
                </a:cubicBezTo>
                <a:cubicBezTo>
                  <a:pt x="18574" y="3217"/>
                  <a:pt x="18574" y="3228"/>
                  <a:pt x="18574" y="3238"/>
                </a:cubicBezTo>
              </a:path>
              <a:path w="3557" h="4351">
                <a:moveTo>
                  <a:pt x="18701" y="4762"/>
                </a:moveTo>
                <a:cubicBezTo>
                  <a:pt x="18641" y="4762"/>
                  <a:pt x="18600" y="4737"/>
                  <a:pt x="18542" y="4731"/>
                </a:cubicBezTo>
                <a:cubicBezTo>
                  <a:pt x="18457" y="4723"/>
                  <a:pt x="18457" y="4829"/>
                  <a:pt x="18447" y="4890"/>
                </a:cubicBezTo>
                <a:cubicBezTo>
                  <a:pt x="18541" y="4890"/>
                  <a:pt x="18631" y="4866"/>
                  <a:pt x="18701" y="4953"/>
                </a:cubicBezTo>
                <a:cubicBezTo>
                  <a:pt x="18844" y="5130"/>
                  <a:pt x="18545" y="5167"/>
                  <a:pt x="18447" y="5144"/>
                </a:cubicBezTo>
                <a:cubicBezTo>
                  <a:pt x="18353" y="5097"/>
                  <a:pt x="18310" y="5112"/>
                  <a:pt x="18320" y="5048"/>
                </a:cubicBezTo>
              </a:path>
              <a:path w="3557" h="4351">
                <a:moveTo>
                  <a:pt x="18161" y="4890"/>
                </a:moveTo>
                <a:cubicBezTo>
                  <a:pt x="18272" y="4874"/>
                  <a:pt x="18310" y="4874"/>
                  <a:pt x="18415" y="4890"/>
                </a:cubicBezTo>
              </a:path>
              <a:path w="3557" h="4351">
                <a:moveTo>
                  <a:pt x="18129" y="5207"/>
                </a:moveTo>
                <a:cubicBezTo>
                  <a:pt x="18354" y="5207"/>
                  <a:pt x="18572" y="5182"/>
                  <a:pt x="18796" y="5175"/>
                </a:cubicBezTo>
                <a:cubicBezTo>
                  <a:pt x="18849" y="5175"/>
                  <a:pt x="18859" y="5175"/>
                  <a:pt x="18891" y="5175"/>
                </a:cubicBezTo>
              </a:path>
              <a:path w="3557" h="4351">
                <a:moveTo>
                  <a:pt x="18796" y="5366"/>
                </a:moveTo>
                <a:cubicBezTo>
                  <a:pt x="18687" y="5431"/>
                  <a:pt x="18675" y="5503"/>
                  <a:pt x="18701" y="5620"/>
                </a:cubicBezTo>
                <a:cubicBezTo>
                  <a:pt x="18743" y="5624"/>
                  <a:pt x="19099" y="5560"/>
                  <a:pt x="18986" y="5429"/>
                </a:cubicBezTo>
                <a:cubicBezTo>
                  <a:pt x="18900" y="5401"/>
                  <a:pt x="18877" y="5395"/>
                  <a:pt x="18828" y="5366"/>
                </a:cubicBezTo>
              </a:path>
              <a:path w="3557" h="4351">
                <a:moveTo>
                  <a:pt x="19272" y="4699"/>
                </a:moveTo>
                <a:cubicBezTo>
                  <a:pt x="19252" y="4837"/>
                  <a:pt x="19245" y="4916"/>
                  <a:pt x="19272" y="5048"/>
                </a:cubicBezTo>
                <a:cubicBezTo>
                  <a:pt x="19272" y="5059"/>
                  <a:pt x="19272" y="5069"/>
                  <a:pt x="19272" y="5080"/>
                </a:cubicBezTo>
              </a:path>
              <a:path w="3557" h="4351">
                <a:moveTo>
                  <a:pt x="19114" y="4985"/>
                </a:moveTo>
                <a:cubicBezTo>
                  <a:pt x="19170" y="5041"/>
                  <a:pt x="19190" y="5105"/>
                  <a:pt x="19272" y="5048"/>
                </a:cubicBezTo>
                <a:cubicBezTo>
                  <a:pt x="19336" y="4985"/>
                  <a:pt x="19357" y="4964"/>
                  <a:pt x="19399" y="4921"/>
                </a:cubicBezTo>
              </a:path>
              <a:path w="3557" h="4351">
                <a:moveTo>
                  <a:pt x="19272" y="5334"/>
                </a:moveTo>
                <a:cubicBezTo>
                  <a:pt x="19241" y="5438"/>
                  <a:pt x="19241" y="5484"/>
                  <a:pt x="19272" y="5588"/>
                </a:cubicBezTo>
              </a:path>
              <a:path w="3557" h="4351">
                <a:moveTo>
                  <a:pt x="19240" y="2858"/>
                </a:moveTo>
                <a:cubicBezTo>
                  <a:pt x="19135" y="2963"/>
                  <a:pt x="19076" y="3021"/>
                  <a:pt x="19050" y="3175"/>
                </a:cubicBezTo>
                <a:cubicBezTo>
                  <a:pt x="19032" y="3280"/>
                  <a:pt x="19058" y="3348"/>
                  <a:pt x="19177" y="3334"/>
                </a:cubicBezTo>
                <a:cubicBezTo>
                  <a:pt x="19322" y="3316"/>
                  <a:pt x="19388" y="3183"/>
                  <a:pt x="19368" y="3048"/>
                </a:cubicBezTo>
                <a:cubicBezTo>
                  <a:pt x="19350" y="2924"/>
                  <a:pt x="19340" y="2901"/>
                  <a:pt x="19272" y="2858"/>
                </a:cubicBezTo>
                <a:cubicBezTo>
                  <a:pt x="19210" y="2819"/>
                  <a:pt x="19267" y="2814"/>
                  <a:pt x="19209" y="2794"/>
                </a:cubicBezTo>
              </a:path>
              <a:path w="3557" h="4351">
                <a:moveTo>
                  <a:pt x="19812" y="4636"/>
                </a:moveTo>
                <a:cubicBezTo>
                  <a:pt x="19845" y="4754"/>
                  <a:pt x="19865" y="4889"/>
                  <a:pt x="19876" y="5016"/>
                </a:cubicBezTo>
                <a:cubicBezTo>
                  <a:pt x="19876" y="5027"/>
                  <a:pt x="19876" y="5037"/>
                  <a:pt x="19876" y="5048"/>
                </a:cubicBezTo>
              </a:path>
              <a:path w="3557" h="4351">
                <a:moveTo>
                  <a:pt x="19717" y="4953"/>
                </a:moveTo>
                <a:cubicBezTo>
                  <a:pt x="19750" y="4995"/>
                  <a:pt x="19778" y="5038"/>
                  <a:pt x="19812" y="5080"/>
                </a:cubicBezTo>
                <a:cubicBezTo>
                  <a:pt x="19882" y="5045"/>
                  <a:pt x="19949" y="4943"/>
                  <a:pt x="20034" y="4890"/>
                </a:cubicBezTo>
                <a:cubicBezTo>
                  <a:pt x="20055" y="4879"/>
                  <a:pt x="20077" y="4869"/>
                  <a:pt x="20098" y="4858"/>
                </a:cubicBezTo>
              </a:path>
              <a:path w="3557" h="4351">
                <a:moveTo>
                  <a:pt x="19971" y="5207"/>
                </a:moveTo>
                <a:cubicBezTo>
                  <a:pt x="19904" y="5207"/>
                  <a:pt x="19757" y="5170"/>
                  <a:pt x="19748" y="5239"/>
                </a:cubicBezTo>
                <a:cubicBezTo>
                  <a:pt x="19741" y="5297"/>
                  <a:pt x="19717" y="5338"/>
                  <a:pt x="19717" y="5398"/>
                </a:cubicBezTo>
                <a:cubicBezTo>
                  <a:pt x="19843" y="5377"/>
                  <a:pt x="19882" y="5376"/>
                  <a:pt x="20002" y="5429"/>
                </a:cubicBezTo>
                <a:cubicBezTo>
                  <a:pt x="19963" y="5587"/>
                  <a:pt x="19877" y="5607"/>
                  <a:pt x="19717" y="5620"/>
                </a:cubicBezTo>
                <a:cubicBezTo>
                  <a:pt x="19696" y="5620"/>
                  <a:pt x="19674" y="5620"/>
                  <a:pt x="19653" y="5620"/>
                </a:cubicBezTo>
              </a:path>
              <a:path w="3557" h="4351">
                <a:moveTo>
                  <a:pt x="19939" y="2762"/>
                </a:moveTo>
                <a:cubicBezTo>
                  <a:pt x="19867" y="2762"/>
                  <a:pt x="19978" y="2732"/>
                  <a:pt x="20002" y="2730"/>
                </a:cubicBezTo>
                <a:cubicBezTo>
                  <a:pt x="20123" y="2721"/>
                  <a:pt x="20128" y="2908"/>
                  <a:pt x="20066" y="2984"/>
                </a:cubicBezTo>
                <a:cubicBezTo>
                  <a:pt x="20014" y="3010"/>
                  <a:pt x="20006" y="3021"/>
                  <a:pt x="19971" y="3016"/>
                </a:cubicBezTo>
                <a:cubicBezTo>
                  <a:pt x="20090" y="2996"/>
                  <a:pt x="20244" y="2962"/>
                  <a:pt x="20256" y="3143"/>
                </a:cubicBezTo>
                <a:cubicBezTo>
                  <a:pt x="20268" y="3323"/>
                  <a:pt x="20038" y="3396"/>
                  <a:pt x="19907" y="3334"/>
                </a:cubicBezTo>
                <a:cubicBezTo>
                  <a:pt x="19897" y="3323"/>
                  <a:pt x="19886" y="3313"/>
                  <a:pt x="19876" y="3302"/>
                </a:cubicBezTo>
              </a:path>
              <a:path w="3557" h="4351">
                <a:moveTo>
                  <a:pt x="19336" y="5842"/>
                </a:moveTo>
                <a:cubicBezTo>
                  <a:pt x="19336" y="5958"/>
                  <a:pt x="19284" y="6365"/>
                  <a:pt x="19368" y="6255"/>
                </a:cubicBezTo>
              </a:path>
              <a:path w="3557" h="4351">
                <a:moveTo>
                  <a:pt x="19876" y="5874"/>
                </a:moveTo>
                <a:cubicBezTo>
                  <a:pt x="19834" y="5902"/>
                  <a:pt x="19666" y="5926"/>
                  <a:pt x="19653" y="5969"/>
                </a:cubicBezTo>
                <a:cubicBezTo>
                  <a:pt x="19653" y="6032"/>
                  <a:pt x="19653" y="6054"/>
                  <a:pt x="19653" y="6096"/>
                </a:cubicBezTo>
                <a:cubicBezTo>
                  <a:pt x="19761" y="6096"/>
                  <a:pt x="19793" y="5990"/>
                  <a:pt x="19907" y="6064"/>
                </a:cubicBezTo>
                <a:cubicBezTo>
                  <a:pt x="20097" y="6188"/>
                  <a:pt x="19800" y="6311"/>
                  <a:pt x="19717" y="6318"/>
                </a:cubicBezTo>
                <a:cubicBezTo>
                  <a:pt x="19675" y="6318"/>
                  <a:pt x="19632" y="6318"/>
                  <a:pt x="19590" y="6318"/>
                </a:cubicBezTo>
              </a:path>
              <a:path w="3557" h="4351">
                <a:moveTo>
                  <a:pt x="18860" y="6509"/>
                </a:moveTo>
                <a:cubicBezTo>
                  <a:pt x="19215" y="6492"/>
                  <a:pt x="19551" y="6464"/>
                  <a:pt x="19907" y="6509"/>
                </a:cubicBezTo>
                <a:cubicBezTo>
                  <a:pt x="19986" y="6519"/>
                  <a:pt x="20125" y="6536"/>
                  <a:pt x="20161" y="6572"/>
                </a:cubicBezTo>
              </a:path>
              <a:path w="3557" h="4351">
                <a:moveTo>
                  <a:pt x="18860" y="6255"/>
                </a:moveTo>
                <a:cubicBezTo>
                  <a:pt x="18963" y="6220"/>
                  <a:pt x="19038" y="6200"/>
                  <a:pt x="19145" y="6191"/>
                </a:cubicBezTo>
              </a:path>
              <a:path w="3557" h="4351">
                <a:moveTo>
                  <a:pt x="19685" y="6604"/>
                </a:moveTo>
                <a:cubicBezTo>
                  <a:pt x="19660" y="6727"/>
                  <a:pt x="19535" y="6890"/>
                  <a:pt x="19558" y="7017"/>
                </a:cubicBezTo>
                <a:cubicBezTo>
                  <a:pt x="19579" y="7038"/>
                  <a:pt x="19601" y="7059"/>
                  <a:pt x="19622" y="7080"/>
                </a:cubicBezTo>
                <a:cubicBezTo>
                  <a:pt x="19738" y="7053"/>
                  <a:pt x="20028" y="6919"/>
                  <a:pt x="19812" y="6763"/>
                </a:cubicBezTo>
                <a:cubicBezTo>
                  <a:pt x="19770" y="6752"/>
                  <a:pt x="19727" y="6742"/>
                  <a:pt x="19685" y="6731"/>
                </a:cubicBezTo>
              </a:path>
              <a:path w="3557" h="4351">
                <a:moveTo>
                  <a:pt x="17716" y="2953"/>
                </a:moveTo>
                <a:cubicBezTo>
                  <a:pt x="17821" y="2953"/>
                  <a:pt x="17951" y="2983"/>
                  <a:pt x="18034" y="2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22920" y="1417680"/>
            <a:ext cx="183960" cy="228600"/>
          </a:xfrm>
          <a:custGeom>
            <a:avLst/>
            <a:gdLst/>
            <a:ahLst/>
            <a:rect l="l" t="t" r="r" b="b"/>
            <a:pathLst>
              <a:path w="509" h="636">
                <a:moveTo>
                  <a:pt x="13398" y="4445"/>
                </a:moveTo>
                <a:cubicBezTo>
                  <a:pt x="13458" y="4549"/>
                  <a:pt x="13524" y="4569"/>
                  <a:pt x="13652" y="4540"/>
                </a:cubicBezTo>
                <a:cubicBezTo>
                  <a:pt x="13779" y="4511"/>
                  <a:pt x="13839" y="4379"/>
                  <a:pt x="13875" y="4286"/>
                </a:cubicBezTo>
                <a:cubicBezTo>
                  <a:pt x="13915" y="4182"/>
                  <a:pt x="13881" y="4115"/>
                  <a:pt x="13811" y="4032"/>
                </a:cubicBezTo>
                <a:cubicBezTo>
                  <a:pt x="13795" y="4012"/>
                  <a:pt x="13666" y="3936"/>
                  <a:pt x="13652" y="3937"/>
                </a:cubicBezTo>
                <a:cubicBezTo>
                  <a:pt x="13569" y="3943"/>
                  <a:pt x="13480" y="3994"/>
                  <a:pt x="13430" y="4064"/>
                </a:cubicBezTo>
                <a:cubicBezTo>
                  <a:pt x="13354" y="4171"/>
                  <a:pt x="13415" y="4369"/>
                  <a:pt x="13462" y="4477"/>
                </a:cubicBezTo>
                <a:cubicBezTo>
                  <a:pt x="13494" y="4551"/>
                  <a:pt x="13564" y="4606"/>
                  <a:pt x="13652" y="4572"/>
                </a:cubicBezTo>
                <a:cubicBezTo>
                  <a:pt x="13681" y="4543"/>
                  <a:pt x="13687" y="4532"/>
                  <a:pt x="13716" y="45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46440" y="3314880"/>
            <a:ext cx="149400" cy="10800"/>
          </a:xfrm>
          <a:custGeom>
            <a:avLst/>
            <a:gdLst/>
            <a:ahLst/>
            <a:rect l="l" t="t" r="r" b="b"/>
            <a:pathLst>
              <a:path w="414" h="32">
                <a:moveTo>
                  <a:pt x="10128" y="9208"/>
                </a:moveTo>
                <a:cubicBezTo>
                  <a:pt x="10229" y="9233"/>
                  <a:pt x="10328" y="9239"/>
                  <a:pt x="10446" y="9239"/>
                </a:cubicBezTo>
                <a:cubicBezTo>
                  <a:pt x="10499" y="9239"/>
                  <a:pt x="10509" y="9239"/>
                  <a:pt x="10541" y="9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43440" y="3143160"/>
            <a:ext cx="149040" cy="263520"/>
          </a:xfrm>
          <a:custGeom>
            <a:avLst/>
            <a:gdLst/>
            <a:ahLst/>
            <a:rect l="l" t="t" r="r" b="b"/>
            <a:pathLst>
              <a:path w="413" h="732">
                <a:moveTo>
                  <a:pt x="10954" y="8890"/>
                </a:moveTo>
                <a:cubicBezTo>
                  <a:pt x="10984" y="8989"/>
                  <a:pt x="10986" y="9070"/>
                  <a:pt x="10986" y="9176"/>
                </a:cubicBezTo>
                <a:cubicBezTo>
                  <a:pt x="11108" y="9176"/>
                  <a:pt x="11231" y="9189"/>
                  <a:pt x="11335" y="9144"/>
                </a:cubicBezTo>
              </a:path>
              <a:path w="413" h="732">
                <a:moveTo>
                  <a:pt x="11366" y="8731"/>
                </a:moveTo>
                <a:cubicBezTo>
                  <a:pt x="11345" y="8921"/>
                  <a:pt x="11319" y="9113"/>
                  <a:pt x="11303" y="9303"/>
                </a:cubicBezTo>
                <a:cubicBezTo>
                  <a:pt x="11295" y="9399"/>
                  <a:pt x="11272" y="9451"/>
                  <a:pt x="11335" y="94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75000" y="3051000"/>
            <a:ext cx="571680" cy="401760"/>
          </a:xfrm>
          <a:custGeom>
            <a:avLst/>
            <a:gdLst/>
            <a:ahLst/>
            <a:rect l="l" t="t" r="r" b="b"/>
            <a:pathLst>
              <a:path w="1589" h="1112">
                <a:moveTo>
                  <a:pt x="12224" y="8477"/>
                </a:moveTo>
                <a:cubicBezTo>
                  <a:pt x="12205" y="8533"/>
                  <a:pt x="12077" y="8626"/>
                  <a:pt x="12033" y="8700"/>
                </a:cubicBezTo>
                <a:cubicBezTo>
                  <a:pt x="11870" y="8976"/>
                  <a:pt x="11828" y="9183"/>
                  <a:pt x="12002" y="9462"/>
                </a:cubicBezTo>
                <a:cubicBezTo>
                  <a:pt x="12036" y="9516"/>
                  <a:pt x="12110" y="9593"/>
                  <a:pt x="12128" y="9557"/>
                </a:cubicBezTo>
              </a:path>
              <a:path w="1589" h="1112">
                <a:moveTo>
                  <a:pt x="12287" y="8985"/>
                </a:moveTo>
                <a:cubicBezTo>
                  <a:pt x="12375" y="8985"/>
                  <a:pt x="12452" y="9012"/>
                  <a:pt x="12541" y="9017"/>
                </a:cubicBezTo>
                <a:cubicBezTo>
                  <a:pt x="12552" y="9017"/>
                  <a:pt x="12562" y="9017"/>
                  <a:pt x="12573" y="9017"/>
                </a:cubicBezTo>
              </a:path>
              <a:path w="1589" h="1112">
                <a:moveTo>
                  <a:pt x="13018" y="8890"/>
                </a:moveTo>
                <a:cubicBezTo>
                  <a:pt x="12966" y="8812"/>
                  <a:pt x="12868" y="8864"/>
                  <a:pt x="12795" y="8922"/>
                </a:cubicBezTo>
                <a:cubicBezTo>
                  <a:pt x="12760" y="8958"/>
                  <a:pt x="12749" y="8975"/>
                  <a:pt x="12764" y="9017"/>
                </a:cubicBezTo>
                <a:cubicBezTo>
                  <a:pt x="12911" y="9137"/>
                  <a:pt x="13011" y="9173"/>
                  <a:pt x="13049" y="9366"/>
                </a:cubicBezTo>
                <a:cubicBezTo>
                  <a:pt x="12955" y="9423"/>
                  <a:pt x="12739" y="9488"/>
                  <a:pt x="12795" y="9271"/>
                </a:cubicBezTo>
                <a:cubicBezTo>
                  <a:pt x="12828" y="9142"/>
                  <a:pt x="12923" y="9059"/>
                  <a:pt x="13018" y="8985"/>
                </a:cubicBezTo>
              </a:path>
              <a:path w="1589" h="1112">
                <a:moveTo>
                  <a:pt x="13113" y="8541"/>
                </a:moveTo>
                <a:cubicBezTo>
                  <a:pt x="13188" y="8465"/>
                  <a:pt x="13370" y="8854"/>
                  <a:pt x="13398" y="8922"/>
                </a:cubicBezTo>
                <a:cubicBezTo>
                  <a:pt x="13504" y="9181"/>
                  <a:pt x="13470" y="9309"/>
                  <a:pt x="13335" y="9525"/>
                </a:cubicBezTo>
                <a:cubicBezTo>
                  <a:pt x="13324" y="9546"/>
                  <a:pt x="13314" y="9567"/>
                  <a:pt x="13303" y="95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8120" y="3578400"/>
            <a:ext cx="411120" cy="204480"/>
          </a:xfrm>
          <a:custGeom>
            <a:avLst/>
            <a:gdLst/>
            <a:ahLst/>
            <a:rect l="l" t="t" r="r" b="b"/>
            <a:pathLst>
              <a:path w="1144" h="572">
                <a:moveTo>
                  <a:pt x="11716" y="10065"/>
                </a:moveTo>
                <a:cubicBezTo>
                  <a:pt x="11787" y="10041"/>
                  <a:pt x="11981" y="9932"/>
                  <a:pt x="12065" y="10001"/>
                </a:cubicBezTo>
                <a:cubicBezTo>
                  <a:pt x="12248" y="10153"/>
                  <a:pt x="11893" y="10300"/>
                  <a:pt x="11811" y="10319"/>
                </a:cubicBezTo>
                <a:cubicBezTo>
                  <a:pt x="11863" y="10303"/>
                  <a:pt x="12228" y="10203"/>
                  <a:pt x="12128" y="10414"/>
                </a:cubicBezTo>
                <a:cubicBezTo>
                  <a:pt x="12068" y="10540"/>
                  <a:pt x="11707" y="10440"/>
                  <a:pt x="11716" y="10414"/>
                </a:cubicBezTo>
                <a:cubicBezTo>
                  <a:pt x="11748" y="10393"/>
                  <a:pt x="11779" y="10371"/>
                  <a:pt x="11811" y="10350"/>
                </a:cubicBezTo>
              </a:path>
              <a:path w="1144" h="572">
                <a:moveTo>
                  <a:pt x="12446" y="9970"/>
                </a:moveTo>
                <a:cubicBezTo>
                  <a:pt x="12612" y="9928"/>
                  <a:pt x="12782" y="9927"/>
                  <a:pt x="12859" y="10128"/>
                </a:cubicBezTo>
                <a:cubicBezTo>
                  <a:pt x="12931" y="10317"/>
                  <a:pt x="12686" y="10531"/>
                  <a:pt x="12510" y="10509"/>
                </a:cubicBezTo>
                <a:cubicBezTo>
                  <a:pt x="12478" y="10488"/>
                  <a:pt x="12446" y="10467"/>
                  <a:pt x="12414" y="10446"/>
                </a:cubicBezTo>
                <a:cubicBezTo>
                  <a:pt x="12466" y="10342"/>
                  <a:pt x="12590" y="10348"/>
                  <a:pt x="12700" y="10382"/>
                </a:cubicBezTo>
                <a:cubicBezTo>
                  <a:pt x="12793" y="10411"/>
                  <a:pt x="12806" y="10506"/>
                  <a:pt x="12827" y="103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14640" y="5246640"/>
            <a:ext cx="1828800" cy="571680"/>
          </a:xfrm>
          <a:custGeom>
            <a:avLst/>
            <a:gdLst/>
            <a:ahLst/>
            <a:rect l="l" t="t" r="r" b="b"/>
            <a:pathLst>
              <a:path w="5081" h="1589">
                <a:moveTo>
                  <a:pt x="6096" y="15430"/>
                </a:moveTo>
                <a:cubicBezTo>
                  <a:pt x="6313" y="15457"/>
                  <a:pt x="6485" y="15450"/>
                  <a:pt x="6699" y="15430"/>
                </a:cubicBezTo>
              </a:path>
              <a:path w="5081" h="1589">
                <a:moveTo>
                  <a:pt x="7017" y="15050"/>
                </a:moveTo>
                <a:cubicBezTo>
                  <a:pt x="6999" y="15154"/>
                  <a:pt x="7005" y="15199"/>
                  <a:pt x="7017" y="15304"/>
                </a:cubicBezTo>
                <a:cubicBezTo>
                  <a:pt x="7133" y="15292"/>
                  <a:pt x="7179" y="15273"/>
                  <a:pt x="7271" y="15208"/>
                </a:cubicBezTo>
              </a:path>
              <a:path w="5081" h="1589">
                <a:moveTo>
                  <a:pt x="7207" y="14954"/>
                </a:moveTo>
                <a:cubicBezTo>
                  <a:pt x="7260" y="15216"/>
                  <a:pt x="7294" y="15453"/>
                  <a:pt x="7271" y="15716"/>
                </a:cubicBezTo>
              </a:path>
              <a:path w="5081" h="1589">
                <a:moveTo>
                  <a:pt x="7556" y="15748"/>
                </a:moveTo>
                <a:cubicBezTo>
                  <a:pt x="7531" y="15933"/>
                  <a:pt x="7570" y="15938"/>
                  <a:pt x="7398" y="15938"/>
                </a:cubicBezTo>
              </a:path>
              <a:path w="5081" h="1589">
                <a:moveTo>
                  <a:pt x="8001" y="15272"/>
                </a:moveTo>
                <a:cubicBezTo>
                  <a:pt x="8141" y="15285"/>
                  <a:pt x="8272" y="15304"/>
                  <a:pt x="8414" y="15304"/>
                </a:cubicBezTo>
              </a:path>
              <a:path w="5081" h="1589">
                <a:moveTo>
                  <a:pt x="8731" y="15018"/>
                </a:moveTo>
                <a:cubicBezTo>
                  <a:pt x="8789" y="14995"/>
                  <a:pt x="9159" y="14874"/>
                  <a:pt x="9049" y="15081"/>
                </a:cubicBezTo>
                <a:cubicBezTo>
                  <a:pt x="8937" y="15193"/>
                  <a:pt x="8913" y="15223"/>
                  <a:pt x="8826" y="15272"/>
                </a:cubicBezTo>
                <a:cubicBezTo>
                  <a:pt x="8941" y="15318"/>
                  <a:pt x="8993" y="15280"/>
                  <a:pt x="9112" y="15399"/>
                </a:cubicBezTo>
                <a:cubicBezTo>
                  <a:pt x="9061" y="15469"/>
                  <a:pt x="8757" y="15891"/>
                  <a:pt x="8636" y="15621"/>
                </a:cubicBezTo>
                <a:cubicBezTo>
                  <a:pt x="8647" y="15589"/>
                  <a:pt x="8657" y="15558"/>
                  <a:pt x="8668" y="15526"/>
                </a:cubicBezTo>
              </a:path>
              <a:path w="5081" h="1589">
                <a:moveTo>
                  <a:pt x="9398" y="15684"/>
                </a:moveTo>
                <a:cubicBezTo>
                  <a:pt x="9398" y="15780"/>
                  <a:pt x="9398" y="15790"/>
                  <a:pt x="9398" y="15843"/>
                </a:cubicBezTo>
              </a:path>
              <a:path w="5081" h="1589">
                <a:moveTo>
                  <a:pt x="10001" y="15304"/>
                </a:moveTo>
                <a:cubicBezTo>
                  <a:pt x="10118" y="15323"/>
                  <a:pt x="10173" y="15341"/>
                  <a:pt x="10287" y="15304"/>
                </a:cubicBezTo>
              </a:path>
              <a:path w="5081" h="1589">
                <a:moveTo>
                  <a:pt x="10478" y="14986"/>
                </a:moveTo>
                <a:cubicBezTo>
                  <a:pt x="10547" y="15195"/>
                  <a:pt x="10608" y="15401"/>
                  <a:pt x="10636" y="15621"/>
                </a:cubicBezTo>
                <a:cubicBezTo>
                  <a:pt x="10636" y="15642"/>
                  <a:pt x="10636" y="15663"/>
                  <a:pt x="10636" y="15684"/>
                </a:cubicBezTo>
              </a:path>
              <a:path w="5081" h="1589">
                <a:moveTo>
                  <a:pt x="10954" y="15748"/>
                </a:moveTo>
                <a:cubicBezTo>
                  <a:pt x="10954" y="15894"/>
                  <a:pt x="10982" y="15893"/>
                  <a:pt x="10890" y="15970"/>
                </a:cubicBezTo>
              </a:path>
              <a:path w="5081" h="1589">
                <a:moveTo>
                  <a:pt x="5874" y="15589"/>
                </a:moveTo>
                <a:cubicBezTo>
                  <a:pt x="5995" y="15788"/>
                  <a:pt x="6108" y="15994"/>
                  <a:pt x="6350" y="16097"/>
                </a:cubicBezTo>
                <a:cubicBezTo>
                  <a:pt x="6627" y="16214"/>
                  <a:pt x="7098" y="16206"/>
                  <a:pt x="7366" y="16066"/>
                </a:cubicBezTo>
                <a:cubicBezTo>
                  <a:pt x="7652" y="15917"/>
                  <a:pt x="7763" y="15638"/>
                  <a:pt x="7747" y="15335"/>
                </a:cubicBezTo>
                <a:cubicBezTo>
                  <a:pt x="7738" y="15175"/>
                  <a:pt x="7621" y="14842"/>
                  <a:pt x="7493" y="14732"/>
                </a:cubicBezTo>
                <a:cubicBezTo>
                  <a:pt x="7335" y="14596"/>
                  <a:pt x="7115" y="14563"/>
                  <a:pt x="6922" y="14605"/>
                </a:cubicBezTo>
                <a:cubicBezTo>
                  <a:pt x="6615" y="14672"/>
                  <a:pt x="6201" y="14907"/>
                  <a:pt x="6064" y="15208"/>
                </a:cubicBezTo>
                <a:cubicBezTo>
                  <a:pt x="5914" y="15538"/>
                  <a:pt x="6038" y="15776"/>
                  <a:pt x="6160" y="16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4000" y="5394240"/>
            <a:ext cx="573120" cy="320760"/>
          </a:xfrm>
          <a:custGeom>
            <a:avLst/>
            <a:gdLst/>
            <a:ahLst/>
            <a:rect l="l" t="t" r="r" b="b"/>
            <a:pathLst>
              <a:path w="1589" h="890">
                <a:moveTo>
                  <a:pt x="11684" y="15145"/>
                </a:moveTo>
                <a:cubicBezTo>
                  <a:pt x="11733" y="15150"/>
                  <a:pt x="12035" y="15168"/>
                  <a:pt x="11906" y="15272"/>
                </a:cubicBezTo>
                <a:cubicBezTo>
                  <a:pt x="11800" y="15324"/>
                  <a:pt x="11779" y="15335"/>
                  <a:pt x="11716" y="15367"/>
                </a:cubicBezTo>
                <a:cubicBezTo>
                  <a:pt x="11804" y="15367"/>
                  <a:pt x="12082" y="15382"/>
                  <a:pt x="12002" y="15558"/>
                </a:cubicBezTo>
                <a:cubicBezTo>
                  <a:pt x="11960" y="15651"/>
                  <a:pt x="11608" y="15830"/>
                  <a:pt x="11716" y="15589"/>
                </a:cubicBezTo>
              </a:path>
              <a:path w="1589" h="890">
                <a:moveTo>
                  <a:pt x="12446" y="15684"/>
                </a:moveTo>
                <a:cubicBezTo>
                  <a:pt x="12446" y="15832"/>
                  <a:pt x="12400" y="15862"/>
                  <a:pt x="12510" y="15843"/>
                </a:cubicBezTo>
              </a:path>
              <a:path w="1589" h="890">
                <a:moveTo>
                  <a:pt x="12795" y="15050"/>
                </a:moveTo>
                <a:cubicBezTo>
                  <a:pt x="12933" y="15026"/>
                  <a:pt x="13070" y="14999"/>
                  <a:pt x="13208" y="14986"/>
                </a:cubicBezTo>
                <a:cubicBezTo>
                  <a:pt x="13233" y="15208"/>
                  <a:pt x="13164" y="15372"/>
                  <a:pt x="13144" y="15589"/>
                </a:cubicBezTo>
                <a:cubicBezTo>
                  <a:pt x="13144" y="15621"/>
                  <a:pt x="13144" y="15632"/>
                  <a:pt x="13144" y="15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8:54:27Z</dcterms:created>
  <dc:creator>deanne elizabeth mcgrath</dc:creator>
  <dc:description/>
  <dc:language>en-US</dc:language>
  <cp:lastModifiedBy>demcgra</cp:lastModifiedBy>
  <dcterms:modified xsi:type="dcterms:W3CDTF">2012-01-05T20:28:39Z</dcterms:modified>
  <cp:revision>7</cp:revision>
  <dc:subject/>
  <dc:title>Unit 5 Course 2 Review Bingo! </dc:title>
</cp:coreProperties>
</file>